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A37C-1990-4360-BDBD-5AFFC6DE80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1386-5B4E-4051-9902-3C1EDE6E62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89E5-C0FF-466D-AD99-87ACBB92CE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90B9-8744-46F9-815E-6286DD40EE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7DBB-09F9-486A-A22F-4C66AA7A46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9AA01-99B1-4930-AE25-6DE330429A6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 learn from dr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xample appears twice, one in each direction, so you only need to use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80324-3426-49C3-8799-F470CD07F1A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6924-516C-4B69-9C15-0B57BB96C0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32CC-2DE6-4F20-9FEA-4A3357282F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0F5D-3AB5-4494-8417-90CA8992D7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D6BE-A360-4067-AF80-AF5E5F34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8A2-2D36-480A-9618-02172515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A205-76E2-4717-9429-C9F3E404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179F-9D93-4AB9-89DE-72D97AAB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A790-866E-4C11-A287-26D7404D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E17B-1FB4-4EA9-A434-E5BB0197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883C-9041-4032-B168-8C373289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3FC0-EAEF-473B-87FD-60B8D87A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D13-8A78-487C-A193-0CF86256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7D0-CF73-4252-926A-72F0217B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07D-BF1B-4725-BC59-5558341E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4FF4-1AC7-4C28-8D4F-E29336DC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1F8F-684E-4A7C-95DC-0BA54C2CC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pixelplus.ru/images/outside/Algoritm_MatrixNet_Gulin.pdf" TargetMode="External"/><Relationship Id="rId2" Type="http://schemas.openxmlformats.org/officeDocument/2006/relationships/hyperlink" Target="http://www.pixelplus.ru/images/outside/Algoritm_MatrixNet_Gulin.pdf" TargetMode="External"/><Relationship Id="rId3" Type="http://schemas.openxmlformats.org/officeDocument/2006/relationships/hyperlink" Target="http://www.pixelplus.ru/images/outside/Algoritm_MatrixNet_Gulin.pdf" TargetMode="External"/><Relationship Id="rId4" Type="http://schemas.openxmlformats.org/officeDocument/2006/relationships/hyperlink" Target="http://www.pixelplus.ru/images/outside/Algoritm_MatrixNet_Gulin.pdf" TargetMode="External"/><Relationship Id="rId5" Type="http://schemas.openxmlformats.org/officeDocument/2006/relationships/hyperlink" Target="http://www.pixelplus.ru/images/outside/Algoritm_MatrixNet_Gulin.pdf" TargetMode="External"/><Relationship Id="rId6" Type="http://schemas.openxmlformats.org/officeDocument/2006/relationships/hyperlink" Target="http://www.pixelplus.ru/images/outside/Algoritm_MatrixNet_Gulin.pdf" TargetMode="External"/><Relationship Id="rId7" Type="http://schemas.openxmlformats.org/officeDocument/2006/relationships/hyperlink" Target="http://www.pixelplus.ru/images/outside/Algoritm_MatrixNet_Gulin.pdf" TargetMode="External"/><Relationship Id="rId8" Type="http://schemas.openxmlformats.org/officeDocument/2006/relationships/hyperlink" Target="http://www.pixelplus.ru/images/outside/Algoritm_MatrixNet_Gulin.pdf" TargetMode="External"/><Relationship Id="rId9" Type="http://schemas.openxmlformats.org/officeDocument/2006/relationships/hyperlink" Target="http://www.pixelplus.ru/images/outside/Algoritm_MatrixNet_Gulin.pdf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esearch.microsoft.com/en-us/projects/mslr/feature.asp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учение ранжированию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информационном поис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to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6110AF24-D3D2-474E-A3C3-43FB7AED8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214200" y="12600"/>
            <a:ext cx="8929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учение вес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ени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основе обучающи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4286160"/>
            <a:ext cx="885816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каждого обучающего примера мы име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левские значения соответствий по зон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е используется для вычисления в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c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(1 −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79600" indent="-336600">
              <a:lnSpc>
                <a:spcPct val="10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796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796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640640" y="-33480"/>
            <a:ext cx="92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1571760"/>
          <a:ext cx="7929720" cy="3000240"/>
        </p:xfrm>
        <a:graphic>
          <a:graphicData uri="http://schemas.openxmlformats.org/drawingml/2006/table">
            <a:tbl>
              <a:tblPr/>
              <a:tblGrid>
                <a:gridCol w="79297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a7041"/>
                    </a:solidFill>
                  </a:tcPr>
                </a:tc>
              </a:tr>
              <a:tr h="249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336600"/>
                          <a:tab algn="l" pos="784080"/>
                          <a:tab algn="l" pos="1233360"/>
                          <a:tab algn="l" pos="1682640"/>
                          <a:tab algn="l" pos="2131920"/>
                          <a:tab algn="l" pos="2581200"/>
                          <a:tab algn="l" pos="3030480"/>
                          <a:tab algn="l" pos="3479760"/>
                          <a:tab algn="l" pos="3929040"/>
                          <a:tab algn="l" pos="4378320"/>
                          <a:tab algn="l" pos="4827600"/>
                          <a:tab algn="l" pos="5276880"/>
                          <a:tab algn="l" pos="5726160"/>
                          <a:tab algn="l" pos="6175440"/>
                          <a:tab algn="l" pos="6624720"/>
                          <a:tab algn="l" pos="7074000"/>
                          <a:tab algn="l" pos="7523280"/>
                          <a:tab algn="l" pos="7972560"/>
                          <a:tab algn="l" pos="8421840"/>
                          <a:tab algn="l" pos="8871120"/>
                          <a:tab algn="l" pos="932004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f2ed"/>
                    </a:solidFill>
                  </a:tcPr>
                </a:tc>
              </a:tr>
            </a:tbl>
          </a:graphicData>
        </a:graphic>
      </p:graphicFrame>
      <p:sp>
        <p:nvSpPr>
          <p:cNvPr id="81" name="Slide Number Placeholder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688A-6023-416E-B6DD-80901453E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1511.png"/>
          <p:cNvPicPr/>
          <p:nvPr/>
        </p:nvPicPr>
        <p:blipFill>
          <a:blip r:embed="rId1"/>
          <a:stretch/>
        </p:blipFill>
        <p:spPr>
          <a:xfrm>
            <a:off x="1500120" y="2143080"/>
            <a:ext cx="5357880" cy="23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D21744CA-F2A8-4923-B74E-569924EEA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214200" y="12600"/>
            <a:ext cx="8461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учение ве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14200" y="1000080"/>
            <a:ext cx="86439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сравнить вычисленные ве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ore (score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человеческими оценками для этой же пары докумен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dj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qj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ки релевантности представляются как 1, если документ оценен как релевантный, и 0, если документ оценен как нерелеван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м функцию потерь для коэффициента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ϵ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az-Cyrl-AZ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) =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) − score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)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да общая оценка потерь на обучающем множестве буд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ϵ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az-Cyrl-AZ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i="1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нужно найти значение констан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ая минимизирует общие потери (ошибки) на обучающем множе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640640" y="-33480"/>
            <a:ext cx="92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CAC8-3D01-477E-9737-F407381C3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"/>
              <p:cNvSpPr txBox="1"/>
              <p:nvPr/>
            </p:nvSpPr>
            <p:spPr>
              <a:xfrm>
                <a:off x="2771640" y="4508640"/>
                <a:ext cx="5907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898C92E-DA65-4338-AFAD-E78DCD746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214200" y="12600"/>
            <a:ext cx="8929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: найти g, который минимизирует общую ошиб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4365720"/>
            <a:ext cx="8748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336699"/>
              </a:buClr>
              <a:buSzPct val="70000"/>
              <a:buFont typeface="Calibri"/>
              <a:buChar char="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дем знач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евантный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релевантный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70000"/>
              <a:buFont typeface="Calibri"/>
              <a:buChar char="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числяем вес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c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(1 −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70000"/>
              <a:buFont typeface="Calibri"/>
              <a:buChar char="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таем ошибку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j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ϵ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az-Cyrl-AZ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i="1" lang="de-DE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ϵ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az-Cyrl-AZ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) = (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) − score (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))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70000"/>
              <a:buFont typeface="Calibri"/>
              <a:buChar char="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им значени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е минимизирует глобальную ошиб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36800" indent="-336600">
              <a:lnSpc>
                <a:spcPct val="10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368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368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640640" y="-33480"/>
            <a:ext cx="92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AF5B-D957-4789-A7AD-A537ABA7C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2"/>
              <p:cNvSpPr txBox="1"/>
              <p:nvPr/>
            </p:nvSpPr>
            <p:spPr>
              <a:xfrm>
                <a:off x="2627280" y="5445000"/>
                <a:ext cx="4158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95" name=""/>
          <p:cNvGraphicFramePr/>
          <p:nvPr/>
        </p:nvGraphicFramePr>
        <p:xfrm>
          <a:off x="500040" y="1500120"/>
          <a:ext cx="7858080" cy="2786040"/>
        </p:xfrm>
        <a:graphic>
          <a:graphicData uri="http://schemas.openxmlformats.org/drawingml/2006/table">
            <a:tbl>
              <a:tblPr/>
              <a:tblGrid>
                <a:gridCol w="78580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ining examp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3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f2ed"/>
                    </a:solidFill>
                  </a:tcPr>
                </a:tc>
              </a:tr>
            </a:tbl>
          </a:graphicData>
        </a:graphic>
      </p:graphicFrame>
      <p:pic>
        <p:nvPicPr>
          <p:cNvPr id="96" name="Picture 10" descr="1511.png"/>
          <p:cNvPicPr/>
          <p:nvPr/>
        </p:nvPicPr>
        <p:blipFill>
          <a:blip r:embed="rId1"/>
          <a:stretch/>
        </p:blipFill>
        <p:spPr>
          <a:xfrm>
            <a:off x="1500120" y="2000160"/>
            <a:ext cx="5357880" cy="23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C28BF893-CACC-49A5-AFA0-45F4779DF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214200" y="12600"/>
            <a:ext cx="847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шение к зада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14200" y="1428840"/>
            <a:ext cx="86439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336699"/>
              </a:buClr>
              <a:buSzPct val="70000"/>
              <a:buFont typeface="Calibri"/>
              <a:buChar char="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Вычисляем вес</a:t>
            </a:r>
            <a:r>
              <a:rPr b="0" lang="it-IT" sz="1800" spc="-1" strike="noStrike">
                <a:solidFill>
                  <a:srgbClr val="0070c0"/>
                </a:solidFill>
                <a:latin typeface="Arial"/>
              </a:rPr>
              <a:t> score(</a:t>
            </a:r>
            <a:r>
              <a:rPr b="0" i="1" lang="it-IT" sz="1800" spc="-1" strike="noStrike">
                <a:solidFill>
                  <a:srgbClr val="0070c0"/>
                </a:solidFill>
                <a:latin typeface="Arial"/>
              </a:rPr>
              <a:t>d</a:t>
            </a:r>
            <a:r>
              <a:rPr b="0" i="1" lang="it-IT" sz="1800" spc="-1" strike="noStrike" baseline="-25000">
                <a:solidFill>
                  <a:srgbClr val="0070c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70c0"/>
                </a:solidFill>
                <a:latin typeface="Arial"/>
              </a:rPr>
              <a:t> , </a:t>
            </a:r>
            <a:r>
              <a:rPr b="0" i="1" lang="it-IT" sz="1800" spc="-1" strike="noStrike">
                <a:solidFill>
                  <a:srgbClr val="0070c0"/>
                </a:solidFill>
                <a:latin typeface="Arial"/>
              </a:rPr>
              <a:t>q</a:t>
            </a:r>
            <a:r>
              <a:rPr b="0" i="1" lang="it-IT" sz="1800" spc="-1" strike="noStrike" baseline="-25000">
                <a:solidFill>
                  <a:srgbClr val="0070c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70c0"/>
                </a:solidFill>
                <a:latin typeface="Arial"/>
              </a:rPr>
              <a:t> )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70000"/>
              <a:buFont typeface="Calibri"/>
              <a:buChar char="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cor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 + (1 −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1 −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cor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 + (1 −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 = 0 + 1 −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1 −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cor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 + (1 −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 = 0 + 1 −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1 −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cor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 + (1 −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 = 0 + 0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cor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 + (1 −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1 −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cor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 + (1 −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 = 0 + 1 −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1 −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cor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 + (1 −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0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70000"/>
              <a:buFont typeface="Calibri"/>
              <a:buChar char="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70000"/>
              <a:buFont typeface="Calibri"/>
              <a:buChar char="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таем  общую ошиб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1800" spc="-1" strike="noStrike">
                <a:solidFill>
                  <a:srgbClr val="000000"/>
                </a:solidFill>
                <a:latin typeface="Calibri"/>
              </a:rPr>
              <a:t>ϵ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1− 1)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(0− 1+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(1− 1+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(0 −0)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(1 −1)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1 − 1 +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(0 −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70000"/>
              <a:buFont typeface="Calibri"/>
              <a:buChar char="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Выбираем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g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, которое минимизирует общую ошиб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7640640" y="-33480"/>
            <a:ext cx="92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8C17-B2CA-4AF8-BFBD-E803A226D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"/>
              <p:cNvSpPr txBox="1"/>
              <p:nvPr/>
            </p:nvSpPr>
            <p:spPr>
              <a:xfrm>
                <a:off x="3708360" y="3860640"/>
                <a:ext cx="4557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rcRect l="0" t="0" r="0" b="14684"/>
          <a:stretch/>
        </p:blipFill>
        <p:spPr>
          <a:xfrm>
            <a:off x="468360" y="3860640"/>
            <a:ext cx="8229600" cy="274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79280" y="1000080"/>
            <a:ext cx="84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задачу учета  косинусной меры близости и размера минимального ок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релевантность бинарная: 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левант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елеван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есть два приз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инусная близость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ine score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 минимального ок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мер-2 продол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опя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ейный классифик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e (d,q)=score(cos, w)=a*cos+b*w+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использовать линейную регрессию, то функция потерь – обычно квдратичная разница значен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правильного зна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нейный классификатор для ранж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0" y="1023840"/>
            <a:ext cx="896472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1471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VM классификатор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информационного поис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37085"/>
                </a:solidFill>
                <a:latin typeface="Arial"/>
                <a:ea typeface="ＭＳ Ｐゴシック"/>
              </a:rPr>
              <a:t>[Nallapati 200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341360"/>
            <a:ext cx="8578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уст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,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Обучение SV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(r|d,q) ≤ −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документ нерелеван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(r|d,q) ≥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документ релеван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ри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Не слова с весами, а суммированные характеристики, например, суммированный tf всех слов запроса в данном докумен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Несбалансированные д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быть построен тривиальный классификатор, считающий все документы – нерелевант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а Undersampling – случайный отбор нерелевантных документов в обучающую выбор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VM для информационного поиска: экспери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набора данных TR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ение с открытой системой Lemur, основанной на языковой 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признаков: варианты tf, idf, tf.i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8238960" cy="2095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468360" y="5950080"/>
            <a:ext cx="74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ы SVM часто хуже, чем языковая модель. Если лучше, то нена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VM для информационного пои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легко добавлять много разных призна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иск по веб колле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T10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Задача поиска домашней стра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2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V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 признаками частот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V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 дополнительными призна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дли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ризнаками входящих ссы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8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шинное обучение для ранжирования поисковой вы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3516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ы для упорядочения поисковой выдач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ые вид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f.idf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ость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rank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машинного обучения:  Наивный Байес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M, k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птимальное» комбинирование имеющихся фа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бы не использовать машинное обучение для улучшения ранж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g to 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учение ранжирова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ить задачу информационного поиска как задачу классификации не очень правильно – важно ранжирование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ставить как задачу регр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даче регрессии нужно предсказывать реальные значение какого-то парам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а информационного поиска – это задача порядковой регрессии (Ordinal regres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а правильного упорядочивания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сновные подходы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 обучению ранжирова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intw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найти границы разграничения оценок релева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air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правильно расположить пары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евантный документ должен встретиться ран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List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авильное» расположение совокупности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Обучени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int-w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Цель – найти порог, который отделяет каждый ра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228600" y="2306520"/>
            <a:ext cx="87631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блем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int-wise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х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столько важна конкретная разделяющая плоскость между уровнями релевантность, сколько правильная упорядоченность доку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ir-wis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ход: пары документов для за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од: нужно выдать расположение между этими документами: какой более релеван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реобразует задачу упорядочивания в задачу классиф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построить ранжирующую фун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ψ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&gt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ψ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лагаем, чт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ейная фун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ψ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anking SVM </a:t>
            </a:r>
            <a:br>
              <a:rPr sz="3600"/>
            </a:br>
            <a:r>
              <a:rPr b="0" lang="en-US" sz="2600" spc="-1" strike="noStrike">
                <a:solidFill>
                  <a:srgbClr val="437085"/>
                </a:solidFill>
                <a:latin typeface="Arial"/>
              </a:rPr>
              <a:t>[Herbrich et al. 1999, 2000; Joachims et al. 2002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нжирующая модел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  <a:ea typeface="SimSu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927080" y="2362320"/>
            <a:ext cx="5257800" cy="448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Object 2"/>
              <p:cNvSpPr txBox="1"/>
              <p:nvPr/>
            </p:nvSpPr>
            <p:spPr>
              <a:xfrm>
                <a:off x="5965920" y="2627280"/>
                <a:ext cx="1100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Line 6"/>
          <p:cNvSpPr/>
          <p:nvPr/>
        </p:nvSpPr>
        <p:spPr>
          <a:xfrm>
            <a:off x="3733920" y="3048120"/>
            <a:ext cx="2057400" cy="1752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2743200" y="4038480"/>
            <a:ext cx="2057400" cy="1752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762840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Calibri"/>
                <a:ea typeface="ＭＳ Ｐゴシック"/>
              </a:rPr>
              <a:t>Sec. 15.4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nking SVM </a:t>
            </a:r>
            <a:br>
              <a:rPr sz="4400"/>
            </a:br>
            <a:r>
              <a:rPr b="0" lang="en-US" sz="2600" spc="-1" strike="noStrike">
                <a:solidFill>
                  <a:srgbClr val="437085"/>
                </a:solidFill>
                <a:latin typeface="Arial"/>
              </a:rPr>
              <a:t>[Herbrich et al. 1999, 2000; Joachims et al. 2002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68280"/>
            <a:ext cx="83628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бинируя два соотноше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− 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да можно создать новое пространство примеров из таких па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Φ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− 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+1, 0, −1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,=,&l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е обучающих данн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{Φ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аем обычный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762840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Calibri"/>
                <a:ea typeface="ＭＳ Ｐゴシック"/>
              </a:rPr>
              <a:t>Sec. 15.4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запроса в исходном простран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04920" y="1596960"/>
            <a:ext cx="754380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запроса в пространстве п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304920" y="1527120"/>
            <a:ext cx="86104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 подходо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-wis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-wis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различают позиции документов, а именно большую важность нахождения релевантных документах на первых позициях в выда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боры релевантных документов для запросов могут быть очень различны: запросы с большим количеством релевантных документов могут получить приор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ое количество признаков в современных поисковых систем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обенно в интернет-поис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отность слов в тексте ссы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ны ли слова запроса цветом ф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картинок на стран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исходящих ссылок на стран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Rank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колько давно существует стра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ew York Tim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2008-06-03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тируе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it Singha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который сказал что Гугл использует 200 призна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mbdaR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правильно стоящие пары не одинаково важ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а важность зависит от их вклада в мер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787716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ход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w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Прямая оптимизация мер качества поиска тип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CG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яя точ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а: эти меры не являются непрерывными и дифференцируем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Минимизация потерь на основе перестанов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Оптимизация мер качества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одоление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мягчить» (приблизить) меру так, чтобы она была гладкой и дифференцируем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oftRank – soft ND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тимизировать гладкую и дифференцируемую верхнюю границу мер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VM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Пере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267920"/>
            <a:ext cx="8218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представлять упорядочен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нжированный список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пределение вероятностей перестанов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– это оценка релевантности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900000" y="4221000"/>
            <a:ext cx="669636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ь Luce-Plackett: Определение вероятности перестанов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оятность перестановк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53280" cy="1212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900000" y="4221000"/>
            <a:ext cx="66963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дель Luce-Plackett: При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115400" cy="2514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1042920" y="3860640"/>
            <a:ext cx="6697800" cy="17290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5"/>
          <p:cNvSpPr/>
          <p:nvPr/>
        </p:nvSpPr>
        <p:spPr>
          <a:xfrm>
            <a:off x="850320" y="6093000"/>
            <a:ext cx="70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пределение вероятностей непрерывно и дифференцируе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тояние между ранжированным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с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6480360" cy="53244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"/>
          <p:cNvSpPr/>
          <p:nvPr/>
        </p:nvSpPr>
        <p:spPr>
          <a:xfrm>
            <a:off x="7236000" y="1268280"/>
            <a:ext cx="190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L – дивер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я для изм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я разли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спис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s (f,g)=0.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s (g,h)=2.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-дивергенция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авнение распреде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D_{\mathrm{KL}}(P\|Q) = \sum_i P(i) \, \log\frac{P(i)}{Q(i)}."/>
          <p:cNvPicPr/>
          <p:nvPr/>
        </p:nvPicPr>
        <p:blipFill>
          <a:blip r:embed="rId1"/>
          <a:stretch/>
        </p:blipFill>
        <p:spPr>
          <a:xfrm>
            <a:off x="2411280" y="2708280"/>
            <a:ext cx="3961080" cy="7938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"/>
          <p:cNvSpPr/>
          <p:nvPr/>
        </p:nvSpPr>
        <p:spPr>
          <a:xfrm>
            <a:off x="755640" y="191628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ретное рас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826920" y="4292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прерывное рас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D_{\mathrm{KL}}(P\|Q) = \int_{-\infty}^\infty p(x) \, \log\frac{p(x)}{q(x)} \, {\rm d}x, \!"/>
          <p:cNvPicPr/>
          <p:nvPr/>
        </p:nvPicPr>
        <p:blipFill>
          <a:blip r:embed="rId2"/>
          <a:stretch/>
        </p:blipFill>
        <p:spPr>
          <a:xfrm>
            <a:off x="2340000" y="5157720"/>
            <a:ext cx="374472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лекция Letor для тестирования обучения ранжировани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Miscrosoft Research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ая коллекция с набором посчитанных призн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HSUMED – подколлекция Medline для информ. По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50 тысяч стат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6 запр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400 пар запрос-док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левантность: релевантно, частично релевантно, нерелеван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REC GOV  колл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млн. веб страниц, 125 запр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57e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7e69"/>
                </a:solidFill>
                <a:latin typeface="Arial"/>
              </a:rPr>
              <a:t>http://research.microsoft.com/users/LE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xNet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 Яндек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pixelplus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mage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utside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lgoritm_MatrixNet_Gulin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romip.ru/russir2009/slides/yandex/lecture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163A9F9F-42CD-47CB-B6F1-940E329A0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214200" y="12600"/>
            <a:ext cx="8643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4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ка о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Researc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юн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14200" y="1428840"/>
            <a:ext cx="86439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esearch.microsoft.com/en-us/projects/mslr/feature.asp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ody, anchor, title, url, whol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query term number, query term ratio, stream leng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f, sum of term frequency, min of term frequency, max of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, mean of term frequency, variance of term frequenc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of stream length normalized term frequency, min of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normalized term frequency, max of stream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ed term frequency, mean of stream length normalize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, variance of stream length normalized term frequenc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of tf*idf, min of tf*idf, max of tf*idf, mean of tf*idf,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f*idf, boolean model, vector space model, BM25, LMIR.AB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MIR.DIR, LMIR.JM, number of slash in url, length of url, in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, outlink number, PageRank, SiteRank, QualitySco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Score2, query-url click count, url click count, url dwell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7640640" y="-33480"/>
            <a:ext cx="92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B0C6-9D5E-4158-A7BC-E6479B690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лгоритм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rix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91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хо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перестановок и модели Luce-Plack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евая функция релевантност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похож 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ien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boo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ор слабых классификаторов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learners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форме деревьев решений с заданной глубин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k=6, 1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ivious trees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аждом уровне идет проверка по одному и тому же атрибу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тые комбинации классифик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064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бинации классификаторов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дного т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ся, что базовы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днотип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торы могут быть не очень качественные (weak learners),  но их комбинация может дать 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agging: создает пересекающиеся случайные подмножества обучающей выборки и обучает соотв. классифика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стинг (boosting): создает классификаторы итеративно, увеличивая веса неправильно классифицированных прим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а метода часто строятся на основе деревьев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-19080" y="23760"/>
            <a:ext cx="91821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-22320" y="125280"/>
            <a:ext cx="919008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MatrixNet: слабые классификаторы: oblivious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8421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andex Matrix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78644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тимизируется метри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found (c 2007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found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оятность найти релевант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reak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оятность уйти из поиска на каждой поз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левантность документа  на каждой поз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684360" y="4797360"/>
                <a:ext cx="72007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ound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Break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42472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ндекс: новые призна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24000" y="1028880"/>
            <a:ext cx="8675640" cy="58291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4"/>
          <p:cNvSpPr/>
          <p:nvPr/>
        </p:nvSpPr>
        <p:spPr>
          <a:xfrm>
            <a:off x="4942440" y="602136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чество пои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просы из хво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052280"/>
            <a:ext cx="8578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росы из хво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уник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окупности составляют высокую долю всех запр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о поиска значительно ху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кликов пользователей, нет разметки оценщ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ольники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рогой яндекс посоветуй пожалуйста новые интересные игры про фей для план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по эпизоду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фильм про человека который выращивал картошку на другой плане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«Марсианин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9600" y="0"/>
            <a:ext cx="91044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йронные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052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ление документа в виде вектора низкой размерности (3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одство векторов в векторном пространстве на основе нейронной сети (DSSM) 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из признаков в Matrix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https://habrastorage.org/files/404/470/082/4044700822614d34976b92f9caa6a38c.png"/>
          <p:cNvPicPr/>
          <p:nvPr/>
        </p:nvPicPr>
        <p:blipFill>
          <a:blip r:embed="rId1"/>
          <a:stretch/>
        </p:blipFill>
        <p:spPr>
          <a:xfrm>
            <a:off x="468360" y="1413000"/>
            <a:ext cx="8424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ременное состояние информационного поис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х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to 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основных под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-wise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классификации по уровням релева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-wi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задача классификации на три класса: какой документ должен быть впе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-wise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ение выдач с помощ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ход Янд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-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-1. Обучение весов, соответствующих зонам доку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сть в коллекции есть три зоны: автор заголовок, 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звешивание зон: три в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все зоны одинаково важны, например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1 (автор)=0.2, g2 (заголовок)=0.3, g3(тело)=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мин в заголовке и теле: - вес 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ение весов, соотв. зонам документа. Общая постановка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ы: запрос q и документ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а: посчитать вес w сходства (из сегмента [0,1]) для пары (q, d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документ име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веса зо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∈ [0, 1]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ч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≤ i ≤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лева величина соответствия (несоответствия) между запросом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d,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поставить задачу оптим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64E87D0-7230-41A7-81F5-52D80E021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214200" y="12600"/>
            <a:ext cx="847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стой случай: две з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14200" y="1143000"/>
            <a:ext cx="86439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оловок текс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о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формула вычисления веса может быть записана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cor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+ (1 −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7640640" y="-33480"/>
            <a:ext cx="92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FED2-E515-4C31-B97B-BFFED9CC8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BB39D84-D3E7-4B73-AFB2-79EC838F9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214200" y="12600"/>
            <a:ext cx="8929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учение вес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ени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основе обучающи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0" y="4581360"/>
            <a:ext cx="87487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ающие приме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йки </a:t>
            </a:r>
            <a:r>
              <a:rPr b="0" lang="az-Cyrl-AZ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анного обучающего документ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данного обучающего запрос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должен проставить оцен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евантный или нерелевантны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79600" indent="-336600">
              <a:lnSpc>
                <a:spcPct val="10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796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7960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40640" y="-33480"/>
            <a:ext cx="92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00040" y="1571760"/>
          <a:ext cx="7929720" cy="3000240"/>
        </p:xfrm>
        <a:graphic>
          <a:graphicData uri="http://schemas.openxmlformats.org/drawingml/2006/table">
            <a:tbl>
              <a:tblPr/>
              <a:tblGrid>
                <a:gridCol w="79297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a7041"/>
                    </a:solidFill>
                  </a:tcPr>
                </a:tc>
              </a:tr>
              <a:tr h="249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336600"/>
                          <a:tab algn="l" pos="784080"/>
                          <a:tab algn="l" pos="1233360"/>
                          <a:tab algn="l" pos="1682640"/>
                          <a:tab algn="l" pos="2131920"/>
                          <a:tab algn="l" pos="2581200"/>
                          <a:tab algn="l" pos="3030480"/>
                          <a:tab algn="l" pos="3479760"/>
                          <a:tab algn="l" pos="3929040"/>
                          <a:tab algn="l" pos="4378320"/>
                          <a:tab algn="l" pos="4827600"/>
                          <a:tab algn="l" pos="5276880"/>
                          <a:tab algn="l" pos="5726160"/>
                          <a:tab algn="l" pos="6175440"/>
                          <a:tab algn="l" pos="6624720"/>
                          <a:tab algn="l" pos="7074000"/>
                          <a:tab algn="l" pos="7523280"/>
                          <a:tab algn="l" pos="7972560"/>
                          <a:tab algn="l" pos="8421840"/>
                          <a:tab algn="l" pos="8871120"/>
                          <a:tab algn="l" pos="932004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f2ed"/>
                    </a:solidFill>
                  </a:tcPr>
                </a:tc>
              </a:tr>
            </a:tbl>
          </a:graphicData>
        </a:graphic>
      </p:graphicFrame>
      <p:sp>
        <p:nvSpPr>
          <p:cNvPr id="74" name="Slide Number Placeholder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34D9-0824-499E-8358-F930DB2E4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1511.png"/>
          <p:cNvPicPr/>
          <p:nvPr/>
        </p:nvPicPr>
        <p:blipFill>
          <a:blip r:embed="rId1"/>
          <a:stretch/>
        </p:blipFill>
        <p:spPr>
          <a:xfrm>
            <a:off x="1500120" y="2143080"/>
            <a:ext cx="5357880" cy="2325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5:47:13Z</dcterms:created>
  <dc:creator>boris</dc:creator>
  <dc:description/>
  <dc:language>en-US</dc:language>
  <cp:lastModifiedBy>boris</cp:lastModifiedBy>
  <dcterms:modified xsi:type="dcterms:W3CDTF">2018-11-29T06:58:59Z</dcterms:modified>
  <cp:revision>82</cp:revision>
  <dc:subject/>
  <dc:title>Обучение ранжированию в информационном поиске</dc:title>
</cp:coreProperties>
</file>