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DBAE-2ECB-4876-89D4-71E6D6E79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0E4F-0D4A-4FA0-8CD4-DB07CE88C6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2DCD-3C74-48CA-868C-F8AF223DAB47}" type="slidenum">
              <a:rPr b="0" lang="zh-CN" sz="12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9E86-34E1-417E-BA43-B4D8AF68D6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4EE2-697A-4DEB-9A22-BBFC09ED795F}" type="slidenum">
              <a:rPr b="0" lang="zh-CN" sz="12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F44F-AD38-42B9-9FE3-1A5947F780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CF6D-C435-422E-8D0D-09EDBC53AC73}" type="slidenum">
              <a:rPr b="0" lang="zh-CN" sz="12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5BCB-BFE2-4FF5-9B02-2F51089CD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314E-E508-40B3-88B2-70DF3AE86373}" type="slidenum">
              <a:rPr b="0" lang="zh-CN" sz="12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00B2-4337-4161-A67E-A85E8C286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 cache: allows generating snippets (next chap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0717-513F-46F2-AA7D-F502FC74407D}" type="slidenum">
              <a:rPr b="0" lang="zh-CN" sz="12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207B-EDB3-4173-984A-2EDF850E9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3D51-3E0B-4184-93E5-AE64AB9EA663}" type="slidenum">
              <a:rPr b="0" lang="zh-CN" sz="12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0F18-21B1-40EA-9B43-D4931462D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F682-4087-4C9A-B7EB-EA8D74FDFC1D}" type="slidenum">
              <a:rPr b="0" lang="zh-CN" sz="12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7025-F57E-4D71-BF75-AE11BAA2B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B7F2-38EF-4E29-A58A-AC601139EE31}" type="slidenum">
              <a:rPr b="0" lang="zh-CN" sz="12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941-A066-49F6-AAA0-EC8C605E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0CC-3F8D-4B45-9207-9856826F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62E-BF8C-461A-A634-3161D570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9F8-21CD-497F-9112-5A2B3F22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0F6-BE4A-4767-BD5D-47673911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B1E-85D9-4864-A148-45467E3A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D34-8A11-4817-8395-F1739158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BD7-EF8C-428A-A69D-B8407A51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5C3-F59F-40BB-936C-AACAB69F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10D-E70B-41FD-A3F0-ABE795A0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AED-0EA4-4413-824D-A8F0C9CA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68F-D15A-435F-A1A5-EFE4D6B0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2DB8-9D3D-4CD6-A6DA-2E086E1C11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Java" TargetMode="External"/><Relationship Id="rId2" Type="http://schemas.openxmlformats.org/officeDocument/2006/relationships/hyperlink" Target="https://ru.wikipedia.org/wiki/Wildcard" TargetMode="Externa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Carrot2" TargetMode="External"/><Relationship Id="rId2" Type="http://schemas.openxmlformats.org/officeDocument/2006/relationships/hyperlink" Target="https://en.wikipedia.org/wiki/Apache_ZooKeeper" TargetMode="Externa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Index_%28search_engine%29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а в реальной поисковой сис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 в информационный поиск, глава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делирование авторите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воим каждому документу не зависимый от запроса вес каче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0,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пример, это количество цитат, нормализованное в шкале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[0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можно счит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-sc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t-score=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g(d)+ (1-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* cosine (q,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выбираем лучш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ов по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-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ие К документов п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et-score: ид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Упорядочим все документы, соответствующие слову по мере снижения g(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повые документы в первых позиц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Храним список лучших документов для слова, по net-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щем лучшие K-результатов только из этого сп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ие К документов п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et-score: ид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Для каждого документа храним два списка документов high и 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ходе по документам проходим сначала по high спис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олучили K документов, то 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аче начинаем обрабатывать документы из low спи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ходе по документам проходим сначала по high спис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ются как бы списки разных уров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сих пор: документ – последовательность тер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ически документ имеет много частей, имеющих свой смыс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публ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 мета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индексы по зонам метаданных – параметрический инд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индексов для з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Content Placeholder 3" descr="zoneindex.gif"/>
          <p:cNvPicPr/>
          <p:nvPr/>
        </p:nvPicPr>
        <p:blipFill>
          <a:blip r:embed="rId1"/>
          <a:stretch/>
        </p:blipFill>
        <p:spPr>
          <a:xfrm>
            <a:off x="152280" y="1828800"/>
            <a:ext cx="8686800" cy="2608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zoneindex2.gif"/>
          <p:cNvPicPr/>
          <p:nvPr/>
        </p:nvPicPr>
        <p:blipFill>
          <a:blip r:embed="rId2"/>
          <a:stretch/>
        </p:blipFill>
        <p:spPr>
          <a:xfrm>
            <a:off x="76320" y="5973840"/>
            <a:ext cx="8189640" cy="5792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7"/>
          <p:cNvSpPr/>
          <p:nvPr/>
        </p:nvSpPr>
        <p:spPr>
          <a:xfrm>
            <a:off x="518400" y="4952880"/>
            <a:ext cx="79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Lucida Sans"/>
              </a:rPr>
              <a:t>Учтем зоны в словаре и полях инд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Up Arrow 8"/>
          <p:cNvSpPr/>
          <p:nvPr/>
        </p:nvSpPr>
        <p:spPr>
          <a:xfrm>
            <a:off x="4495680" y="4572000"/>
            <a:ext cx="484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wn Arrow 9"/>
          <p:cNvSpPr/>
          <p:nvPr/>
        </p:nvSpPr>
        <p:spPr>
          <a:xfrm>
            <a:off x="5724360" y="551664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уровневые спи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биение индексов, соответствующих документам по уров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вертированный список разбивается на уровни снижающейся ва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оиске используются индексы большей ва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 многоуровневого сп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3" descr="tiered.gif"/>
          <p:cNvPicPr/>
          <p:nvPr/>
        </p:nvPicPr>
        <p:blipFill>
          <a:blip r:embed="rId1"/>
          <a:stretch/>
        </p:blipFill>
        <p:spPr>
          <a:xfrm>
            <a:off x="1763640" y="1125360"/>
            <a:ext cx="590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ботка словосочет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сих п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пословные индек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екторные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разовые за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21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ожим мы хотим найти ответ на запрос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(в кавычк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азовые за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запросов пользователей внутри себя содержат фразовые за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достаточно хранить только матриц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екс): терм-доку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 предлож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I went to university of Stanford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одхо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ходы к обработке фраз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играммный инд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заем тексты на пары слов, строим на парах индекс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I went, went to, to university, university of, of stanfor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ные запросы также нарезаем на пары слов: stanford university palo alto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anford university AND university palo AND palo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Но могу встретиться документы, которые содержат пары слов, но не содержат фр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рхбольшой инде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со случайным вхождением слов внутрь би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является стандартным реш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блема эффективности по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най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ов, наиболее похожих на запро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читать максимальные косинусы векторов между запросом и докум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кое место: вычисление косин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итать приблизите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, не относящийся к лучшим К документам, может «пробраться» в вы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шение 2. Позицион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ним позиции терма в докуме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be: 99342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док.: 7, 18, 33, 72, 86, 231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док.: 3, 149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док.: 17, 191, 291, 430, 4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док.: 363, 3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м документе может содержаться фраза «to be or not to be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опоставления используется «merging алгоритм», на уровне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ботка фразового за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лекаем инвертированный индекс для сло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to, be, or,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1,17,74,222,551;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8,16,190,429,43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13,23,19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17,19;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17,191,291,430,43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ка запрос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операторами близ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сква /3 универс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позиционный индекс может использоваться для такой обработки, биграммный не мо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иционный индекс сейчас стандартно используется для обработки запросов на близость и фразовых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 комбинирование биграммных и позиционных индек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оритм для пересечения близости по словам для двух индексов p1 и 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064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лизость слов запр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просы на естественном язы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ор терм, набиваемых в поисковую ст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ользователь предпочитает, чтобы термины запроса встречались недалеко друг от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минимальное окно, содержащее все слова запроса, наприм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запроса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увольнение директора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ималь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но в документе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Директора ждало неожиданное увольнение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4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учесть в скоринговой функ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борщики запросов (колдунщи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119664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овый  запрос пользователя может исполниться посредством нескольких запросов к системе, например, запрос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вышение оплаты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яем запрос как фразовый за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K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ов содержат  фраз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оплаты тр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исполняются два фразовых запрос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ышение опла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лата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е еще меньше К доку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запрос на векторное пространст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ышение оплаты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операции исполняет разборщик за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инговая функция должна учитывать разные факторы, включая минимальное окно, в котором содержится за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егирование в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915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разн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ое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ость слов за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тематики запроса и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е запрос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тная фун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шинное обучение: обучение ранжированию 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ra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ндекс: Матрикс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 оптимизации наилучшего расположения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Content Placeholder 4" descr="system.gif"/>
          <p:cNvPicPr/>
          <p:nvPr/>
        </p:nvPicPr>
        <p:blipFill>
          <a:blip r:embed="rId1"/>
          <a:stretch/>
        </p:blipFill>
        <p:spPr>
          <a:xfrm>
            <a:off x="0" y="1584360"/>
            <a:ext cx="9144000" cy="437832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7"/>
          <p:cNvGrpSpPr/>
          <p:nvPr/>
        </p:nvGrpSpPr>
        <p:grpSpPr>
          <a:xfrm>
            <a:off x="6553080" y="4876920"/>
            <a:ext cx="2590920" cy="1066680"/>
            <a:chOff x="6553080" y="4876920"/>
            <a:chExt cx="2590920" cy="1066680"/>
          </a:xfrm>
        </p:grpSpPr>
        <p:sp>
          <p:nvSpPr>
            <p:cNvPr id="175" name="Rectangle 5"/>
            <p:cNvSpPr/>
            <p:nvPr/>
          </p:nvSpPr>
          <p:spPr>
            <a:xfrm>
              <a:off x="8229600" y="4876920"/>
              <a:ext cx="914400" cy="10666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6553080" y="5562720"/>
              <a:ext cx="1676520" cy="30456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8"/>
          <p:cNvSpPr/>
          <p:nvPr/>
        </p:nvSpPr>
        <p:spPr>
          <a:xfrm>
            <a:off x="4267080" y="1981080"/>
            <a:ext cx="2362320" cy="228600"/>
          </a:xfrm>
          <a:prstGeom prst="rect">
            <a:avLst/>
          </a:prstGeom>
          <a:solidFill>
            <a:srgbClr val="d1d1f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е подходы к комбинированию призна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МИ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.ru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ОМИП-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ая функция релева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тер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ая встречаемость тер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ы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лное вхождение термов запроса в доку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я обработка длинных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инусная мера сама по себе прибл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ователь имеет некоторую задачу и формулирует за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инус сравнивает запрос и документ – это приближение потребности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тимо: неточное вычисл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похожих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l.ru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РОМИП-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569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79280" y="0"/>
            <a:ext cx="8713800" cy="5516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158760" y="5537160"/>
            <a:ext cx="85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характеристики пассаж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лнота, длина, порядок слов,  зона документа, близость к нач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83560" cy="61689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324000" y="0"/>
            <a:ext cx="25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.ru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ИП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 А. Сафронова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МИП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Янд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848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64800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3789360" y="587700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andex minimum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92012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777080" cy="5759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.We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ОМИП-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ОМИП-201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2803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ые подходы к обработке ф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зовый инд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апросы в кавычк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иционный инд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апросы в кавычк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ос с ограничением близости (proxim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т в векторной модели окна распо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очная векторная модель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ий подх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А кандидатов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K &lt; |A| &lt;&lt; 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А не обязательно содержит все К лучших документов, но содержит много документов из 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Выдать К лучших документов из 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ассмотреть только слов с высокими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id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р. Алгоритм Merge в первых лекция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ассмотреть только документы с большим количеством терминов запрос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нжирующие алгоритмы Яндек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горитм «Магадан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из - 16 мая 2008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факторов, влияющих на ранжирование сайта, увеличено вд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классификаторы для содержимого сайта и ссы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ен геоклассифика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а скорость поиска по запросам, по которым Яндекс находит наибольшее число доку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о «понимаемое» системой расстояние между словами поискового запро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ось распознавание аббревиатур, обработка транслитерации (в том числе и в URL документ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ен перевод простых популярных слов: поисковик понимает, что computer=компьютер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ась обработка запросов с дореволюционной орфографией (содержащих буквы ѣ и т.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ен поиск по большим многословным запрос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горитм Арзам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измен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о 19 географических регионов, выдача в которых могла отличаться по одним и тем же запрос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ледствие: сайту присваивается региональная принадлежность (или её отсутствие); определяется она по IP-адресу сервера, контенту сайта и по его описанию в Яндекс.Катало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ение фильтров, ухудшающих ранжирование страниц с агрессивными форматами рекламы: сначала popunder, а затем и clickunder (bodyclic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самым важным нововведением стал учёт региональности сайтов и геозависимости запро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осы пользователя делятся на геозависимые и геонезависимые. Регион пользователя определяется по его IP-адресу и если для его запроса в индексе Яндекса имеются региональные сайты, то начинает действовать региональная формула ранж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горитм «Снежинск»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rix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168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новой технологии машинного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факторов ранжировании документа увеличено в несколько 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удшено ранжирование страниц с особо длинными текстами, насыщенными ключевыми словами («тексты-портянки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ение т.н. фильтров АГС , отсеивающих спамерские сай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количества региональных факторов, учитываемых при ранжирова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а идентификация страницы-первоисточника контента; сайты, ворующие контент с других сайтов, ранжируются значительно ху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явлением технологии MatrixNET продвижение сайтов стало менее подконтрольным оптимизаторам. Теперь нельзя обойтись одной покупкой ссылок или нужной плотностью ключевых слов на страни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ндекс при помощи новой системы связал огромное количество факторов и показателей сайтов, что в итоге сделало ранжирование максимально релевантным оценкам асесс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асессоры «отдают» свои оценки относительно сайта системе MatrixNET, которая осуществляет периодическое самообу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636840" y="1890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Arial"/>
                <a:ea typeface="Arial"/>
              </a:rPr>
              <a:t>Matrix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Arial"/>
              </a:rPr>
              <a:t>Как работает поиск</a:t>
            </a:r>
            <a:r>
              <a:rPr b="1" lang="en-US" sz="4000" spc="-1" strike="noStrike">
                <a:solidFill>
                  <a:srgbClr val="558ed5"/>
                </a:solidFill>
                <a:latin typeface="Arial"/>
              </a:rPr>
              <a:t>: Matrix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31640" y="1700280"/>
            <a:ext cx="8282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619560" y="1890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Arial"/>
                <a:ea typeface="Arial"/>
              </a:rPr>
              <a:t>Matrix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Arial"/>
              </a:rPr>
              <a:t>Matrix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71640" y="1547640"/>
            <a:ext cx="69944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стемы поиска с открытым ко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ache Luce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8360" y="105228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библиотека для высокоскоростного полнотекстового поиска, написанная на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жированный поиск — лучшие результаты показываются пер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мощных типов запросов: запрос фразы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ldcar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росы, поиск интервалов и т. 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, основанный на «полях» (таких как заголовок, автор, тек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сортировать по различным по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ultiple-index поиск с возможностью объединен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одновременного поиска и обновления инд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исковые машины, основанные на Luc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lastic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ol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 highl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-in security: Authentication, Authorization, S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results clustering based o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rrot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tensible through plu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ing - queries, filters, an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management of large clusters through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ooKee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sugg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Lemur Tool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4920" y="907920"/>
            <a:ext cx="828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, Chinese, and Arabic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stemm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wor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ke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age and incremental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hoc retrieval (TF-IDF and InQu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age and cross-lingual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model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model updat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tage smo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c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quer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dcard term m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I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me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рмы с высоким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рос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д пропастью во р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ассматривать только веса: 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пропасть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рож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уи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 и во мало вносят в вес документа и не сильно изменят ранж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Частотные слова содержатся в большом количестве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езкое сокращение просмотра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ы, содержащ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термов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й документ, содержащий хотя бы один терм запроса – кандидат в вы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ля многословных запросов – считать только документы, в которых содержится несколько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н. мягкая конъюнкция – можно часто встретить в интернет пои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из 4 терминов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01040" y="273384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38120" y="3267000"/>
            <a:ext cx="1171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1880" y="3800520"/>
            <a:ext cx="158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67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51"/>
          <p:cNvGrpSpPr/>
          <p:nvPr/>
        </p:nvGrpSpPr>
        <p:grpSpPr>
          <a:xfrm>
            <a:off x="3276720" y="3267000"/>
            <a:ext cx="4945680" cy="459720"/>
            <a:chOff x="3276720" y="3267000"/>
            <a:chExt cx="4945680" cy="459720"/>
          </a:xfrm>
        </p:grpSpPr>
        <p:grpSp>
          <p:nvGrpSpPr>
            <p:cNvPr id="73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74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 Box 32"/>
            <p:cNvSpPr/>
            <p:nvPr/>
          </p:nvSpPr>
          <p:spPr>
            <a:xfrm>
              <a:off x="34128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3"/>
            <p:cNvSpPr/>
            <p:nvPr/>
          </p:nvSpPr>
          <p:spPr>
            <a:xfrm>
              <a:off x="40986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34"/>
            <p:cNvSpPr/>
            <p:nvPr/>
          </p:nvSpPr>
          <p:spPr>
            <a:xfrm>
              <a:off x="4674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5"/>
            <p:cNvSpPr/>
            <p:nvPr/>
          </p:nvSpPr>
          <p:spPr>
            <a:xfrm>
              <a:off x="525744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6"/>
            <p:cNvSpPr/>
            <p:nvPr/>
          </p:nvSpPr>
          <p:spPr>
            <a:xfrm>
              <a:off x="5817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7"/>
            <p:cNvSpPr/>
            <p:nvPr/>
          </p:nvSpPr>
          <p:spPr>
            <a:xfrm>
              <a:off x="64256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38"/>
            <p:cNvSpPr/>
            <p:nvPr/>
          </p:nvSpPr>
          <p:spPr>
            <a:xfrm>
              <a:off x="70844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9"/>
            <p:cNvSpPr/>
            <p:nvPr/>
          </p:nvSpPr>
          <p:spPr>
            <a:xfrm>
              <a:off x="769428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2"/>
          <p:cNvGrpSpPr/>
          <p:nvPr/>
        </p:nvGrpSpPr>
        <p:grpSpPr>
          <a:xfrm>
            <a:off x="3276720" y="2733840"/>
            <a:ext cx="4876560" cy="459720"/>
            <a:chOff x="3276720" y="2733840"/>
            <a:chExt cx="4876560" cy="459720"/>
          </a:xfrm>
        </p:grpSpPr>
        <p:grpSp>
          <p:nvGrpSpPr>
            <p:cNvPr id="88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89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Text Box 40"/>
            <p:cNvSpPr/>
            <p:nvPr/>
          </p:nvSpPr>
          <p:spPr>
            <a:xfrm>
              <a:off x="342864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1"/>
            <p:cNvSpPr/>
            <p:nvPr/>
          </p:nvSpPr>
          <p:spPr>
            <a:xfrm>
              <a:off x="39891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2"/>
            <p:cNvSpPr/>
            <p:nvPr/>
          </p:nvSpPr>
          <p:spPr>
            <a:xfrm>
              <a:off x="46479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43"/>
            <p:cNvSpPr/>
            <p:nvPr/>
          </p:nvSpPr>
          <p:spPr>
            <a:xfrm>
              <a:off x="517968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4"/>
            <p:cNvSpPr/>
            <p:nvPr/>
          </p:nvSpPr>
          <p:spPr>
            <a:xfrm>
              <a:off x="581616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45"/>
            <p:cNvSpPr/>
            <p:nvPr/>
          </p:nvSpPr>
          <p:spPr>
            <a:xfrm>
              <a:off x="642564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46"/>
            <p:cNvSpPr/>
            <p:nvPr/>
          </p:nvSpPr>
          <p:spPr>
            <a:xfrm>
              <a:off x="6854040" y="27338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48"/>
          <p:cNvSpPr/>
          <p:nvPr/>
        </p:nvSpPr>
        <p:spPr>
          <a:xfrm>
            <a:off x="32745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38937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33800" y="2133720"/>
            <a:ext cx="1203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nt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52"/>
          <p:cNvGrpSpPr/>
          <p:nvPr/>
        </p:nvGrpSpPr>
        <p:grpSpPr>
          <a:xfrm>
            <a:off x="3276720" y="2133720"/>
            <a:ext cx="4876560" cy="459720"/>
            <a:chOff x="3276720" y="2133720"/>
            <a:chExt cx="4876560" cy="459720"/>
          </a:xfrm>
        </p:grpSpPr>
        <p:grpSp>
          <p:nvGrpSpPr>
            <p:cNvPr id="108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109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 Box 40"/>
            <p:cNvSpPr/>
            <p:nvPr/>
          </p:nvSpPr>
          <p:spPr>
            <a:xfrm>
              <a:off x="344124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1"/>
            <p:cNvSpPr/>
            <p:nvPr/>
          </p:nvSpPr>
          <p:spPr>
            <a:xfrm>
              <a:off x="39891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2"/>
            <p:cNvSpPr/>
            <p:nvPr/>
          </p:nvSpPr>
          <p:spPr>
            <a:xfrm>
              <a:off x="46479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3"/>
            <p:cNvSpPr/>
            <p:nvPr/>
          </p:nvSpPr>
          <p:spPr>
            <a:xfrm>
              <a:off x="517968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4"/>
            <p:cNvSpPr/>
            <p:nvPr/>
          </p:nvSpPr>
          <p:spPr>
            <a:xfrm>
              <a:off x="581616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45"/>
            <p:cNvSpPr/>
            <p:nvPr/>
          </p:nvSpPr>
          <p:spPr>
            <a:xfrm>
              <a:off x="642564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6"/>
            <p:cNvSpPr/>
            <p:nvPr/>
          </p:nvSpPr>
          <p:spPr>
            <a:xfrm>
              <a:off x="6854040" y="21337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50"/>
          <p:cNvSpPr/>
          <p:nvPr/>
        </p:nvSpPr>
        <p:spPr>
          <a:xfrm>
            <a:off x="455472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124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bbe0e3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bbe0e3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bbe0e3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Group 90" descr=""/>
          <p:cNvPicPr/>
          <p:nvPr/>
        </p:nvPicPr>
        <p:blipFill>
          <a:blip r:embed="rId1"/>
          <a:stretch/>
        </p:blipFill>
        <p:spPr>
          <a:xfrm>
            <a:off x="3882960" y="2206800"/>
            <a:ext cx="1841400" cy="1993680"/>
          </a:xfrm>
          <a:prstGeom prst="rect">
            <a:avLst/>
          </a:prstGeom>
          <a:ln w="0">
            <a:noFill/>
          </a:ln>
        </p:spPr>
      </p:pic>
      <p:pic>
        <p:nvPicPr>
          <p:cNvPr id="128" name="Group 91" descr=""/>
          <p:cNvPicPr/>
          <p:nvPr/>
        </p:nvPicPr>
        <p:blipFill>
          <a:blip r:embed="rId2"/>
          <a:stretch/>
        </p:blipFill>
        <p:spPr>
          <a:xfrm>
            <a:off x="4492800" y="2206800"/>
            <a:ext cx="1841400" cy="19936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95"/>
          <p:cNvSpPr/>
          <p:nvPr/>
        </p:nvSpPr>
        <p:spPr>
          <a:xfrm>
            <a:off x="1261800" y="51055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еса считаются только для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 8, 16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mpion 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анее для каждого терм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ютс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ов с максимальным вес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 документов д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ется во время индек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обязательно то же самое для всех тер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запроса, считаются только веса документов, входящих хотя бы в один топ-лист одного их термов за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етс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х документов (наиболее похожих на запрос)  из документов топ-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т качества док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итетность – качество документа, не зависимое от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 факто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Википе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 из заданного списка С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ые статьи с большим количеством ци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йты с большим количеством входящих с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0:28:09Z</dcterms:created>
  <dc:creator>boris</dc:creator>
  <dc:description/>
  <dc:language>en-US</dc:language>
  <cp:lastModifiedBy>Наталья Лукашевич</cp:lastModifiedBy>
  <dcterms:modified xsi:type="dcterms:W3CDTF">2018-12-04T10:31:49Z</dcterms:modified>
  <cp:revision>55</cp:revision>
  <dc:subject/>
  <dc:title>Фразовые запросы  и позиционные индексы</dc:title>
</cp:coreProperties>
</file>