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70A-2170-482A-A1CF-9B4A644E8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24D4-FF3B-47D4-9798-F4F189917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183-896E-414E-9AFA-61CE7036E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52D-D9A7-4263-95EF-D6F35792A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AD9-9AC8-4083-BC64-E414568AB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85E-85FC-4EC5-9FFB-423A61F17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0BE-FC0F-4B30-AECF-756026F481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AA39-D896-41FE-AE8D-C772D9B6A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8B0-7869-4B19-9B03-CE2AB01305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32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492-0397-4C71-BDF9-40C220A396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32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A47C-489F-4FAD-878D-05675520BB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33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346B-B948-4E56-AE39-8BB9F353A9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D02A-644A-4A7A-84EF-2FB9FAFD6A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01CB-14D2-408C-88CB-FFA147B1D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2B5-8920-4346-88BD-7BF1D26E7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C8FD-DDFB-4013-B7C0-839393726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EE0-D2BC-490C-9740-17C41F5EB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FB84-5437-4BDE-9BE6-73652A845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DD0-BCB4-469B-B2AE-1214AF4F4A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B85-BD42-4B42-A34A-2D193725E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F8B-AC80-4C52-9FD1-FEC1CAD9EF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CD06-36EC-4D41-BBAD-9D5EB61D8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50D9-D672-4A19-B626-24DD67BE2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972D-7AAF-4F95-B376-61A854F09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A71-5469-43C3-ACB2-1D94ADE6A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B0D5-FBD2-4A72-AC44-0CA05415D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84CB-2B4F-4899-92A2-790007A61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1DB-9B9A-4630-B607-5AEFFC23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5A3-6047-4D74-A82F-EB23E80F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8E-7920-4491-A100-DC0B77C9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1AC-7D57-45C8-837D-AFA4D39B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010-C12F-4D82-B67C-EF539A3A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F29-0866-4690-AD96-771F255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B2D-6F19-41EC-9B4C-FD3538C3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5D1-B335-443D-B610-561986A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939-C352-420A-A6DB-97E88E4D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F96-1811-43E5-9F40-6E1D379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9FE-5BA1-4572-8E6F-1B746E3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14D-F6FF-4B7F-80ED-E71C72E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7BF-A3A3-48CD-8B78-A8406F9B2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8134200" cy="16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атическое аннотирование (реферир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umm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26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79280" y="6237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отация по статьям новостного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20000" cy="6093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62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 к формированию экстракт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ногих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ные подход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е важное должно быть часто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, основанные на граф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ость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, основанные на машинном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предложения и их комби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, основанные на методах опти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отные подх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у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, которые часто повторяются в документе, имеют отношение к основной теме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ения, которые часто повторяются в разных документах, выражают основную тему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360" y="188640"/>
            <a:ext cx="7991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Basi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836280"/>
            <a:ext cx="85150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 аннотирования, основанный на частотных характеристиках слов (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nkov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anderwend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новная иде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иболее частотные слова исходного кластера с большей вероятностью должны оказаться в аннотации кластер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исло вхождений слова,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щее число токе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F78-B9B2-491C-B5F5-E88515A0BA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B20-1FB4-4E01-94FD-FD2B7DD4467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3132000" y="4653000"/>
                <a:ext cx="1739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Basi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2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836280"/>
            <a:ext cx="85150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еративный метод. На каждой итерации происходит расчет вероятностей слов, отбирается предложение с максимальной средней вероятностью сл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отбора предложения происходит пересчет вероятностей для слов из отобранного предлож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с слова резко снижае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193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м образом достигается снижение повторов в анно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E06F-23A7-4266-B695-8E817ED7B22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B9A-8C46-471E-839B-CB00D9B915EE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1839960" y="3068640"/>
                <a:ext cx="5483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eight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блемы частотного под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образие лек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тельст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иргиз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редало для ратификации в законодательный орган… Парламен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ыргызстан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четверг примет окончательное решение о судьбе авиабазы США… стали главной причиной побудившей правительст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нять так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богащение пословного представления: лексические цепоч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1341000"/>
            <a:ext cx="844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спользование информации об объектах и связях между ними, описанной в тезауруса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ексические цепочки – совокупности близких по смыслу сл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зможность, учета частотности цепоч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нижение повторяем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величение связност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дходы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лийский 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Word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rzil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., Elhadad M.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Т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ашевич Н.В., Добров Б.В.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98F6-F7F8-49FF-9B27-5AD2CE5499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870-A141-468E-8C81-DEA56DA24DE0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е цепочки для кластера Ал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2720" y="1125000"/>
            <a:ext cx="81532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ост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700" spc="-1" strike="noStrike" u="sng">
                <a:solidFill>
                  <a:srgbClr val="00b050"/>
                </a:solidFill>
                <a:uFillTx/>
                <a:latin typeface="Arial"/>
              </a:rPr>
              <a:t>уход с поста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должность; уход; отставка; </a:t>
            </a:r>
            <a:r>
              <a:rPr b="1" i="1" lang="ru-RU" sz="2700" spc="-1" strike="noStrike" u="sng">
                <a:solidFill>
                  <a:srgbClr val="00b050"/>
                </a:solidFill>
                <a:uFillTx/>
                <a:latin typeface="Arial"/>
              </a:rPr>
              <a:t>отставка с должности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; уход в отставку; отставка президен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Алроса: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президент Алроса; АК Алро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Компания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акция компании; владелец компании; объединение компаний; акция; акционер компании; владелец; пакет акций; состав владельцев; контрольный пакет акций; контрольный пакет; влад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Ничипорук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: Александр Ничипору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Якутия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: президент Якутии; якутский; якутский президен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-22320" y="836640"/>
            <a:ext cx="916632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ные методы: использование TF.I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ное слово в исходном документе (наборе документов) может быть недостаточно тематическ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о всегда частотно в данной коллекции, поэто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f – в исходном доку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df – в корпусе, из которого извлечен этот док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ируем полученные веса для выбора лучших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автоматического анно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автоматического анно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ирование автоматического анно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al Marginal Relevance (MM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844200"/>
            <a:ext cx="8153280" cy="61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arbonell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oldstein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1998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еративный метод – локальн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й итерации производится ранжирование предложений-кандид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тоговую аннотацию отбирается одно с самым высоким ран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изировать сходство с исходным документов (набором доку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ировать сходство с уже отобранными в аннотацию предло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спользовании в контекстно-зависимой аннотации – максимизируется сходство с запр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DAE-390B-4044-ABFD-D2AD003D5A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03FF-5FE7-4210-B8B0-91F5761881CC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al Marginal Relevance (MM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981000"/>
            <a:ext cx="858672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Q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ос к сист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множество предложений кандид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матриваемое предложение кандид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 – множество выбранных предло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302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2DF-FA73-4D8A-8A11-CDA8C2D68C0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DE2-BEAA-4253-9FB9-10DBF9E9F648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5640" y="5084640"/>
            <a:ext cx="8102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аннотации (100 слов) по многим документам (Метод M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578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идент "АЛРОСА" Александр Ничипорук уходит со своего п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осьми улусам Якутии принадлежит 8 % акций комп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ношения между нынешним и бывшим президентами АЛРОСА (господин Штыров возглавлял компанию до того как стал президентом Якутии) не сложились с момента прихода господина Ничипорука два года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лександр Ничипорук покидает пост президента компании АЛРОСА, на которую приходится четверть мировой добычи алм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осимуществу принадлежит 37 % акций АЛРОСА, минимуществу Якутии - 32 %, восьми улусам Якутии - 8 %, физическим и юридическим лицам - 23 %, из которых ВТБ владеет 10, 5 % 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Напомним, что до Александра Ничипорука АК АЛРОСА возглавлял Владимир Калитин (март 2002 - декабрь 2004 года), а еще ранее - действующий президент Якутии Вячеслав Штыров (1996-2002 г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фовые методы автоматического анно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шины –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ги – сходство между предлож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инусная 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Radev et.al., 2004) LexRank – аннотирование многи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ная мера сходства между предложениями новостного кл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D dXsY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Y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и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кум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97656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40384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ф связей между предлож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ные линии соответствуют высокому в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5322960" cy="4619520"/>
          </a:xfrm>
          <a:prstGeom prst="rect">
            <a:avLst/>
          </a:prstGeom>
          <a:ln w="0">
            <a:noFill/>
          </a:ln>
        </p:spPr>
      </p:pic>
      <p:sp>
        <p:nvSpPr>
          <p:cNvPr id="115" name="文字方塊 5"/>
          <p:cNvSpPr/>
          <p:nvPr/>
        </p:nvSpPr>
        <p:spPr>
          <a:xfrm>
            <a:off x="6172200" y="3809880"/>
            <a:ext cx="2438280" cy="1067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FKai-SB"/>
              </a:rPr>
              <a:t>Figure 2: Weighted cosine similarity graph for the cluster in Figur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тральность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880" y="1066680"/>
            <a:ext cx="82598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тере похожих документов многие предложения в некоторой степени похожи друг н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ы значительные степени сходства, определяемые заданным порогом (0.1, 0.2, 0.3). Тогда малые величины в матрице обну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ость предложения – предложение при заданном пороге связано с максимальным числом других предложений. Это предложение и берется в анно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7497720" cy="2388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" name="Line 8"/>
          <p:cNvSpPr/>
          <p:nvPr/>
        </p:nvSpPr>
        <p:spPr>
          <a:xfrm>
            <a:off x="1116000" y="5734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ф сходства при разных поро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ен выбор п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703600" cy="25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643480" cy="1357200"/>
          </a:xfrm>
          <a:prstGeom prst="rect">
            <a:avLst/>
          </a:prstGeom>
          <a:ln w="0">
            <a:noFill/>
          </a:ln>
        </p:spPr>
      </p:pic>
      <p:sp>
        <p:nvSpPr>
          <p:cNvPr id="124" name="文字方塊 8"/>
          <p:cNvSpPr/>
          <p:nvPr/>
        </p:nvSpPr>
        <p:spPr>
          <a:xfrm>
            <a:off x="1523880" y="4343400"/>
            <a:ext cx="457200" cy="2919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FKai-SB"/>
              </a:rPr>
              <a:t>0.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2895840" cy="2557440"/>
          </a:xfrm>
          <a:prstGeom prst="rect">
            <a:avLst/>
          </a:prstGeom>
          <a:ln w="0">
            <a:noFill/>
          </a:ln>
        </p:spPr>
      </p:pic>
      <p:sp>
        <p:nvSpPr>
          <p:cNvPr id="126" name="文字方塊 16"/>
          <p:cNvSpPr/>
          <p:nvPr/>
        </p:nvSpPr>
        <p:spPr>
          <a:xfrm>
            <a:off x="4343400" y="4343400"/>
            <a:ext cx="457200" cy="2919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FKai-SB"/>
              </a:rPr>
              <a:t>0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字方塊 17"/>
          <p:cNvSpPr/>
          <p:nvPr/>
        </p:nvSpPr>
        <p:spPr>
          <a:xfrm>
            <a:off x="7010280" y="4343400"/>
            <a:ext cx="457200" cy="2919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FKai-SB"/>
              </a:rPr>
              <a:t>0.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060280"/>
            <a:ext cx="777384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на основе разных характеристик и маши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льная комбинац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mundson, 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24000" y="4005360"/>
                <a:ext cx="864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eigh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itl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u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eywor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Positio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6"/>
          <p:cNvSpPr/>
          <p:nvPr/>
        </p:nvSpPr>
        <p:spPr>
          <a:xfrm>
            <a:off x="395280" y="198900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четырех при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ные сл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сл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 были подобраны на обучающей выбо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ое аннотирование (реферир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ое аннотирование документа (совокупности близких по смыслу документов) - автоматическая технология, передающая в  краткой  форме  основное содержание документа (совокупности докумен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ирование отдельного докуме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ирование совокупности документов -построение обзорного рефе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начение: быстрое ознакомление с содержанием документа (совокупности докумен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и для извлечения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ные слова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получают ве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предложения зависит от весов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предложения увеличивается, если в нем присутствуют слова загол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тствие ключевых слов и констру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ый список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черкнем, основным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в тек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в начале более ва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ность с предыду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зн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бинация на основ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из рабо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upiec&amp;al’9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корпус документов и экстр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е абстр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ждествление похожих предложений в абстрактах и докумен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ная 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для извлечения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6248520" y="2828880"/>
            <a:ext cx="14475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979640" y="1870200"/>
            <a:ext cx="14479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ы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но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979640" y="31114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979640" y="3933720"/>
            <a:ext cx="144792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остав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4643280" y="3286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248520" y="412416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ф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6934320" y="37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6324480" y="5191200"/>
            <a:ext cx="14479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934320" y="48099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643280" y="4222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24000" y="206064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250920" y="400536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3995640" y="543096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3995640" y="360216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3995640" y="4516560"/>
            <a:ext cx="137160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4233960" y="1909800"/>
            <a:ext cx="914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8001000" y="2600280"/>
            <a:ext cx="914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8077320" y="4581360"/>
            <a:ext cx="914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696080" y="3133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7772400" y="557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1258920" y="220464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1332000" y="2491920"/>
            <a:ext cx="647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>
            <a:off x="2700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270036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V="1">
            <a:off x="3492360" y="2349360"/>
            <a:ext cx="792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4643280" y="5086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V="1">
            <a:off x="5508720" y="4509720"/>
            <a:ext cx="7189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5157720"/>
          <a:ext cx="273528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648000"/>
                <a:gridCol w="504720"/>
                <a:gridCol w="574560"/>
                <a:gridCol w="576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Line 56"/>
          <p:cNvSpPr/>
          <p:nvPr/>
        </p:nvSpPr>
        <p:spPr>
          <a:xfrm flipH="1">
            <a:off x="3203640" y="4799160"/>
            <a:ext cx="79200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7"/>
          <p:cNvSpPr/>
          <p:nvPr/>
        </p:nvSpPr>
        <p:spPr>
          <a:xfrm>
            <a:off x="1399680" y="170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8"/>
          <p:cNvSpPr/>
          <p:nvPr/>
        </p:nvSpPr>
        <p:spPr>
          <a:xfrm>
            <a:off x="1544040" y="4292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9"/>
          <p:cNvSpPr/>
          <p:nvPr/>
        </p:nvSpPr>
        <p:spPr>
          <a:xfrm>
            <a:off x="363168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1615320" y="3213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1"/>
          <p:cNvSpPr/>
          <p:nvPr/>
        </p:nvSpPr>
        <p:spPr>
          <a:xfrm>
            <a:off x="356004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2"/>
          <p:cNvSpPr/>
          <p:nvPr/>
        </p:nvSpPr>
        <p:spPr>
          <a:xfrm>
            <a:off x="3631680" y="5589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3"/>
          <p:cNvSpPr/>
          <p:nvPr/>
        </p:nvSpPr>
        <p:spPr>
          <a:xfrm>
            <a:off x="1003320" y="62373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4"/>
          <p:cNvSpPr/>
          <p:nvPr/>
        </p:nvSpPr>
        <p:spPr>
          <a:xfrm>
            <a:off x="5863680" y="4076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6800040" y="2060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6"/>
          <p:cNvSpPr/>
          <p:nvPr/>
        </p:nvSpPr>
        <p:spPr>
          <a:xfrm>
            <a:off x="6944760" y="61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ая комбинация (признак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предлож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раз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3527280" y="2514600"/>
                <a:ext cx="24847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2556000" y="3821040"/>
                <a:ext cx="3630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806400" y="5467320"/>
                <a:ext cx="6897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adin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eading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29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ки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808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discr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graph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сло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име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132000" y="2133720"/>
                <a:ext cx="5486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∨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as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348000" y="2852640"/>
                <a:ext cx="3714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nitia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ddl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4286160" y="4214880"/>
                <a:ext cx="2160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k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Байеса для комбинирования при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84360" y="4059360"/>
                <a:ext cx="770544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976680" y="2781360"/>
            <a:ext cx="240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оятность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надле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стра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H="1">
            <a:off x="1187280" y="3500280"/>
            <a:ext cx="136872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000680" y="33577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Бай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H="1">
            <a:off x="3779640" y="3789360"/>
            <a:ext cx="12236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411880" y="206064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знаки в экстраки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213600" y="566100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знаки в корп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659640" y="29242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оят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экстра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5940000" y="2781360"/>
            <a:ext cx="36036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7308360" y="3500280"/>
            <a:ext cx="3589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 flipH="1" flipV="1">
            <a:off x="5724000" y="5516640"/>
            <a:ext cx="36036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пара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454040" y="4498920"/>
                <a:ext cx="4575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1187280" y="3068640"/>
                <a:ext cx="7417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</m:e>
                    </m:nary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3059280" y="5734080"/>
                <a:ext cx="21081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7"/>
          <p:cNvSpPr/>
          <p:nvPr/>
        </p:nvSpPr>
        <p:spPr>
          <a:xfrm>
            <a:off x="6804000" y="227664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олаг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>
            <a:off x="6588000" y="3068640"/>
            <a:ext cx="432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596000" y="508464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сч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H="1" flipV="1">
            <a:off x="7308360" y="4365720"/>
            <a:ext cx="57636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 flipV="1">
            <a:off x="6587640" y="5157720"/>
            <a:ext cx="1008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8440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ая комб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для отдельных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ая комби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+ключевые слова+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методов, основанных на машинном обучении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аннотировани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ого на извлечении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шние» обороты в пред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связности изложения – местои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adults and one child di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r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witnesses said occurred about 5 p.m., when it was raining, Albuquerque police Sgt. R.C. Porter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r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 attempt and was coming in for a second try wh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ashed, he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сутствие целостности в из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одный тек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upermarket A announced a big profit for the third quarter of the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directory studies the creation of new jobs. Meanwhile,  B’s supermarket sales drop by 10% last month. 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company is studying closing down some of its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тра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market  A announced a big profit for the third quarter of the year. The company is studying closing down some of its 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пы аннот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тр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тракты  получаются извлечением фрагментов исходных текстов (обычно предложений) – основная применяем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стракты порождаются – эксперимента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по основному содер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ивные – собственно содерж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вные – упор на цифры,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очные – упор на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ое аннотирование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тестир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тест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е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ли текст связным и целост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ли он главные темы докум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аннотации с идеальными аннот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е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ли аннотация использоваться вместо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ференц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199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ins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аннотирования посредством ручного рубри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никам рассылается 1000 тек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текстов делятся на 5 подразделов внутри двух больших 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нотации двух видов: 10% и лучшей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 по тексту должен отнести его к одной из десяти руб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экспертов рассматривают один и тот же 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текстов есть полные тексты и начала тек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C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чет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 в промышл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яя торго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борьба с нарко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странные производители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P / (TP + F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 / (TP + 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core       =    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C 1998 (NIST DARPA TIPSTER 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summac"/>
          <p:cNvPicPr/>
          <p:nvPr/>
        </p:nvPicPr>
        <p:blipFill>
          <a:blip r:embed="rId1"/>
          <a:stretch/>
        </p:blipFill>
        <p:spPr>
          <a:xfrm>
            <a:off x="250920" y="1143000"/>
            <a:ext cx="8570880" cy="5589720"/>
          </a:xfrm>
          <a:prstGeom prst="rect">
            <a:avLst/>
          </a:prstGeom>
          <a:ln w="0">
            <a:noFill/>
          </a:ln>
        </p:spPr>
      </p:pic>
      <p:sp>
        <p:nvSpPr>
          <p:cNvPr id="224" name="Line 8"/>
          <p:cNvSpPr/>
          <p:nvPr/>
        </p:nvSpPr>
        <p:spPr>
          <a:xfrm>
            <a:off x="5867280" y="2421000"/>
            <a:ext cx="72072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аннотац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одного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928880"/>
          <a:ext cx="4033800" cy="2909880"/>
        </p:xfrm>
        <a:graphic>
          <a:graphicData uri="http://schemas.openxmlformats.org/drawingml/2006/table">
            <a:tbl>
              <a:tblPr/>
              <a:tblGrid>
                <a:gridCol w="380880"/>
                <a:gridCol w="1220760"/>
                <a:gridCol w="1371600"/>
                <a:gridCol w="106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8160" y="1599840"/>
            <a:ext cx="387828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7"/>
              <p:cNvSpPr txBox="1"/>
              <p:nvPr/>
            </p:nvSpPr>
            <p:spPr>
              <a:xfrm>
                <a:off x="7319880" y="1611360"/>
                <a:ext cx="1208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1116000" y="4648320"/>
          <a:ext cx="2232000" cy="2166840"/>
        </p:xfrm>
        <a:graphic>
          <a:graphicData uri="http://schemas.openxmlformats.org/drawingml/2006/table">
            <a:tbl>
              <a:tblPr/>
              <a:tblGrid>
                <a:gridCol w="739800"/>
                <a:gridCol w="684360"/>
                <a:gridCol w="807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Object 61"/>
              <p:cNvSpPr txBox="1"/>
              <p:nvPr/>
            </p:nvSpPr>
            <p:spPr>
              <a:xfrm>
                <a:off x="7308720" y="3213000"/>
                <a:ext cx="1197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62"/>
              <p:cNvSpPr txBox="1"/>
              <p:nvPr/>
            </p:nvSpPr>
            <p:spPr>
              <a:xfrm>
                <a:off x="4349880" y="5022720"/>
                <a:ext cx="40827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P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FN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N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FP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63"/>
          <p:cNvSpPr/>
          <p:nvPr/>
        </p:nvSpPr>
        <p:spPr>
          <a:xfrm>
            <a:off x="1112760" y="42926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contingency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4"/>
          <p:cNvSpPr/>
          <p:nvPr/>
        </p:nvSpPr>
        <p:spPr>
          <a:xfrm>
            <a:off x="1107360" y="162864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choosing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65"/>
          <p:cNvGrpSpPr/>
          <p:nvPr/>
        </p:nvGrpSpPr>
        <p:grpSpPr>
          <a:xfrm>
            <a:off x="-44640" y="4724280"/>
            <a:ext cx="2024280" cy="1152360"/>
            <a:chOff x="-44640" y="4724280"/>
            <a:chExt cx="2024280" cy="1152360"/>
          </a:xfrm>
        </p:grpSpPr>
        <p:sp>
          <p:nvSpPr>
            <p:cNvPr id="235" name="Text Box 66"/>
            <p:cNvSpPr/>
            <p:nvPr/>
          </p:nvSpPr>
          <p:spPr>
            <a:xfrm>
              <a:off x="-44640" y="472428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True Pos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7"/>
            <p:cNvSpPr/>
            <p:nvPr/>
          </p:nvSpPr>
          <p:spPr>
            <a:xfrm flipH="1" flipV="1">
              <a:off x="826920" y="5300280"/>
              <a:ext cx="115272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8"/>
          <p:cNvGrpSpPr/>
          <p:nvPr/>
        </p:nvGrpSpPr>
        <p:grpSpPr>
          <a:xfrm>
            <a:off x="-83160" y="5950080"/>
            <a:ext cx="1990800" cy="647640"/>
            <a:chOff x="-83160" y="5950080"/>
            <a:chExt cx="1990800" cy="647640"/>
          </a:xfrm>
        </p:grpSpPr>
        <p:sp>
          <p:nvSpPr>
            <p:cNvPr id="238" name="Text Box 69"/>
            <p:cNvSpPr/>
            <p:nvPr/>
          </p:nvSpPr>
          <p:spPr>
            <a:xfrm>
              <a:off x="-83160" y="59500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alse Pos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0"/>
            <p:cNvSpPr/>
            <p:nvPr/>
          </p:nvSpPr>
          <p:spPr>
            <a:xfrm flipH="1" flipV="1">
              <a:off x="826560" y="6381720"/>
              <a:ext cx="10810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1"/>
          <p:cNvGrpSpPr/>
          <p:nvPr/>
        </p:nvGrpSpPr>
        <p:grpSpPr>
          <a:xfrm>
            <a:off x="3276720" y="5805360"/>
            <a:ext cx="3016440" cy="398880"/>
            <a:chOff x="3276720" y="5805360"/>
            <a:chExt cx="3016440" cy="398880"/>
          </a:xfrm>
        </p:grpSpPr>
        <p:sp>
          <p:nvSpPr>
            <p:cNvPr id="241" name="Text Box 72"/>
            <p:cNvSpPr/>
            <p:nvPr/>
          </p:nvSpPr>
          <p:spPr>
            <a:xfrm>
              <a:off x="4373640" y="58053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False Neg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3"/>
            <p:cNvSpPr/>
            <p:nvPr/>
          </p:nvSpPr>
          <p:spPr>
            <a:xfrm>
              <a:off x="3276720" y="5950080"/>
              <a:ext cx="10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4"/>
          <p:cNvGrpSpPr/>
          <p:nvPr/>
        </p:nvGrpSpPr>
        <p:grpSpPr>
          <a:xfrm>
            <a:off x="3276720" y="6308640"/>
            <a:ext cx="3031920" cy="398880"/>
            <a:chOff x="3276720" y="6308640"/>
            <a:chExt cx="3031920" cy="398880"/>
          </a:xfrm>
        </p:grpSpPr>
        <p:sp>
          <p:nvSpPr>
            <p:cNvPr id="244" name="Text Box 75"/>
            <p:cNvSpPr/>
            <p:nvPr/>
          </p:nvSpPr>
          <p:spPr>
            <a:xfrm>
              <a:off x="4448520" y="630864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True Neg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6"/>
            <p:cNvSpPr/>
            <p:nvPr/>
          </p:nvSpPr>
          <p:spPr>
            <a:xfrm>
              <a:off x="3276720" y="65977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качества экстрактов (приме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03280" y="4365720"/>
            <a:ext cx="387828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24360" y="1844640"/>
          <a:ext cx="2232360" cy="2184480"/>
        </p:xfrm>
        <a:graphic>
          <a:graphicData uri="http://schemas.openxmlformats.org/drawingml/2006/table">
            <a:tbl>
              <a:tblPr/>
              <a:tblGrid>
                <a:gridCol w="739800"/>
                <a:gridCol w="684360"/>
                <a:gridCol w="808200"/>
              </a:tblGrid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042920" y="1792440"/>
          <a:ext cx="5467320" cy="3806640"/>
        </p:xfrm>
        <a:graphic>
          <a:graphicData uri="http://schemas.openxmlformats.org/drawingml/2006/table">
            <a:tbl>
              <a:tblPr/>
              <a:tblGrid>
                <a:gridCol w="360360"/>
                <a:gridCol w="1368360"/>
                <a:gridCol w="1513080"/>
                <a:gridCol w="222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8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по аннотированию текстов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 (Document Understanding Con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тестовых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пус текстов с аннотациям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нны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пус блоков текстов на одну тему, например, сообщения разных информагентств на тему «Визит Клинтона в Москву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мечены важные пред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ирование по многим документам. Приложены примеры аннотаций 100, 200, 300, 400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стирование обзорных рефератов сложно, поскольку в разных текстах имеются частично похожи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матически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GE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рики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1125000"/>
            <a:ext cx="844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-Oriented Understudy for Gisting Evalua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бор метрик и комплекс программ для оценки автоматического аннотирования и машинного перевода тек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идея – сравнение генерированного текста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лонн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деланным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формы метрики, сравн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GE-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общие подстро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GE-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E-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граммы и биграмм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E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OUGE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62F-A28C-4B57-AEDE-C9E3D09C85DC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матически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GE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рики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12720" y="836280"/>
            <a:ext cx="815328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оцениваемая обзорная аннотация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того класте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Tw Cen MT"/>
              </a:rPr>
              <a:t>ij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ручные аннотации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‑того класте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Ngram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жество всех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рамм из лемм соответствующего документа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ge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двух предлож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57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Кита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Тайван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становили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авиасообщени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посл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60-летнег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перерыв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57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Посл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почти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60-летнег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перерыв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ткрылось регулярное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авиасообщени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между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Тайване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материковым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Китае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Rouge-1 = 7/12 = 0.5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45B-21B9-41D9-9017-49E14305100F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45280" cy="100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14528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«Пирамиды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yramid Evalu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2720" y="1268280"/>
            <a:ext cx="815328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2005 году Колумбийским университ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ы выделяют из «эталонных» аннотаций «информационные единицы»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Content Units (SC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ет вес, равный количеству «эталонных» аннотаций, где она встреча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– суммарный вес входящих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днократное вхожд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втоматическую аннотацию не поощр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B101-0837-49FE-AE2B-A10EB6EA21EF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пы аннотаций по содерж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ндикативна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ария произошла накануне на юго-востоке Москвы: экипаж отдела вневедомственной охраны двигался на служебном автомобиле по Волжскому бульвару и сбил молодого человека, который переходил дорогу с велосипедом на зеленый с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ценочн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воей нелеп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агедия произошла в доме на Митинской улице. Маленькая девочка утонула... в аквариуме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 «Пирамиды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36280"/>
            <a:ext cx="896472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тоговый результат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вес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вт.аннотация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вес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кспертных аннотациях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CU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ини-субмарина попала в ловушку под вод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субмарина... была затоплена... на дне моря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ая... субмарина... затоплена... на глубине 625 ф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субмарина попала в ловушку... ниже уровня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ая... субмарина... затоплена... на дне морско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831A-F4DA-44D9-B197-86FD620FDA4C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411280" y="1700280"/>
            <a:ext cx="432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чная оцен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9280" y="981000"/>
            <a:ext cx="858672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автоматическая аннотация была прочитана несколькими эксперт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таб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ибалльная система оценка – от 1 до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– заметный разрыв между автоматическими и «эталонными» аннота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787-3081-4580-BFA5-FB2E5336C4B7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ение методов 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12720" y="981000"/>
            <a:ext cx="815328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G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Малое участие человека, лёгк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сутствие оценки читабельности, результат не всегда идеален с точки зрени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«Пирамид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Наиболее объективная оценка содержания ан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сутствие оценки читабельности, большое участ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Оценка «пользователем», лучшая оценка читаб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громное участ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FEC-94D3-4BE5-A0F6-45F17537060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49D-7822-4413-B6A4-78FE149A7089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обработка  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12720" y="1413000"/>
            <a:ext cx="81532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отбора предложений производится улучшение связности и читаемости анно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аббревиа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идение номеров и дат к стандартному ви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временных ссыл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 конце следующего года»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 конце 201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двусмысленностей и дискурсивных фор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о, это значит...»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то значит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ая сортировка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Дата 5"/>
          <p:cNvSpPr/>
          <p:nvPr/>
        </p:nvSpPr>
        <p:spPr>
          <a:xfrm>
            <a:off x="8072280" y="657216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0B56-B0F9-45A2-9BFB-1DF0E2FBA7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E8E7-7ABC-4FF5-96AB-2B2A69B20EC5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ждение нового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возможно для узких предметных 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ся извлечени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яются шабл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BA: Concept-based Abstracting (Paice&amp;Jones’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страгирование на основе шаб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лечение важных данных из текстов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p husba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ES (the crop in the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IVAR (variety stud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-LEVEL-PROPERTY (specific property studied of the cultivar, e.g. yield, grow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ST (the pest that attacks the culti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T (chemical or biological agent appl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ITY (where the study was condu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years of the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IL (description of the so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748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трагирование на основе шабл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rtilized wit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cymida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шабло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rtilized with AG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ase of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ect of ? i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ые внутри шаблона и на концах шаблон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971640" y="134100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ned-text based gen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aper studies the effect of [AGENT] on the [HLP] of [SPECI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aper studies the effect of [METHOD] on the [HLP] of [SPECIES] when it is infested by [PEST]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s paper studies the effect of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. pallida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yie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 of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tato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An experiment in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1985 and 1986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York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as undert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971640" y="260280"/>
            <a:ext cx="75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ождение абстра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ндекс для медиа (шабло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907920"/>
            <a:ext cx="85075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сть 26 октября Ведо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ки будут писать роботы «Яндек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ещение ситуации на дорогах, пог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ндекс» предоставляет такой сервис нескольким редакциям в индивидуаль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терфакс» несколько лет получает информацию о пробках и включает её в л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ся такж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ентство «Финмаркет» пишет новости с помощью роботов уже 1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Associated Press есть специальные алгоритмы, которые пишут новости на основе квартальных финотчё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е под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8000" y="1268280"/>
            <a:ext cx="59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нейронных сетей для порождения абстра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llapati R. et al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(2016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Abstractive text summarization using sequence-to-sequence rnns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идея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-decode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шаге происходит кодирование прочтенной информации во внутреннее представление фиксированной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тором шаге происходит декодирование внутреннего представления в необходимое внешнее пред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ки подхода в машинном пере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308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пы аннотаций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ку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вет на запрос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-based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пп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онтекстная аннотация, тематически-ориентированная анно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у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ная анно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отация ключевыми сло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го документа или многи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ом же языке, на друг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абс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-9360" y="981000"/>
            <a:ext cx="9191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нотации ключевыми слов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мблер: Тренды (актуаль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мблер: трен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едующая версия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508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метрики 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включил в аннотацию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усгидро", "Росгеология", "Транснефть" получат предложения перенести свои главные офисы на Дальний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извлекл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аниям «Русгидро», «Транснефть» и «Росгеология» предложили подумать о переезде на Дальний Вос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овам вице-премьера по Дальнему Востоку переезд может как-то затронуть "РусГидро", "Транснефть" и "Росгеологию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читать 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826920" y="5713560"/>
            <a:ext cx="749016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екстные аннотации: снипп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539640" y="520560"/>
            <a:ext cx="8066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тракты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лечение 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документа – разделение на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чет веса предложения на основе некоторых характер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предложений по мере снижения в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бор предложений с максимальным весом для анно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ое аннотиров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ногим документа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зорное реферир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ации новостных 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ческие спр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е зап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образить основ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образить нов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зить пов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серьезные проблемы связности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51:34Z</dcterms:created>
  <dc:creator>boris</dc:creator>
  <dc:description/>
  <dc:language>en-US</dc:language>
  <cp:lastModifiedBy>Михаил</cp:lastModifiedBy>
  <dcterms:modified xsi:type="dcterms:W3CDTF">2018-11-26T10:26:59Z</dcterms:modified>
  <cp:revision>101</cp:revision>
  <dc:subject/>
  <dc:title>09-01 Автоматическое аннотирование</dc:title>
</cp:coreProperties>
</file>