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250-5F47-4BDC-9D57-8F94F55A3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65B-685D-4916-8FEF-90F8703C22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A80-5845-42AC-912E-6DFC318B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669-4FF7-4EFF-A4BC-8C21C0B1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F2F-BEA9-48F5-A858-2D8F65C0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E38-3379-4935-A178-F5CA0455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921-45AC-496B-A5FE-FF06696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5A3-448F-4843-87E5-8F65908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602-327B-4ACD-B1AD-7FAB784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44F-A8B4-480E-A10F-7A6449E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37A-768F-489E-ADAE-E3E5B523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20B-1288-4859-93ED-F67BDD0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2F6-166E-4C52-9D7E-6F18121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D70-B4CF-49D5-9771-3C2A947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645-3440-408C-B0EA-770A7DF6D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1.png"/><Relationship Id="rId38" Type="http://schemas.openxmlformats.org/officeDocument/2006/relationships/image" Target="../media/image21.png"/><Relationship Id="rId39" Type="http://schemas.openxmlformats.org/officeDocument/2006/relationships/image" Target="../media/image21.png"/><Relationship Id="rId40" Type="http://schemas.openxmlformats.org/officeDocument/2006/relationships/image" Target="../media/image21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21.png"/><Relationship Id="rId44" Type="http://schemas.openxmlformats.org/officeDocument/2006/relationships/image" Target="../media/image21.png"/><Relationship Id="rId45" Type="http://schemas.openxmlformats.org/officeDocument/2006/relationships/image" Target="../media/image21.png"/><Relationship Id="rId46" Type="http://schemas.openxmlformats.org/officeDocument/2006/relationships/image" Target="../media/image21.png"/><Relationship Id="rId47" Type="http://schemas.openxmlformats.org/officeDocument/2006/relationships/image" Target="../media/image21.png"/><Relationship Id="rId48" Type="http://schemas.openxmlformats.org/officeDocument/2006/relationships/image" Target="../media/image21.png"/><Relationship Id="rId49" Type="http://schemas.openxmlformats.org/officeDocument/2006/relationships/image" Target="../media/image21.png"/><Relationship Id="rId50" Type="http://schemas.openxmlformats.org/officeDocument/2006/relationships/image" Target="../media/image21.png"/><Relationship Id="rId51" Type="http://schemas.openxmlformats.org/officeDocument/2006/relationships/image" Target="../media/image21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1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21.png"/><Relationship Id="rId60" Type="http://schemas.openxmlformats.org/officeDocument/2006/relationships/image" Target="../media/image21.png"/><Relationship Id="rId61" Type="http://schemas.openxmlformats.org/officeDocument/2006/relationships/image" Target="../media/image21.png"/><Relationship Id="rId62" Type="http://schemas.openxmlformats.org/officeDocument/2006/relationships/image" Target="../media/image21.png"/><Relationship Id="rId63" Type="http://schemas.openxmlformats.org/officeDocument/2006/relationships/image" Target="../media/image21.png"/><Relationship Id="rId64" Type="http://schemas.openxmlformats.org/officeDocument/2006/relationships/image" Target="../media/image21.png"/><Relationship Id="rId65" Type="http://schemas.openxmlformats.org/officeDocument/2006/relationships/image" Target="../media/image21.png"/><Relationship Id="rId66" Type="http://schemas.openxmlformats.org/officeDocument/2006/relationships/image" Target="../media/image21.png"/><Relationship Id="rId67" Type="http://schemas.openxmlformats.org/officeDocument/2006/relationships/image" Target="../media/image21.png"/><Relationship Id="rId68" Type="http://schemas.openxmlformats.org/officeDocument/2006/relationships/image" Target="../media/image21.png"/><Relationship Id="rId69" Type="http://schemas.openxmlformats.org/officeDocument/2006/relationships/image" Target="../media/image21.png"/><Relationship Id="rId70" Type="http://schemas.openxmlformats.org/officeDocument/2006/relationships/image" Target="../media/image21.png"/><Relationship Id="rId71" Type="http://schemas.openxmlformats.org/officeDocument/2006/relationships/image" Target="../media/image21.png"/><Relationship Id="rId72" Type="http://schemas.openxmlformats.org/officeDocument/2006/relationships/image" Target="../media/image21.png"/><Relationship Id="rId7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теризация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нинг и др. Введение в информационный поис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.16,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сткая и мягкая кластер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кая кластер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принадлежит только к одному класте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гче выполн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гкая кластер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жет принадлежать более, чем к одному класт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езно, но сложнее разбивать и использов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только жесткая кластер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ean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основные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 документы как вектора с вещественными знач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теры базируются на понятии центроида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ек в класте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ваивание документов к кластеру базируется на сходстве с теущими центроидами класт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2987640" y="3213000"/>
                <a:ext cx="25146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320" y="1125360"/>
            <a:ext cx="891540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бер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учайных доку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исходное множеств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d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– это как бы центроиды будущих класт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 тех пор пока кластеризация не сойдется (или другой критерий остановк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каждого докумен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сваива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кластер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ому, что simi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максималь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обновляем множе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…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я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центроиды текущих класт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каждого класт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2050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0" y="762120"/>
          <a:ext cx="396252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962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4"/>
          <p:cNvSpPr/>
          <p:nvPr/>
        </p:nvSpPr>
        <p:spPr>
          <a:xfrm>
            <a:off x="32479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724280" y="685800"/>
          <a:ext cx="40388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685800"/>
                    <a:ext cx="40388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6"/>
          <p:cNvSpPr/>
          <p:nvPr/>
        </p:nvSpPr>
        <p:spPr>
          <a:xfrm>
            <a:off x="32432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52280" y="3733920"/>
          <a:ext cx="38862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33920"/>
                    <a:ext cx="3886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8"/>
          <p:cNvSpPr/>
          <p:nvPr/>
        </p:nvSpPr>
        <p:spPr>
          <a:xfrm>
            <a:off x="332892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4876920" y="3657600"/>
          <a:ext cx="380988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657600"/>
                    <a:ext cx="3809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10"/>
          <p:cNvSpPr/>
          <p:nvPr/>
        </p:nvSpPr>
        <p:spPr>
          <a:xfrm>
            <a:off x="0" y="327672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началь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ближе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5181480" y="32004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кументов по кластера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0" y="617220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следующего приближ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центр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181480" y="63244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распределение документов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371600" y="3809880"/>
            <a:ext cx="266688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>
            <a:off x="7238880" y="380988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ример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03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118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122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134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138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143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я остан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есколько возможно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ксированное число ит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меняется разделение по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меняется позиция центро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класте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кластеров задается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яет  документы на определенное число 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правильного числа кластеров – это часть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использоваться специальные методы подбора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28140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0" y="0"/>
          <a:ext cx="42116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2116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4"/>
          <p:cNvSpPr/>
          <p:nvPr/>
        </p:nvSpPr>
        <p:spPr>
          <a:xfrm>
            <a:off x="4500720" y="11592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- классический метод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 фиксированн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нож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- кластеры стремятся бы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динаковыми и «круглы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826920" y="4005360"/>
            <a:ext cx="3095640" cy="2759040"/>
            <a:chOff x="826920" y="4005360"/>
            <a:chExt cx="3095640" cy="2759040"/>
          </a:xfrm>
        </p:grpSpPr>
        <p:sp>
          <p:nvSpPr>
            <p:cNvPr id="161" name="Oval 6"/>
            <p:cNvSpPr/>
            <p:nvPr/>
          </p:nvSpPr>
          <p:spPr>
            <a:xfrm>
              <a:off x="826920" y="4121280"/>
              <a:ext cx="1576440" cy="16700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2409480" y="6139080"/>
              <a:ext cx="609840" cy="6253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914560" y="4005360"/>
              <a:ext cx="860400" cy="9190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3130200" y="5418360"/>
              <a:ext cx="430200" cy="45864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1474560" y="6282000"/>
              <a:ext cx="430200" cy="458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3635280" y="5994360"/>
              <a:ext cx="287280" cy="3333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2"/>
          <p:cNvGrpSpPr/>
          <p:nvPr/>
        </p:nvGrpSpPr>
        <p:grpSpPr>
          <a:xfrm>
            <a:off x="6156360" y="4149720"/>
            <a:ext cx="2879640" cy="2519280"/>
            <a:chOff x="6156360" y="4149720"/>
            <a:chExt cx="2879640" cy="2519280"/>
          </a:xfrm>
        </p:grpSpPr>
        <p:sp>
          <p:nvSpPr>
            <p:cNvPr id="168" name="Rectangle 13"/>
            <p:cNvSpPr/>
            <p:nvPr/>
          </p:nvSpPr>
          <p:spPr>
            <a:xfrm>
              <a:off x="6156360" y="4149720"/>
              <a:ext cx="2879640" cy="25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4"/>
            <p:cNvGrpSpPr/>
            <p:nvPr/>
          </p:nvGrpSpPr>
          <p:grpSpPr>
            <a:xfrm>
              <a:off x="6372360" y="4221000"/>
              <a:ext cx="2592360" cy="2305080"/>
              <a:chOff x="6372360" y="4221000"/>
              <a:chExt cx="2592360" cy="2305080"/>
            </a:xfrm>
          </p:grpSpPr>
          <p:sp>
            <p:nvSpPr>
              <p:cNvPr id="170" name="Oval 15"/>
              <p:cNvSpPr/>
              <p:nvPr/>
            </p:nvSpPr>
            <p:spPr>
              <a:xfrm>
                <a:off x="6372360" y="4221000"/>
                <a:ext cx="2073240" cy="20955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7832880" y="5740200"/>
                <a:ext cx="801360" cy="7858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7832880" y="4377960"/>
                <a:ext cx="1131840" cy="11527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8"/>
              <p:cNvSpPr/>
              <p:nvPr/>
            </p:nvSpPr>
            <p:spPr>
              <a:xfrm>
                <a:off x="8256600" y="5163840"/>
                <a:ext cx="565200" cy="57636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9"/>
              <p:cNvSpPr/>
              <p:nvPr/>
            </p:nvSpPr>
            <p:spPr>
              <a:xfrm>
                <a:off x="7126200" y="5949720"/>
                <a:ext cx="565200" cy="576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>
                <a:off x="8445600" y="5635440"/>
                <a:ext cx="377640" cy="419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21"/>
          <p:cNvSpPr/>
          <p:nvPr/>
        </p:nvSpPr>
        <p:spPr>
          <a:xfrm>
            <a:off x="88920" y="3305160"/>
            <a:ext cx="490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метод кластеризации хорош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5653440" y="3284640"/>
            <a:ext cx="30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а практике час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 смысл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: проблем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mean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ет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ы сфер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, если кластеры вытяну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ы хорошо раздел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ы похожего объ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, если кластеры разного 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ы имеют сходное количество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, если элементов одного кластера намного больше, чем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ерархическая кластер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 древообразную иерархическую таксономию (дендрограмму) на основе множества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: рекурсивное применение алгоритма объединения наиболее похожих класт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61040" y="2819520"/>
            <a:ext cx="5898600" cy="1980360"/>
            <a:chOff x="1661040" y="2819520"/>
            <a:chExt cx="5898600" cy="1980360"/>
          </a:xfrm>
        </p:grpSpPr>
        <p:sp>
          <p:nvSpPr>
            <p:cNvPr id="183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2740680" y="33526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1661040" y="39621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5254920" y="33526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 flipH="1">
              <a:off x="3371760" y="313668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11840" y="313668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 flipH="1">
              <a:off x="1955520" y="364968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 flipH="1">
              <a:off x="2595600" y="364968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3346560" y="364968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3346560" y="364968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H="1">
              <a:off x="5375160" y="362556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5925960" y="363852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5925960" y="364968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8"/>
            <p:cNvGrpSpPr/>
            <p:nvPr/>
          </p:nvGrpSpPr>
          <p:grpSpPr>
            <a:xfrm>
              <a:off x="1752480" y="4267080"/>
              <a:ext cx="304920" cy="532800"/>
              <a:chOff x="1752480" y="4267080"/>
              <a:chExt cx="304920" cy="532800"/>
            </a:xfrm>
          </p:grpSpPr>
          <p:sp>
            <p:nvSpPr>
              <p:cNvPr id="197" name="Line 19"/>
              <p:cNvSpPr/>
              <p:nvPr/>
            </p:nvSpPr>
            <p:spPr>
              <a:xfrm flipH="1">
                <a:off x="1752480" y="426708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1916280" y="427608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2286000" y="4267080"/>
              <a:ext cx="304920" cy="532800"/>
              <a:chOff x="2286000" y="4267080"/>
              <a:chExt cx="304920" cy="532800"/>
            </a:xfrm>
          </p:grpSpPr>
          <p:sp>
            <p:nvSpPr>
              <p:cNvPr id="200" name="Line 22"/>
              <p:cNvSpPr/>
              <p:nvPr/>
            </p:nvSpPr>
            <p:spPr>
              <a:xfrm flipH="1">
                <a:off x="2286000" y="426708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>
                <a:off x="2449800" y="427608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4"/>
            <p:cNvGrpSpPr/>
            <p:nvPr/>
          </p:nvGrpSpPr>
          <p:grpSpPr>
            <a:xfrm>
              <a:off x="3124080" y="4267080"/>
              <a:ext cx="304920" cy="532800"/>
              <a:chOff x="3124080" y="4267080"/>
              <a:chExt cx="304920" cy="532800"/>
            </a:xfrm>
          </p:grpSpPr>
          <p:sp>
            <p:nvSpPr>
              <p:cNvPr id="203" name="Line 25"/>
              <p:cNvSpPr/>
              <p:nvPr/>
            </p:nvSpPr>
            <p:spPr>
              <a:xfrm flipH="1">
                <a:off x="3124080" y="426708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6"/>
              <p:cNvSpPr/>
              <p:nvPr/>
            </p:nvSpPr>
            <p:spPr>
              <a:xfrm>
                <a:off x="3287880" y="427608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7"/>
            <p:cNvGrpSpPr/>
            <p:nvPr/>
          </p:nvGrpSpPr>
          <p:grpSpPr>
            <a:xfrm>
              <a:off x="4038480" y="4267080"/>
              <a:ext cx="304920" cy="532800"/>
              <a:chOff x="4038480" y="4267080"/>
              <a:chExt cx="304920" cy="532800"/>
            </a:xfrm>
          </p:grpSpPr>
          <p:sp>
            <p:nvSpPr>
              <p:cNvPr id="206" name="Line 28"/>
              <p:cNvSpPr/>
              <p:nvPr/>
            </p:nvSpPr>
            <p:spPr>
              <a:xfrm flipH="1">
                <a:off x="4038480" y="426708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4202280" y="427608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5181480" y="4267080"/>
              <a:ext cx="304920" cy="532800"/>
              <a:chOff x="5181480" y="4267080"/>
              <a:chExt cx="304920" cy="532800"/>
            </a:xfrm>
          </p:grpSpPr>
          <p:sp>
            <p:nvSpPr>
              <p:cNvPr id="209" name="Line 31"/>
              <p:cNvSpPr/>
              <p:nvPr/>
            </p:nvSpPr>
            <p:spPr>
              <a:xfrm flipH="1">
                <a:off x="5181480" y="426708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>
                <a:off x="5345280" y="427608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33"/>
            <p:cNvGrpSpPr/>
            <p:nvPr/>
          </p:nvGrpSpPr>
          <p:grpSpPr>
            <a:xfrm>
              <a:off x="5790960" y="4267080"/>
              <a:ext cx="304560" cy="532800"/>
              <a:chOff x="5790960" y="4267080"/>
              <a:chExt cx="304560" cy="532800"/>
            </a:xfrm>
          </p:grpSpPr>
          <p:sp>
            <p:nvSpPr>
              <p:cNvPr id="212" name="Line 34"/>
              <p:cNvSpPr/>
              <p:nvPr/>
            </p:nvSpPr>
            <p:spPr>
              <a:xfrm flipH="1">
                <a:off x="5790960" y="426708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5"/>
              <p:cNvSpPr/>
              <p:nvPr/>
            </p:nvSpPr>
            <p:spPr>
              <a:xfrm>
                <a:off x="5954760" y="427608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6"/>
            <p:cNvGrpSpPr/>
            <p:nvPr/>
          </p:nvGrpSpPr>
          <p:grpSpPr>
            <a:xfrm>
              <a:off x="6705360" y="4267080"/>
              <a:ext cx="304560" cy="532800"/>
              <a:chOff x="6705360" y="4267080"/>
              <a:chExt cx="304560" cy="532800"/>
            </a:xfrm>
          </p:grpSpPr>
          <p:sp>
            <p:nvSpPr>
              <p:cNvPr id="215" name="Line 37"/>
              <p:cNvSpPr/>
              <p:nvPr/>
            </p:nvSpPr>
            <p:spPr>
              <a:xfrm flipH="1">
                <a:off x="6705360" y="426708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8"/>
              <p:cNvSpPr/>
              <p:nvPr/>
            </p:nvSpPr>
            <p:spPr>
              <a:xfrm>
                <a:off x="6869160" y="427608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ая кластеризация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текстовая 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разбить коллекцию на классы близки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созданы иерархические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 одно из важных средств для визуализации большой выдачи документов при пои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изуализации важно: хорошее название клас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стные агрегаторы (Яндекс.Новости, Рамблер.Нов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.News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тек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теризация результатов поиск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иг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дрограм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ерархическая класте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4038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43708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65142"/>
                </a:solidFill>
                <a:latin typeface="Arial"/>
                <a:ea typeface="Arial Unicode MS"/>
              </a:rPr>
              <a:t>Кластеризация получается обрезкой дендрограммы на заданном уровне: каждый связный компонент формирует отдельный кла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E91-AC51-4F62-803D-8D0A2EAC3D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"/>
          <p:cNvGrpSpPr/>
          <p:nvPr/>
        </p:nvGrpSpPr>
        <p:grpSpPr>
          <a:xfrm>
            <a:off x="4800600" y="1752120"/>
            <a:ext cx="4114440" cy="4267800"/>
            <a:chOff x="4800600" y="1752120"/>
            <a:chExt cx="4114440" cy="4267800"/>
          </a:xfrm>
        </p:grpSpPr>
        <p:sp>
          <p:nvSpPr>
            <p:cNvPr id="223" name="Oval 3"/>
            <p:cNvSpPr/>
            <p:nvPr/>
          </p:nvSpPr>
          <p:spPr>
            <a:xfrm>
              <a:off x="883620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"/>
            <p:cNvSpPr/>
            <p:nvPr/>
          </p:nvSpPr>
          <p:spPr>
            <a:xfrm>
              <a:off x="828252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776808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729324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6778800" y="5886360"/>
              <a:ext cx="7920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"/>
            <p:cNvSpPr/>
            <p:nvPr/>
          </p:nvSpPr>
          <p:spPr>
            <a:xfrm>
              <a:off x="626436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"/>
            <p:cNvSpPr/>
            <p:nvPr/>
          </p:nvSpPr>
          <p:spPr>
            <a:xfrm>
              <a:off x="578952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0"/>
            <p:cNvSpPr/>
            <p:nvPr/>
          </p:nvSpPr>
          <p:spPr>
            <a:xfrm>
              <a:off x="527508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4800600" y="5886360"/>
              <a:ext cx="78840" cy="133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4840200" y="5153040"/>
              <a:ext cx="4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>
              <a:off x="5315040" y="5153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6303960" y="5153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>
              <a:off x="6303960" y="5153040"/>
              <a:ext cx="5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6818400" y="5153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8321760" y="521964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>
              <a:off x="8321760" y="5219640"/>
              <a:ext cx="55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>
              <a:off x="8875800" y="521964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5077440" y="4485960"/>
              <a:ext cx="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5077440" y="4485960"/>
              <a:ext cx="75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>
              <a:off x="5829120" y="4485960"/>
              <a:ext cx="0" cy="14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3"/>
            <p:cNvSpPr/>
            <p:nvPr/>
          </p:nvSpPr>
          <p:spPr>
            <a:xfrm>
              <a:off x="6501960" y="4485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>
              <a:off x="6541200" y="4485960"/>
              <a:ext cx="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>
              <a:off x="6580800" y="448596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>
              <a:off x="7332840" y="4485960"/>
              <a:ext cx="0" cy="14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>
              <a:off x="6541200" y="448596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>
              <a:off x="6937200" y="375264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 flipV="1">
              <a:off x="7807680" y="3752640"/>
              <a:ext cx="0" cy="22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0"/>
            <p:cNvSpPr/>
            <p:nvPr/>
          </p:nvSpPr>
          <p:spPr>
            <a:xfrm>
              <a:off x="6937200" y="3752640"/>
              <a:ext cx="87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1"/>
            <p:cNvSpPr/>
            <p:nvPr/>
          </p:nvSpPr>
          <p:spPr>
            <a:xfrm>
              <a:off x="7372080" y="301932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2"/>
            <p:cNvSpPr/>
            <p:nvPr/>
          </p:nvSpPr>
          <p:spPr>
            <a:xfrm flipV="1">
              <a:off x="8598960" y="2952000"/>
              <a:ext cx="0" cy="226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3"/>
            <p:cNvSpPr/>
            <p:nvPr/>
          </p:nvSpPr>
          <p:spPr>
            <a:xfrm flipH="1">
              <a:off x="7371720" y="2952360"/>
              <a:ext cx="122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4"/>
            <p:cNvSpPr/>
            <p:nvPr/>
          </p:nvSpPr>
          <p:spPr>
            <a:xfrm flipV="1">
              <a:off x="7372080" y="2952000"/>
              <a:ext cx="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5"/>
            <p:cNvSpPr/>
            <p:nvPr/>
          </p:nvSpPr>
          <p:spPr>
            <a:xfrm>
              <a:off x="7965720" y="21524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6"/>
            <p:cNvSpPr/>
            <p:nvPr/>
          </p:nvSpPr>
          <p:spPr>
            <a:xfrm flipH="1">
              <a:off x="5512680" y="2152440"/>
              <a:ext cx="24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 flipV="1">
              <a:off x="5433480" y="215244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8"/>
            <p:cNvSpPr/>
            <p:nvPr/>
          </p:nvSpPr>
          <p:spPr>
            <a:xfrm>
              <a:off x="5710320" y="2152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9"/>
            <p:cNvSpPr/>
            <p:nvPr/>
          </p:nvSpPr>
          <p:spPr>
            <a:xfrm flipH="1">
              <a:off x="5433120" y="2152440"/>
              <a:ext cx="19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 flipV="1">
              <a:off x="6699600" y="175212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4840200" y="5153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0733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418px-Hierarchical_clustering_simple_diagram"/>
          <p:cNvPicPr/>
          <p:nvPr/>
        </p:nvPicPr>
        <p:blipFill>
          <a:blip r:embed="rId2"/>
          <a:stretch/>
        </p:blipFill>
        <p:spPr>
          <a:xfrm>
            <a:off x="4365720" y="1676520"/>
            <a:ext cx="4778280" cy="3806640"/>
          </a:xfrm>
          <a:prstGeom prst="rect">
            <a:avLst/>
          </a:prstGeom>
          <a:ln w="0">
            <a:noFill/>
          </a:ln>
        </p:spPr>
      </p:pic>
      <p:sp>
        <p:nvSpPr>
          <p:cNvPr id="264" name="Line 4"/>
          <p:cNvSpPr/>
          <p:nvPr/>
        </p:nvSpPr>
        <p:spPr>
          <a:xfrm>
            <a:off x="411480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гломеративная кластер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4356000" y="400536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ерархическая аггломеративная кластер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 с рассмотрения документов как отдельных класт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еративно объединяет ближайшую пару кластеров, до тех пор пока не останется один клас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объединения и образует бинарное дерево или иерарх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62120" y="5791320"/>
            <a:ext cx="183960" cy="36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ижайшая пара клас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пособов определения, что такое наиболее сходная пара класт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о по наиболее похожим докумен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ngle-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о по наиболее непохожим докум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о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о по наиболее похожим центро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косинус между парами элементов двух 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гломеративная кластеризация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максимальное сходство па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породить длинные и тонкие кластеры - цепо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клеиван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одство результирующего кластера к другому класт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1547640" y="2133720"/>
                <a:ext cx="6161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395280" y="5589720"/>
                <a:ext cx="8610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Box 5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8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8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0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теризация по всем связ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l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 наименее сходные па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более «плотные», сферические класте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клеи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о результирующего кластера с другим класте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1403280" y="1773360"/>
                <a:ext cx="6151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468360" y="4437000"/>
                <a:ext cx="853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3" name="AutoShape 10"/>
          <p:cNvCxnSpPr/>
          <p:nvPr/>
        </p:nvCxnSpPr>
        <p:spPr>
          <a:xfrm>
            <a:off x="5486400" y="598140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04" name="TextBox 1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Li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07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9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хорошая кластер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нутренний критер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Хорошая кластеризация производит качественные кластеры, в которых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 кластера сходство высо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классами – сходство низ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яемое качество кластеризации зависит и от документа, и от меры сх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е критерии качества кластер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измеряет способность кластеризации обнаруживать скрытые классы объектов в эталонных данных (gold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ценивает кластеризацию по отношению к «истинным» кластерам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 truth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бует </a:t>
            </a:r>
            <a:r>
              <a:rPr b="0" i="1" lang="ru-RU" sz="2800" spc="-1" strike="noStrike">
                <a:solidFill>
                  <a:srgbClr val="00a000"/>
                </a:solidFill>
                <a:latin typeface="Arial"/>
                <a:ea typeface="Arial"/>
              </a:rPr>
              <a:t>размеченн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им, что имеются документы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ыми кластер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как наш алгоритм порожд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…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K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шлые лекции: векторная модель представления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038840" cy="38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 оценка качества кластеров: чистот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стая м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между доминантным классом в класте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змером класт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1979640" y="3716280"/>
                <a:ext cx="5181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it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Oval 2"/>
          <p:cNvSpPr/>
          <p:nvPr/>
        </p:nvSpPr>
        <p:spPr>
          <a:xfrm>
            <a:off x="920880" y="1638360"/>
            <a:ext cx="1942920" cy="19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>
            <a:off x="3540240" y="1638360"/>
            <a:ext cx="1942920" cy="19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339966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"/>
          <p:cNvSpPr/>
          <p:nvPr/>
        </p:nvSpPr>
        <p:spPr>
          <a:xfrm>
            <a:off x="6462720" y="1638360"/>
            <a:ext cx="1942920" cy="19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339966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339966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339966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373040" y="4024440"/>
            <a:ext cx="10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887640" y="4024440"/>
            <a:ext cx="13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6934320" y="402444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197000" y="482904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: Purity = 1/6 (max(5, 1, 0)) =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183320" y="5595840"/>
            <a:ext cx="45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I: Purity = 1/6 (max(1, 4, 1)) = 4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1160640" y="630864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uster III: Purity = 1/5 (max(2, 0, 3)) = 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оценк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т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парами решений, здес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 = 0.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1373040"/>
          <a:ext cx="7772400" cy="5369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27016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о докумен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т же кластер в кластер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ные кластеры в кластер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т же кластер в этало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a000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  <a:ea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ой кластер в этало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a000"/>
                          </a:solidFill>
                          <a:latin typeface="Arial"/>
                          <a:ea typeface="Arial Unicode MS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Oval 21"/>
          <p:cNvSpPr/>
          <p:nvPr/>
        </p:nvSpPr>
        <p:spPr>
          <a:xfrm rot="2100000">
            <a:off x="3408120" y="4554000"/>
            <a:ext cx="434160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 inde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1676520" y="3863880"/>
                <a:ext cx="20206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479680" y="1919160"/>
                <a:ext cx="3692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562720" y="3863880"/>
                <a:ext cx="20206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Text Box 6"/>
          <p:cNvSpPr/>
          <p:nvPr/>
        </p:nvSpPr>
        <p:spPr>
          <a:xfrm>
            <a:off x="685800" y="328464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508"/>
                </a:solidFill>
                <a:latin typeface="Arial"/>
                <a:ea typeface="Arial Unicode MS"/>
              </a:rPr>
              <a:t>Сравним со стандартными полнотой и точностью</a:t>
            </a:r>
            <a:r>
              <a:rPr b="0" lang="en-US" sz="2800" spc="-1" strike="noStrike">
                <a:solidFill>
                  <a:srgbClr val="a40508"/>
                </a:solidFill>
                <a:latin typeface="Lucida Sans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5800" y="5410080"/>
            <a:ext cx="82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508"/>
                </a:solidFill>
                <a:latin typeface="Arial"/>
                <a:ea typeface="Arial Unicode MS"/>
              </a:rPr>
              <a:t>Возможно, лучшей мерой является F-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 кластеризации нов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обработ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стного по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пус документов постоянно попол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ное окно (24-72-120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ые раз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дубликатов, определение первоист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при сборе новостных сообщ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очи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да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мерские технологии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нов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22748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2057400" y="838080"/>
            <a:ext cx="4268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Diagram 5"/>
          <p:cNvGrpSpPr/>
          <p:nvPr/>
        </p:nvGrpSpPr>
        <p:grpSpPr>
          <a:xfrm>
            <a:off x="4800600" y="2872440"/>
            <a:ext cx="4241520" cy="3673080"/>
            <a:chOff x="4800600" y="2872440"/>
            <a:chExt cx="4241520" cy="3673080"/>
          </a:xfrm>
        </p:grpSpPr>
        <p:sp>
          <p:nvSpPr>
            <p:cNvPr id="365" name="_s8196"/>
            <p:cNvSpPr/>
            <p:nvPr/>
          </p:nvSpPr>
          <p:spPr>
            <a:xfrm flipV="1">
              <a:off x="6214320" y="2872440"/>
              <a:ext cx="1414080" cy="1224000"/>
            </a:xfrm>
            <a:custGeom>
              <a:avLst/>
              <a:gdLst>
                <a:gd name="textAreaLeft" fmla="*/ 507240 w 1414080"/>
                <a:gd name="textAreaRight" fmla="*/ 906840 w 141408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Глав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8197"/>
            <p:cNvSpPr/>
            <p:nvPr/>
          </p:nvSpPr>
          <p:spPr>
            <a:xfrm flipV="1">
              <a:off x="5507640" y="4096440"/>
              <a:ext cx="2827440" cy="122544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9280 h 1225440"/>
                <a:gd name="textAreaBottom" fmla="*/ 95616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Предыстор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8198"/>
            <p:cNvSpPr/>
            <p:nvPr/>
          </p:nvSpPr>
          <p:spPr>
            <a:xfrm flipV="1">
              <a:off x="4800600" y="5321520"/>
              <a:ext cx="4241520" cy="1223640"/>
            </a:xfrm>
            <a:custGeom>
              <a:avLst/>
              <a:gdLst>
                <a:gd name="textAreaLeft" fmla="*/ 736200 w 4241520"/>
                <a:gd name="textAreaRight" fmla="*/ 3505320 w 4241520"/>
                <a:gd name="textAreaTop" fmla="*/ 212400 h 1223640"/>
                <a:gd name="textAreaBottom" fmla="*/ 1011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Обсуждение, </a:t>
              </a:r>
              <a:br>
                <a:rPr sz="2800"/>
              </a:b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коммента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0"/>
          <p:cNvSpPr/>
          <p:nvPr/>
        </p:nvSpPr>
        <p:spPr>
          <a:xfrm>
            <a:off x="304920" y="3352680"/>
            <a:ext cx="487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диционное представление структуры нов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ернутая пирам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-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0" y="281448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-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80880" y="762120"/>
            <a:ext cx="8763120" cy="609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9-10-05 19:41:3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&amp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.Чубайс вошел в список лиц, причастных к аварии на СШГ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кс-глава РАО "ЕЭС России" Анатолий Чубайс назван одним из шести человек, которые, по мнению экспертов Ростехнадзора, были причастны к созданию условий аварии на Саяно-Шушенской ГЭС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этом говорится 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ме тог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помним, авария на Саяно-Шушенской ГЭС произошла 17 авг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аяно-Шушенский гидроэнергетический комплекс расположен на реке Енисей на юго-востоке Республики Хакасия в Саянском каньоне - у выхода реки в Минусинскую котловину. Комплекс включает Саяно-Шушенскую ГЭС и расположенный ниже по течению контррегулирующий Майнский гидроузел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ичная структура новостн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0" y="1077840"/>
            <a:ext cx="9372240" cy="5780160"/>
            <a:chOff x="0" y="1077840"/>
            <a:chExt cx="9372240" cy="5780160"/>
          </a:xfrm>
        </p:grpSpPr>
        <p:grpSp>
          <p:nvGrpSpPr>
            <p:cNvPr id="375" name="Group 3"/>
            <p:cNvGrpSpPr/>
            <p:nvPr/>
          </p:nvGrpSpPr>
          <p:grpSpPr>
            <a:xfrm>
              <a:off x="5040" y="1082520"/>
              <a:ext cx="9361440" cy="5770440"/>
              <a:chOff x="5040" y="1082520"/>
              <a:chExt cx="9361440" cy="5770440"/>
            </a:xfrm>
          </p:grpSpPr>
          <p:grpSp>
            <p:nvGrpSpPr>
              <p:cNvPr id="376" name="Group 4"/>
              <p:cNvGrpSpPr/>
              <p:nvPr/>
            </p:nvGrpSpPr>
            <p:grpSpPr>
              <a:xfrm>
                <a:off x="5040" y="1082520"/>
                <a:ext cx="918720" cy="915840"/>
                <a:chOff x="5040" y="1082520"/>
                <a:chExt cx="918720" cy="915840"/>
              </a:xfrm>
            </p:grpSpPr>
            <p:sp>
              <p:nvSpPr>
                <p:cNvPr id="377" name="Rectangle 5"/>
                <p:cNvSpPr/>
                <p:nvPr/>
              </p:nvSpPr>
              <p:spPr>
                <a:xfrm>
                  <a:off x="79200" y="1082520"/>
                  <a:ext cx="7707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3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6"/>
                <p:cNvSpPr/>
                <p:nvPr/>
              </p:nvSpPr>
              <p:spPr>
                <a:xfrm>
                  <a:off x="5040" y="1082520"/>
                  <a:ext cx="91872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7"/>
              <p:cNvGrpSpPr/>
              <p:nvPr/>
            </p:nvGrpSpPr>
            <p:grpSpPr>
              <a:xfrm>
                <a:off x="924120" y="1082520"/>
                <a:ext cx="1540080" cy="915840"/>
                <a:chOff x="924120" y="1082520"/>
                <a:chExt cx="1540080" cy="915840"/>
              </a:xfrm>
            </p:grpSpPr>
            <p:sp>
              <p:nvSpPr>
                <p:cNvPr id="380" name="Rectangle 8"/>
                <p:cNvSpPr/>
                <p:nvPr/>
              </p:nvSpPr>
              <p:spPr>
                <a:xfrm>
                  <a:off x="998280" y="1082520"/>
                  <a:ext cx="13921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6:08:5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9"/>
                <p:cNvSpPr/>
                <p:nvPr/>
              </p:nvSpPr>
              <p:spPr>
                <a:xfrm>
                  <a:off x="924120" y="1082520"/>
                  <a:ext cx="154008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10"/>
              <p:cNvGrpSpPr/>
              <p:nvPr/>
            </p:nvGrpSpPr>
            <p:grpSpPr>
              <a:xfrm>
                <a:off x="2464560" y="1082520"/>
                <a:ext cx="4641840" cy="915840"/>
                <a:chOff x="2464560" y="1082520"/>
                <a:chExt cx="4641840" cy="915840"/>
              </a:xfrm>
            </p:grpSpPr>
            <p:sp>
              <p:nvSpPr>
                <p:cNvPr id="383" name="Rectangle 11"/>
                <p:cNvSpPr/>
                <p:nvPr/>
              </p:nvSpPr>
              <p:spPr>
                <a:xfrm>
                  <a:off x="2538720" y="1082520"/>
                  <a:ext cx="44931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Игрок сборной Аргентины забил головой с сорока метр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2"/>
                <p:cNvSpPr/>
                <p:nvPr/>
              </p:nvSpPr>
              <p:spPr>
                <a:xfrm>
                  <a:off x="2464560" y="1082520"/>
                  <a:ext cx="46418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13"/>
              <p:cNvGrpSpPr/>
              <p:nvPr/>
            </p:nvGrpSpPr>
            <p:grpSpPr>
              <a:xfrm>
                <a:off x="7107120" y="1082520"/>
                <a:ext cx="2259360" cy="915840"/>
                <a:chOff x="7107120" y="1082520"/>
                <a:chExt cx="2259360" cy="915840"/>
              </a:xfrm>
            </p:grpSpPr>
            <p:sp>
              <p:nvSpPr>
                <p:cNvPr id="386" name="Rectangle 14"/>
                <p:cNvSpPr/>
                <p:nvPr/>
              </p:nvSpPr>
              <p:spPr>
                <a:xfrm>
                  <a:off x="7180920" y="1082520"/>
                  <a:ext cx="211140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TPO.ru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5"/>
                <p:cNvSpPr/>
                <p:nvPr/>
              </p:nvSpPr>
              <p:spPr>
                <a:xfrm>
                  <a:off x="7107120" y="1082520"/>
                  <a:ext cx="225936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6"/>
              <p:cNvGrpSpPr/>
              <p:nvPr/>
            </p:nvGrpSpPr>
            <p:grpSpPr>
              <a:xfrm>
                <a:off x="5040" y="1998360"/>
                <a:ext cx="918720" cy="916200"/>
                <a:chOff x="5040" y="1998360"/>
                <a:chExt cx="918720" cy="916200"/>
              </a:xfrm>
            </p:grpSpPr>
            <p:sp>
              <p:nvSpPr>
                <p:cNvPr id="389" name="Rectangle 17"/>
                <p:cNvSpPr/>
                <p:nvPr/>
              </p:nvSpPr>
              <p:spPr>
                <a:xfrm>
                  <a:off x="79200" y="1998360"/>
                  <a:ext cx="77076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8"/>
                <p:cNvSpPr/>
                <p:nvPr/>
              </p:nvSpPr>
              <p:spPr>
                <a:xfrm>
                  <a:off x="5040" y="1998360"/>
                  <a:ext cx="91872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9"/>
              <p:cNvGrpSpPr/>
              <p:nvPr/>
            </p:nvGrpSpPr>
            <p:grpSpPr>
              <a:xfrm>
                <a:off x="924120" y="1998360"/>
                <a:ext cx="1540080" cy="916200"/>
                <a:chOff x="924120" y="1998360"/>
                <a:chExt cx="1540080" cy="916200"/>
              </a:xfrm>
            </p:grpSpPr>
            <p:sp>
              <p:nvSpPr>
                <p:cNvPr id="392" name="Rectangle 20"/>
                <p:cNvSpPr/>
                <p:nvPr/>
              </p:nvSpPr>
              <p:spPr>
                <a:xfrm>
                  <a:off x="998280" y="1998360"/>
                  <a:ext cx="139212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6:16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21"/>
                <p:cNvSpPr/>
                <p:nvPr/>
              </p:nvSpPr>
              <p:spPr>
                <a:xfrm>
                  <a:off x="924120" y="1998360"/>
                  <a:ext cx="154008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22"/>
              <p:cNvGrpSpPr/>
              <p:nvPr/>
            </p:nvGrpSpPr>
            <p:grpSpPr>
              <a:xfrm>
                <a:off x="2464560" y="1998360"/>
                <a:ext cx="4641840" cy="916200"/>
                <a:chOff x="2464560" y="1998360"/>
                <a:chExt cx="4641840" cy="916200"/>
              </a:xfrm>
            </p:grpSpPr>
            <p:sp>
              <p:nvSpPr>
                <p:cNvPr id="395" name="Rectangle 23"/>
                <p:cNvSpPr/>
                <p:nvPr/>
              </p:nvSpPr>
              <p:spPr>
                <a:xfrm>
                  <a:off x="2538720" y="1998360"/>
                  <a:ext cx="449316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утболист забил головой с сорока метр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24"/>
                <p:cNvSpPr/>
                <p:nvPr/>
              </p:nvSpPr>
              <p:spPr>
                <a:xfrm>
                  <a:off x="2464560" y="1998360"/>
                  <a:ext cx="464184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25"/>
              <p:cNvGrpSpPr/>
              <p:nvPr/>
            </p:nvGrpSpPr>
            <p:grpSpPr>
              <a:xfrm>
                <a:off x="7107120" y="1998360"/>
                <a:ext cx="2259360" cy="916200"/>
                <a:chOff x="7107120" y="1998360"/>
                <a:chExt cx="2259360" cy="916200"/>
              </a:xfrm>
            </p:grpSpPr>
            <p:sp>
              <p:nvSpPr>
                <p:cNvPr id="398" name="Rectangle 26"/>
                <p:cNvSpPr/>
                <p:nvPr/>
              </p:nvSpPr>
              <p:spPr>
                <a:xfrm>
                  <a:off x="7180920" y="1998360"/>
                  <a:ext cx="211140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И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"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урсо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27"/>
                <p:cNvSpPr/>
                <p:nvPr/>
              </p:nvSpPr>
              <p:spPr>
                <a:xfrm>
                  <a:off x="7107120" y="1998360"/>
                  <a:ext cx="225936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28"/>
              <p:cNvGrpSpPr/>
              <p:nvPr/>
            </p:nvGrpSpPr>
            <p:grpSpPr>
              <a:xfrm>
                <a:off x="5040" y="2914560"/>
                <a:ext cx="918720" cy="1190520"/>
                <a:chOff x="5040" y="2914560"/>
                <a:chExt cx="918720" cy="1190520"/>
              </a:xfrm>
            </p:grpSpPr>
            <p:sp>
              <p:nvSpPr>
                <p:cNvPr id="401" name="Rectangle 29"/>
                <p:cNvSpPr/>
                <p:nvPr/>
              </p:nvSpPr>
              <p:spPr>
                <a:xfrm>
                  <a:off x="79200" y="2914560"/>
                  <a:ext cx="770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30"/>
                <p:cNvSpPr/>
                <p:nvPr/>
              </p:nvSpPr>
              <p:spPr>
                <a:xfrm>
                  <a:off x="5040" y="2914560"/>
                  <a:ext cx="91872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31"/>
              <p:cNvGrpSpPr/>
              <p:nvPr/>
            </p:nvGrpSpPr>
            <p:grpSpPr>
              <a:xfrm>
                <a:off x="924120" y="2914560"/>
                <a:ext cx="1540080" cy="1190520"/>
                <a:chOff x="924120" y="2914560"/>
                <a:chExt cx="1540080" cy="1190520"/>
              </a:xfrm>
            </p:grpSpPr>
            <p:sp>
              <p:nvSpPr>
                <p:cNvPr id="404" name="Rectangle 32"/>
                <p:cNvSpPr/>
                <p:nvPr/>
              </p:nvSpPr>
              <p:spPr>
                <a:xfrm>
                  <a:off x="998280" y="2914560"/>
                  <a:ext cx="139212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6:26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3"/>
                <p:cNvSpPr/>
                <p:nvPr/>
              </p:nvSpPr>
              <p:spPr>
                <a:xfrm>
                  <a:off x="924120" y="2914560"/>
                  <a:ext cx="154008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34"/>
              <p:cNvGrpSpPr/>
              <p:nvPr/>
            </p:nvGrpSpPr>
            <p:grpSpPr>
              <a:xfrm>
                <a:off x="2464560" y="2914560"/>
                <a:ext cx="4641840" cy="1190520"/>
                <a:chOff x="2464560" y="2914560"/>
                <a:chExt cx="4641840" cy="1190520"/>
              </a:xfrm>
            </p:grpSpPr>
            <p:sp>
              <p:nvSpPr>
                <p:cNvPr id="407" name="Rectangle 35"/>
                <p:cNvSpPr/>
                <p:nvPr/>
              </p:nvSpPr>
              <p:spPr>
                <a:xfrm>
                  <a:off x="2538720" y="2914560"/>
                  <a:ext cx="44931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ргентинский форвард забил победный гол ударом головой с середины поля (ВИДЕО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36"/>
                <p:cNvSpPr/>
                <p:nvPr/>
              </p:nvSpPr>
              <p:spPr>
                <a:xfrm>
                  <a:off x="2464560" y="2914560"/>
                  <a:ext cx="4641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37"/>
              <p:cNvGrpSpPr/>
              <p:nvPr/>
            </p:nvGrpSpPr>
            <p:grpSpPr>
              <a:xfrm>
                <a:off x="7107120" y="2914560"/>
                <a:ext cx="2259360" cy="1190520"/>
                <a:chOff x="7107120" y="2914560"/>
                <a:chExt cx="2259360" cy="1190520"/>
              </a:xfrm>
            </p:grpSpPr>
            <p:sp>
              <p:nvSpPr>
                <p:cNvPr id="410" name="Rectangle 38"/>
                <p:cNvSpPr/>
                <p:nvPr/>
              </p:nvSpPr>
              <p:spPr>
                <a:xfrm>
                  <a:off x="7180920" y="2914560"/>
                  <a:ext cx="2111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WSru.co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39"/>
                <p:cNvSpPr/>
                <p:nvPr/>
              </p:nvSpPr>
              <p:spPr>
                <a:xfrm>
                  <a:off x="7107120" y="2914560"/>
                  <a:ext cx="22593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40"/>
              <p:cNvGrpSpPr/>
              <p:nvPr/>
            </p:nvGrpSpPr>
            <p:grpSpPr>
              <a:xfrm>
                <a:off x="5040" y="4105080"/>
                <a:ext cx="918720" cy="916200"/>
                <a:chOff x="5040" y="4105080"/>
                <a:chExt cx="918720" cy="916200"/>
              </a:xfrm>
            </p:grpSpPr>
            <p:sp>
              <p:nvSpPr>
                <p:cNvPr id="413" name="Rectangle 41"/>
                <p:cNvSpPr/>
                <p:nvPr/>
              </p:nvSpPr>
              <p:spPr>
                <a:xfrm>
                  <a:off x="79200" y="4105080"/>
                  <a:ext cx="77076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42"/>
                <p:cNvSpPr/>
                <p:nvPr/>
              </p:nvSpPr>
              <p:spPr>
                <a:xfrm>
                  <a:off x="5040" y="4105080"/>
                  <a:ext cx="91872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43"/>
              <p:cNvGrpSpPr/>
              <p:nvPr/>
            </p:nvGrpSpPr>
            <p:grpSpPr>
              <a:xfrm>
                <a:off x="924120" y="4105080"/>
                <a:ext cx="1540080" cy="916200"/>
                <a:chOff x="924120" y="4105080"/>
                <a:chExt cx="1540080" cy="916200"/>
              </a:xfrm>
            </p:grpSpPr>
            <p:sp>
              <p:nvSpPr>
                <p:cNvPr id="416" name="Rectangle 44"/>
                <p:cNvSpPr/>
                <p:nvPr/>
              </p:nvSpPr>
              <p:spPr>
                <a:xfrm>
                  <a:off x="998280" y="4105080"/>
                  <a:ext cx="139212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6:51: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45"/>
                <p:cNvSpPr/>
                <p:nvPr/>
              </p:nvSpPr>
              <p:spPr>
                <a:xfrm>
                  <a:off x="924120" y="4105080"/>
                  <a:ext cx="154008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46"/>
              <p:cNvGrpSpPr/>
              <p:nvPr/>
            </p:nvGrpSpPr>
            <p:grpSpPr>
              <a:xfrm>
                <a:off x="2464560" y="4105080"/>
                <a:ext cx="4641840" cy="916200"/>
                <a:chOff x="2464560" y="4105080"/>
                <a:chExt cx="4641840" cy="916200"/>
              </a:xfrm>
            </p:grpSpPr>
            <p:sp>
              <p:nvSpPr>
                <p:cNvPr id="419" name="Rectangle 47"/>
                <p:cNvSpPr/>
                <p:nvPr/>
              </p:nvSpPr>
              <p:spPr>
                <a:xfrm>
                  <a:off x="2538720" y="4105080"/>
                  <a:ext cx="449316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ргентинский футболист забил гол ударом головой с 40 метр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48"/>
                <p:cNvSpPr/>
                <p:nvPr/>
              </p:nvSpPr>
              <p:spPr>
                <a:xfrm>
                  <a:off x="2464560" y="4105080"/>
                  <a:ext cx="464184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49"/>
              <p:cNvGrpSpPr/>
              <p:nvPr/>
            </p:nvGrpSpPr>
            <p:grpSpPr>
              <a:xfrm>
                <a:off x="7107120" y="4105080"/>
                <a:ext cx="2259360" cy="916200"/>
                <a:chOff x="7107120" y="4105080"/>
                <a:chExt cx="2259360" cy="916200"/>
              </a:xfrm>
            </p:grpSpPr>
            <p:sp>
              <p:nvSpPr>
                <p:cNvPr id="422" name="Rectangle 50"/>
                <p:cNvSpPr/>
                <p:nvPr/>
              </p:nvSpPr>
              <p:spPr>
                <a:xfrm>
                  <a:off x="7180920" y="4105080"/>
                  <a:ext cx="2111400" cy="9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ergyl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51"/>
                <p:cNvSpPr/>
                <p:nvPr/>
              </p:nvSpPr>
              <p:spPr>
                <a:xfrm>
                  <a:off x="7107120" y="4105080"/>
                  <a:ext cx="2259360" cy="91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2"/>
              <p:cNvGrpSpPr/>
              <p:nvPr/>
            </p:nvGrpSpPr>
            <p:grpSpPr>
              <a:xfrm>
                <a:off x="5040" y="5021280"/>
                <a:ext cx="918720" cy="915840"/>
                <a:chOff x="5040" y="5021280"/>
                <a:chExt cx="918720" cy="915840"/>
              </a:xfrm>
            </p:grpSpPr>
            <p:sp>
              <p:nvSpPr>
                <p:cNvPr id="425" name="Rectangle 53"/>
                <p:cNvSpPr/>
                <p:nvPr/>
              </p:nvSpPr>
              <p:spPr>
                <a:xfrm>
                  <a:off x="79200" y="5021280"/>
                  <a:ext cx="7707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54"/>
                <p:cNvSpPr/>
                <p:nvPr/>
              </p:nvSpPr>
              <p:spPr>
                <a:xfrm>
                  <a:off x="5040" y="5021280"/>
                  <a:ext cx="91872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55"/>
              <p:cNvGrpSpPr/>
              <p:nvPr/>
            </p:nvGrpSpPr>
            <p:grpSpPr>
              <a:xfrm>
                <a:off x="924120" y="5021280"/>
                <a:ext cx="1540080" cy="915840"/>
                <a:chOff x="924120" y="5021280"/>
                <a:chExt cx="1540080" cy="915840"/>
              </a:xfrm>
            </p:grpSpPr>
            <p:sp>
              <p:nvSpPr>
                <p:cNvPr id="428" name="Rectangle 56"/>
                <p:cNvSpPr/>
                <p:nvPr/>
              </p:nvSpPr>
              <p:spPr>
                <a:xfrm>
                  <a:off x="998280" y="5021280"/>
                  <a:ext cx="13921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8:29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57"/>
                <p:cNvSpPr/>
                <p:nvPr/>
              </p:nvSpPr>
              <p:spPr>
                <a:xfrm>
                  <a:off x="924120" y="5021280"/>
                  <a:ext cx="154008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58"/>
              <p:cNvGrpSpPr/>
              <p:nvPr/>
            </p:nvGrpSpPr>
            <p:grpSpPr>
              <a:xfrm>
                <a:off x="2464560" y="5021280"/>
                <a:ext cx="4641840" cy="915840"/>
                <a:chOff x="2464560" y="5021280"/>
                <a:chExt cx="4641840" cy="915840"/>
              </a:xfrm>
            </p:grpSpPr>
            <p:sp>
              <p:nvSpPr>
                <p:cNvPr id="431" name="Rectangle 59"/>
                <p:cNvSpPr/>
                <p:nvPr/>
              </p:nvSpPr>
              <p:spPr>
                <a:xfrm>
                  <a:off x="2538720" y="5021280"/>
                  <a:ext cx="44931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Удар головой с 40 метров завершился голом (видео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0"/>
                <p:cNvSpPr/>
                <p:nvPr/>
              </p:nvSpPr>
              <p:spPr>
                <a:xfrm>
                  <a:off x="2464560" y="5021280"/>
                  <a:ext cx="46418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61"/>
              <p:cNvGrpSpPr/>
              <p:nvPr/>
            </p:nvGrpSpPr>
            <p:grpSpPr>
              <a:xfrm>
                <a:off x="7107120" y="5021280"/>
                <a:ext cx="2259360" cy="915840"/>
                <a:chOff x="7107120" y="5021280"/>
                <a:chExt cx="2259360" cy="915840"/>
              </a:xfrm>
            </p:grpSpPr>
            <p:sp>
              <p:nvSpPr>
                <p:cNvPr id="434" name="Rectangle 62"/>
                <p:cNvSpPr/>
                <p:nvPr/>
              </p:nvSpPr>
              <p:spPr>
                <a:xfrm>
                  <a:off x="7180920" y="5021280"/>
                  <a:ext cx="211140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утбол. Плюс. Хокке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63"/>
                <p:cNvSpPr/>
                <p:nvPr/>
              </p:nvSpPr>
              <p:spPr>
                <a:xfrm>
                  <a:off x="7107120" y="5021280"/>
                  <a:ext cx="225936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64"/>
              <p:cNvGrpSpPr/>
              <p:nvPr/>
            </p:nvGrpSpPr>
            <p:grpSpPr>
              <a:xfrm>
                <a:off x="5040" y="5937120"/>
                <a:ext cx="918720" cy="915840"/>
                <a:chOff x="5040" y="5937120"/>
                <a:chExt cx="918720" cy="915840"/>
              </a:xfrm>
            </p:grpSpPr>
            <p:sp>
              <p:nvSpPr>
                <p:cNvPr id="437" name="Rectangle 65"/>
                <p:cNvSpPr/>
                <p:nvPr/>
              </p:nvSpPr>
              <p:spPr>
                <a:xfrm>
                  <a:off x="79200" y="5937120"/>
                  <a:ext cx="7707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1,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66"/>
                <p:cNvSpPr/>
                <p:nvPr/>
              </p:nvSpPr>
              <p:spPr>
                <a:xfrm>
                  <a:off x="5040" y="5937120"/>
                  <a:ext cx="91872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67"/>
              <p:cNvGrpSpPr/>
              <p:nvPr/>
            </p:nvGrpSpPr>
            <p:grpSpPr>
              <a:xfrm>
                <a:off x="924120" y="5937120"/>
                <a:ext cx="1540080" cy="915840"/>
                <a:chOff x="924120" y="5937120"/>
                <a:chExt cx="1540080" cy="915840"/>
              </a:xfrm>
            </p:grpSpPr>
            <p:sp>
              <p:nvSpPr>
                <p:cNvPr id="440" name="Rectangle 68"/>
                <p:cNvSpPr/>
                <p:nvPr/>
              </p:nvSpPr>
              <p:spPr>
                <a:xfrm>
                  <a:off x="998280" y="5937120"/>
                  <a:ext cx="13921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19:57:1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69"/>
                <p:cNvSpPr/>
                <p:nvPr/>
              </p:nvSpPr>
              <p:spPr>
                <a:xfrm>
                  <a:off x="924120" y="5937120"/>
                  <a:ext cx="154008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70"/>
              <p:cNvGrpSpPr/>
              <p:nvPr/>
            </p:nvGrpSpPr>
            <p:grpSpPr>
              <a:xfrm>
                <a:off x="2464560" y="5937120"/>
                <a:ext cx="4641840" cy="915840"/>
                <a:chOff x="2464560" y="5937120"/>
                <a:chExt cx="4641840" cy="915840"/>
              </a:xfrm>
            </p:grpSpPr>
            <p:sp>
              <p:nvSpPr>
                <p:cNvPr id="443" name="Rectangle 71"/>
                <p:cNvSpPr/>
                <p:nvPr/>
              </p:nvSpPr>
              <p:spPr>
                <a:xfrm>
                  <a:off x="2538720" y="5937120"/>
                  <a:ext cx="44931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ргентинский футболист забил гол ударом головой с 40 метров (видео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72"/>
                <p:cNvSpPr/>
                <p:nvPr/>
              </p:nvSpPr>
              <p:spPr>
                <a:xfrm>
                  <a:off x="2464560" y="5937120"/>
                  <a:ext cx="46418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73"/>
              <p:cNvGrpSpPr/>
              <p:nvPr/>
            </p:nvGrpSpPr>
            <p:grpSpPr>
              <a:xfrm>
                <a:off x="7107120" y="5937120"/>
                <a:ext cx="2259360" cy="915840"/>
                <a:chOff x="7107120" y="5937120"/>
                <a:chExt cx="2259360" cy="915840"/>
              </a:xfrm>
            </p:grpSpPr>
            <p:sp>
              <p:nvSpPr>
                <p:cNvPr id="446" name="Rectangle 74"/>
                <p:cNvSpPr/>
                <p:nvPr/>
              </p:nvSpPr>
              <p:spPr>
                <a:xfrm>
                  <a:off x="7180920" y="5937120"/>
                  <a:ext cx="211140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утбол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75"/>
                <p:cNvSpPr/>
                <p:nvPr/>
              </p:nvSpPr>
              <p:spPr>
                <a:xfrm>
                  <a:off x="7107120" y="5937120"/>
                  <a:ext cx="225936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Rectangle 76"/>
            <p:cNvSpPr/>
            <p:nvPr/>
          </p:nvSpPr>
          <p:spPr>
            <a:xfrm>
              <a:off x="0" y="1077840"/>
              <a:ext cx="9372240" cy="5780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гмент хорошо определен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стного кл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гмент сложного новостного кл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240" y="12958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0" y="457200"/>
            <a:ext cx="10362960" cy="6172200"/>
            <a:chOff x="0" y="457200"/>
            <a:chExt cx="10362960" cy="6172200"/>
          </a:xfrm>
        </p:grpSpPr>
        <p:grpSp>
          <p:nvGrpSpPr>
            <p:cNvPr id="453" name="Group 5"/>
            <p:cNvGrpSpPr/>
            <p:nvPr/>
          </p:nvGrpSpPr>
          <p:grpSpPr>
            <a:xfrm>
              <a:off x="4680" y="459360"/>
              <a:ext cx="10351800" cy="6167520"/>
              <a:chOff x="4680" y="459360"/>
              <a:chExt cx="10351800" cy="6167520"/>
            </a:xfrm>
          </p:grpSpPr>
          <p:grpSp>
            <p:nvGrpSpPr>
              <p:cNvPr id="454" name="Group 6"/>
              <p:cNvGrpSpPr/>
              <p:nvPr/>
            </p:nvGrpSpPr>
            <p:grpSpPr>
              <a:xfrm>
                <a:off x="4680" y="459360"/>
                <a:ext cx="907200" cy="616680"/>
                <a:chOff x="4680" y="459360"/>
                <a:chExt cx="907200" cy="616680"/>
              </a:xfrm>
            </p:grpSpPr>
            <p:sp>
              <p:nvSpPr>
                <p:cNvPr id="455" name="Rectangle 7"/>
                <p:cNvSpPr/>
                <p:nvPr/>
              </p:nvSpPr>
              <p:spPr>
                <a:xfrm>
                  <a:off x="77760" y="45936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0,2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8"/>
                <p:cNvSpPr/>
                <p:nvPr/>
              </p:nvSpPr>
              <p:spPr>
                <a:xfrm>
                  <a:off x="4680" y="45936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9"/>
              <p:cNvGrpSpPr/>
              <p:nvPr/>
            </p:nvGrpSpPr>
            <p:grpSpPr>
              <a:xfrm>
                <a:off x="912240" y="459360"/>
                <a:ext cx="1520640" cy="616680"/>
                <a:chOff x="912240" y="459360"/>
                <a:chExt cx="1520640" cy="616680"/>
              </a:xfrm>
            </p:grpSpPr>
            <p:sp>
              <p:nvSpPr>
                <p:cNvPr id="458" name="Rectangle 10"/>
                <p:cNvSpPr/>
                <p:nvPr/>
              </p:nvSpPr>
              <p:spPr>
                <a:xfrm>
                  <a:off x="985320" y="45936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6:16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1"/>
                <p:cNvSpPr/>
                <p:nvPr/>
              </p:nvSpPr>
              <p:spPr>
                <a:xfrm>
                  <a:off x="912240" y="45936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12"/>
              <p:cNvGrpSpPr/>
              <p:nvPr/>
            </p:nvGrpSpPr>
            <p:grpSpPr>
              <a:xfrm>
                <a:off x="2433240" y="459360"/>
                <a:ext cx="4951080" cy="616680"/>
                <a:chOff x="2433240" y="459360"/>
                <a:chExt cx="4951080" cy="616680"/>
              </a:xfrm>
            </p:grpSpPr>
            <p:sp>
              <p:nvSpPr>
                <p:cNvPr id="461" name="Rectangle 13"/>
                <p:cNvSpPr/>
                <p:nvPr/>
              </p:nvSpPr>
              <p:spPr>
                <a:xfrm>
                  <a:off x="2506320" y="45936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Шпилька в бок / Износ 98%? - продолжаем работать! :: Обществ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14"/>
                <p:cNvSpPr/>
                <p:nvPr/>
              </p:nvSpPr>
              <p:spPr>
                <a:xfrm>
                  <a:off x="2433240" y="45936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15"/>
              <p:cNvGrpSpPr/>
              <p:nvPr/>
            </p:nvGrpSpPr>
            <p:grpSpPr>
              <a:xfrm>
                <a:off x="7384680" y="459360"/>
                <a:ext cx="2971800" cy="616680"/>
                <a:chOff x="7384680" y="459360"/>
                <a:chExt cx="2971800" cy="616680"/>
              </a:xfrm>
            </p:grpSpPr>
            <p:sp>
              <p:nvSpPr>
                <p:cNvPr id="464" name="Rectangle 16"/>
                <p:cNvSpPr/>
                <p:nvPr/>
              </p:nvSpPr>
              <p:spPr>
                <a:xfrm>
                  <a:off x="7457760" y="45936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askor.ru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7"/>
                <p:cNvSpPr/>
                <p:nvPr/>
              </p:nvSpPr>
              <p:spPr>
                <a:xfrm>
                  <a:off x="7384680" y="45936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18"/>
              <p:cNvGrpSpPr/>
              <p:nvPr/>
            </p:nvGrpSpPr>
            <p:grpSpPr>
              <a:xfrm>
                <a:off x="4680" y="1076040"/>
                <a:ext cx="907200" cy="616680"/>
                <a:chOff x="4680" y="1076040"/>
                <a:chExt cx="907200" cy="616680"/>
              </a:xfrm>
            </p:grpSpPr>
            <p:sp>
              <p:nvSpPr>
                <p:cNvPr id="467" name="Rectangle 19"/>
                <p:cNvSpPr/>
                <p:nvPr/>
              </p:nvSpPr>
              <p:spPr>
                <a:xfrm>
                  <a:off x="77760" y="107604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9999"/>
                      </a:solidFill>
                      <a:latin typeface="Arial"/>
                      <a:ea typeface="Arial"/>
                    </a:rPr>
                    <a:t>0,3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20"/>
                <p:cNvSpPr/>
                <p:nvPr/>
              </p:nvSpPr>
              <p:spPr>
                <a:xfrm>
                  <a:off x="4680" y="107604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21"/>
              <p:cNvGrpSpPr/>
              <p:nvPr/>
            </p:nvGrpSpPr>
            <p:grpSpPr>
              <a:xfrm>
                <a:off x="912240" y="1076040"/>
                <a:ext cx="1520640" cy="616680"/>
                <a:chOff x="912240" y="1076040"/>
                <a:chExt cx="1520640" cy="616680"/>
              </a:xfrm>
            </p:grpSpPr>
            <p:sp>
              <p:nvSpPr>
                <p:cNvPr id="470" name="Rectangle 22"/>
                <p:cNvSpPr/>
                <p:nvPr/>
              </p:nvSpPr>
              <p:spPr>
                <a:xfrm>
                  <a:off x="985320" y="107604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15:2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23"/>
                <p:cNvSpPr/>
                <p:nvPr/>
              </p:nvSpPr>
              <p:spPr>
                <a:xfrm>
                  <a:off x="912240" y="107604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24"/>
              <p:cNvGrpSpPr/>
              <p:nvPr/>
            </p:nvGrpSpPr>
            <p:grpSpPr>
              <a:xfrm>
                <a:off x="2433240" y="1076040"/>
                <a:ext cx="4951080" cy="616680"/>
                <a:chOff x="2433240" y="1076040"/>
                <a:chExt cx="4951080" cy="616680"/>
              </a:xfrm>
            </p:grpSpPr>
            <p:sp>
              <p:nvSpPr>
                <p:cNvPr id="473" name="Rectangle 25"/>
                <p:cNvSpPr/>
                <p:nvPr/>
              </p:nvSpPr>
              <p:spPr>
                <a:xfrm>
                  <a:off x="2506320" y="107604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Виновников трагедии на ГЭС назовет СК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26"/>
                <p:cNvSpPr/>
                <p:nvPr/>
              </p:nvSpPr>
              <p:spPr>
                <a:xfrm>
                  <a:off x="2433240" y="107604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27"/>
              <p:cNvGrpSpPr/>
              <p:nvPr/>
            </p:nvGrpSpPr>
            <p:grpSpPr>
              <a:xfrm>
                <a:off x="7384680" y="1076040"/>
                <a:ext cx="2971800" cy="616680"/>
                <a:chOff x="7384680" y="1076040"/>
                <a:chExt cx="2971800" cy="616680"/>
              </a:xfrm>
            </p:grpSpPr>
            <p:sp>
              <p:nvSpPr>
                <p:cNvPr id="476" name="Rectangle 28"/>
                <p:cNvSpPr/>
                <p:nvPr/>
              </p:nvSpPr>
              <p:spPr>
                <a:xfrm>
                  <a:off x="7457760" y="107604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TPO.ru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29"/>
                <p:cNvSpPr/>
                <p:nvPr/>
              </p:nvSpPr>
              <p:spPr>
                <a:xfrm>
                  <a:off x="7384680" y="107604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30"/>
              <p:cNvGrpSpPr/>
              <p:nvPr/>
            </p:nvGrpSpPr>
            <p:grpSpPr>
              <a:xfrm>
                <a:off x="4680" y="1692720"/>
                <a:ext cx="907200" cy="616680"/>
                <a:chOff x="4680" y="1692720"/>
                <a:chExt cx="907200" cy="616680"/>
              </a:xfrm>
            </p:grpSpPr>
            <p:sp>
              <p:nvSpPr>
                <p:cNvPr id="479" name="Rectangle 31"/>
                <p:cNvSpPr/>
                <p:nvPr/>
              </p:nvSpPr>
              <p:spPr>
                <a:xfrm>
                  <a:off x="77760" y="169272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32"/>
                <p:cNvSpPr/>
                <p:nvPr/>
              </p:nvSpPr>
              <p:spPr>
                <a:xfrm>
                  <a:off x="4680" y="169272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33"/>
              <p:cNvGrpSpPr/>
              <p:nvPr/>
            </p:nvGrpSpPr>
            <p:grpSpPr>
              <a:xfrm>
                <a:off x="912240" y="1692720"/>
                <a:ext cx="1520640" cy="616680"/>
                <a:chOff x="912240" y="1692720"/>
                <a:chExt cx="1520640" cy="616680"/>
              </a:xfrm>
            </p:grpSpPr>
            <p:sp>
              <p:nvSpPr>
                <p:cNvPr id="482" name="Rectangle 34"/>
                <p:cNvSpPr/>
                <p:nvPr/>
              </p:nvSpPr>
              <p:spPr>
                <a:xfrm>
                  <a:off x="985320" y="169272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33:3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35"/>
                <p:cNvSpPr/>
                <p:nvPr/>
              </p:nvSpPr>
              <p:spPr>
                <a:xfrm>
                  <a:off x="912240" y="169272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 36"/>
              <p:cNvGrpSpPr/>
              <p:nvPr/>
            </p:nvGrpSpPr>
            <p:grpSpPr>
              <a:xfrm>
                <a:off x="2433240" y="1692720"/>
                <a:ext cx="4951080" cy="616680"/>
                <a:chOff x="2433240" y="1692720"/>
                <a:chExt cx="4951080" cy="616680"/>
              </a:xfrm>
            </p:grpSpPr>
            <p:sp>
              <p:nvSpPr>
                <p:cNvPr id="485" name="Rectangle 37"/>
                <p:cNvSpPr/>
                <p:nvPr/>
              </p:nvSpPr>
              <p:spPr>
                <a:xfrm>
                  <a:off x="2506320" y="169272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остехнадзор утвердил методику проверок ГЭ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38"/>
                <p:cNvSpPr/>
                <p:nvPr/>
              </p:nvSpPr>
              <p:spPr>
                <a:xfrm>
                  <a:off x="2433240" y="169272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39"/>
              <p:cNvGrpSpPr/>
              <p:nvPr/>
            </p:nvGrpSpPr>
            <p:grpSpPr>
              <a:xfrm>
                <a:off x="7384680" y="1692720"/>
                <a:ext cx="2971800" cy="616680"/>
                <a:chOff x="7384680" y="1692720"/>
                <a:chExt cx="2971800" cy="616680"/>
              </a:xfrm>
            </p:grpSpPr>
            <p:sp>
              <p:nvSpPr>
                <p:cNvPr id="488" name="Rectangle 40"/>
                <p:cNvSpPr/>
                <p:nvPr/>
              </p:nvSpPr>
              <p:spPr>
                <a:xfrm>
                  <a:off x="7457760" y="169272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Ведомости – 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лента новосте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Rectangle 41"/>
                <p:cNvSpPr/>
                <p:nvPr/>
              </p:nvSpPr>
              <p:spPr>
                <a:xfrm>
                  <a:off x="7384680" y="169272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42"/>
              <p:cNvGrpSpPr/>
              <p:nvPr/>
            </p:nvGrpSpPr>
            <p:grpSpPr>
              <a:xfrm>
                <a:off x="4680" y="2309400"/>
                <a:ext cx="907200" cy="616680"/>
                <a:chOff x="4680" y="2309400"/>
                <a:chExt cx="907200" cy="616680"/>
              </a:xfrm>
            </p:grpSpPr>
            <p:sp>
              <p:nvSpPr>
                <p:cNvPr id="491" name="Rectangle 43"/>
                <p:cNvSpPr/>
                <p:nvPr/>
              </p:nvSpPr>
              <p:spPr>
                <a:xfrm>
                  <a:off x="77760" y="230940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0,2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44"/>
                <p:cNvSpPr/>
                <p:nvPr/>
              </p:nvSpPr>
              <p:spPr>
                <a:xfrm>
                  <a:off x="4680" y="230940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45"/>
              <p:cNvGrpSpPr/>
              <p:nvPr/>
            </p:nvGrpSpPr>
            <p:grpSpPr>
              <a:xfrm>
                <a:off x="912240" y="2309400"/>
                <a:ext cx="1520640" cy="616680"/>
                <a:chOff x="912240" y="2309400"/>
                <a:chExt cx="1520640" cy="616680"/>
              </a:xfrm>
            </p:grpSpPr>
            <p:sp>
              <p:nvSpPr>
                <p:cNvPr id="494" name="Rectangle 46"/>
                <p:cNvSpPr/>
                <p:nvPr/>
              </p:nvSpPr>
              <p:spPr>
                <a:xfrm>
                  <a:off x="985320" y="230940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37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47"/>
                <p:cNvSpPr/>
                <p:nvPr/>
              </p:nvSpPr>
              <p:spPr>
                <a:xfrm>
                  <a:off x="912240" y="230940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48"/>
              <p:cNvGrpSpPr/>
              <p:nvPr/>
            </p:nvGrpSpPr>
            <p:grpSpPr>
              <a:xfrm>
                <a:off x="2433240" y="2309400"/>
                <a:ext cx="4951080" cy="616680"/>
                <a:chOff x="2433240" y="2309400"/>
                <a:chExt cx="4951080" cy="616680"/>
              </a:xfrm>
            </p:grpSpPr>
            <p:sp>
              <p:nvSpPr>
                <p:cNvPr id="497" name="Rectangle 49"/>
                <p:cNvSpPr/>
                <p:nvPr/>
              </p:nvSpPr>
              <p:spPr>
                <a:xfrm>
                  <a:off x="2506320" y="230940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Дело об аварии на ГЭС передано Главному управлению СКП Р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50"/>
                <p:cNvSpPr/>
                <p:nvPr/>
              </p:nvSpPr>
              <p:spPr>
                <a:xfrm>
                  <a:off x="2433240" y="230940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51"/>
              <p:cNvGrpSpPr/>
              <p:nvPr/>
            </p:nvGrpSpPr>
            <p:grpSpPr>
              <a:xfrm>
                <a:off x="7384680" y="2309400"/>
                <a:ext cx="2971800" cy="616680"/>
                <a:chOff x="7384680" y="2309400"/>
                <a:chExt cx="2971800" cy="616680"/>
              </a:xfrm>
            </p:grpSpPr>
            <p:sp>
              <p:nvSpPr>
                <p:cNvPr id="500" name="Rectangle 52"/>
                <p:cNvSpPr/>
                <p:nvPr/>
              </p:nvSpPr>
              <p:spPr>
                <a:xfrm>
                  <a:off x="7457760" y="230940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ПРАВО.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U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53"/>
                <p:cNvSpPr/>
                <p:nvPr/>
              </p:nvSpPr>
              <p:spPr>
                <a:xfrm>
                  <a:off x="7384680" y="230940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54"/>
              <p:cNvGrpSpPr/>
              <p:nvPr/>
            </p:nvGrpSpPr>
            <p:grpSpPr>
              <a:xfrm>
                <a:off x="4680" y="2926080"/>
                <a:ext cx="907200" cy="616680"/>
                <a:chOff x="4680" y="2926080"/>
                <a:chExt cx="907200" cy="616680"/>
              </a:xfrm>
            </p:grpSpPr>
            <p:sp>
              <p:nvSpPr>
                <p:cNvPr id="503" name="Rectangle 55"/>
                <p:cNvSpPr/>
                <p:nvPr/>
              </p:nvSpPr>
              <p:spPr>
                <a:xfrm>
                  <a:off x="77760" y="292608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9999"/>
                      </a:solidFill>
                      <a:latin typeface="Arial"/>
                      <a:ea typeface="Arial"/>
                    </a:rPr>
                    <a:t>0,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56"/>
                <p:cNvSpPr/>
                <p:nvPr/>
              </p:nvSpPr>
              <p:spPr>
                <a:xfrm>
                  <a:off x="4680" y="292608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7"/>
              <p:cNvGrpSpPr/>
              <p:nvPr/>
            </p:nvGrpSpPr>
            <p:grpSpPr>
              <a:xfrm>
                <a:off x="912240" y="2926080"/>
                <a:ext cx="1520640" cy="616680"/>
                <a:chOff x="912240" y="2926080"/>
                <a:chExt cx="1520640" cy="616680"/>
              </a:xfrm>
            </p:grpSpPr>
            <p:sp>
              <p:nvSpPr>
                <p:cNvPr id="506" name="Rectangle 58"/>
                <p:cNvSpPr/>
                <p:nvPr/>
              </p:nvSpPr>
              <p:spPr>
                <a:xfrm>
                  <a:off x="985320" y="292608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42:5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59"/>
                <p:cNvSpPr/>
                <p:nvPr/>
              </p:nvSpPr>
              <p:spPr>
                <a:xfrm>
                  <a:off x="912240" y="292608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60"/>
              <p:cNvGrpSpPr/>
              <p:nvPr/>
            </p:nvGrpSpPr>
            <p:grpSpPr>
              <a:xfrm>
                <a:off x="2433240" y="2926080"/>
                <a:ext cx="4951080" cy="616680"/>
                <a:chOff x="2433240" y="2926080"/>
                <a:chExt cx="4951080" cy="616680"/>
              </a:xfrm>
            </p:grpSpPr>
            <p:sp>
              <p:nvSpPr>
                <p:cNvPr id="509" name="Rectangle 61"/>
                <p:cNvSpPr/>
                <p:nvPr/>
              </p:nvSpPr>
              <p:spPr>
                <a:xfrm>
                  <a:off x="2506320" y="292608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Списки лиц, ответственных за аварию на СШГЭС, могут быть расширены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62"/>
                <p:cNvSpPr/>
                <p:nvPr/>
              </p:nvSpPr>
              <p:spPr>
                <a:xfrm>
                  <a:off x="2433240" y="292608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63"/>
              <p:cNvGrpSpPr/>
              <p:nvPr/>
            </p:nvGrpSpPr>
            <p:grpSpPr>
              <a:xfrm>
                <a:off x="7384680" y="2926080"/>
                <a:ext cx="2971800" cy="616680"/>
                <a:chOff x="7384680" y="2926080"/>
                <a:chExt cx="2971800" cy="616680"/>
              </a:xfrm>
            </p:grpSpPr>
            <p:sp>
              <p:nvSpPr>
                <p:cNvPr id="512" name="Rectangle 64"/>
                <p:cNvSpPr/>
                <p:nvPr/>
              </p:nvSpPr>
              <p:spPr>
                <a:xfrm>
                  <a:off x="7457760" y="292608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БК. Главные 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новост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65"/>
                <p:cNvSpPr/>
                <p:nvPr/>
              </p:nvSpPr>
              <p:spPr>
                <a:xfrm>
                  <a:off x="7384680" y="292608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66"/>
              <p:cNvGrpSpPr/>
              <p:nvPr/>
            </p:nvGrpSpPr>
            <p:grpSpPr>
              <a:xfrm>
                <a:off x="4680" y="3542760"/>
                <a:ext cx="907200" cy="616680"/>
                <a:chOff x="4680" y="3542760"/>
                <a:chExt cx="907200" cy="616680"/>
              </a:xfrm>
            </p:grpSpPr>
            <p:sp>
              <p:nvSpPr>
                <p:cNvPr id="515" name="Rectangle 67"/>
                <p:cNvSpPr/>
                <p:nvPr/>
              </p:nvSpPr>
              <p:spPr>
                <a:xfrm>
                  <a:off x="77760" y="354276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0,2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68"/>
                <p:cNvSpPr/>
                <p:nvPr/>
              </p:nvSpPr>
              <p:spPr>
                <a:xfrm>
                  <a:off x="4680" y="354276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69"/>
              <p:cNvGrpSpPr/>
              <p:nvPr/>
            </p:nvGrpSpPr>
            <p:grpSpPr>
              <a:xfrm>
                <a:off x="912240" y="3542760"/>
                <a:ext cx="1520640" cy="616680"/>
                <a:chOff x="912240" y="3542760"/>
                <a:chExt cx="1520640" cy="616680"/>
              </a:xfrm>
            </p:grpSpPr>
            <p:sp>
              <p:nvSpPr>
                <p:cNvPr id="518" name="Rectangle 70"/>
                <p:cNvSpPr/>
                <p:nvPr/>
              </p:nvSpPr>
              <p:spPr>
                <a:xfrm>
                  <a:off x="985320" y="354276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52:3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71"/>
                <p:cNvSpPr/>
                <p:nvPr/>
              </p:nvSpPr>
              <p:spPr>
                <a:xfrm>
                  <a:off x="912240" y="354276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72"/>
              <p:cNvGrpSpPr/>
              <p:nvPr/>
            </p:nvGrpSpPr>
            <p:grpSpPr>
              <a:xfrm>
                <a:off x="2433240" y="3542760"/>
                <a:ext cx="4951080" cy="616680"/>
                <a:chOff x="2433240" y="3542760"/>
                <a:chExt cx="4951080" cy="616680"/>
              </a:xfrm>
            </p:grpSpPr>
            <p:sp>
              <p:nvSpPr>
                <p:cNvPr id="521" name="Rectangle 73"/>
                <p:cNvSpPr/>
                <p:nvPr/>
              </p:nvSpPr>
              <p:spPr>
                <a:xfrm>
                  <a:off x="2506320" y="354276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Ростехнадзор утвердил методику проверок ГЭ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74"/>
                <p:cNvSpPr/>
                <p:nvPr/>
              </p:nvSpPr>
              <p:spPr>
                <a:xfrm>
                  <a:off x="2433240" y="354276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75"/>
              <p:cNvGrpSpPr/>
              <p:nvPr/>
            </p:nvGrpSpPr>
            <p:grpSpPr>
              <a:xfrm>
                <a:off x="7384680" y="3542760"/>
                <a:ext cx="2971800" cy="616680"/>
                <a:chOff x="7384680" y="3542760"/>
                <a:chExt cx="2971800" cy="616680"/>
              </a:xfrm>
            </p:grpSpPr>
            <p:sp>
              <p:nvSpPr>
                <p:cNvPr id="524" name="Rectangle 76"/>
                <p:cNvSpPr/>
                <p:nvPr/>
              </p:nvSpPr>
              <p:spPr>
                <a:xfrm>
                  <a:off x="7457760" y="354276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Голос России – 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новост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77"/>
                <p:cNvSpPr/>
                <p:nvPr/>
              </p:nvSpPr>
              <p:spPr>
                <a:xfrm>
                  <a:off x="7384680" y="354276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78"/>
              <p:cNvGrpSpPr/>
              <p:nvPr/>
            </p:nvGrpSpPr>
            <p:grpSpPr>
              <a:xfrm>
                <a:off x="4680" y="4159800"/>
                <a:ext cx="907200" cy="616680"/>
                <a:chOff x="4680" y="4159800"/>
                <a:chExt cx="907200" cy="616680"/>
              </a:xfrm>
            </p:grpSpPr>
            <p:sp>
              <p:nvSpPr>
                <p:cNvPr id="527" name="Rectangle 79"/>
                <p:cNvSpPr/>
                <p:nvPr/>
              </p:nvSpPr>
              <p:spPr>
                <a:xfrm>
                  <a:off x="77760" y="415980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0,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80"/>
                <p:cNvSpPr/>
                <p:nvPr/>
              </p:nvSpPr>
              <p:spPr>
                <a:xfrm>
                  <a:off x="4680" y="415980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81"/>
              <p:cNvGrpSpPr/>
              <p:nvPr/>
            </p:nvGrpSpPr>
            <p:grpSpPr>
              <a:xfrm>
                <a:off x="912240" y="4159800"/>
                <a:ext cx="1520640" cy="616680"/>
                <a:chOff x="912240" y="4159800"/>
                <a:chExt cx="1520640" cy="616680"/>
              </a:xfrm>
            </p:grpSpPr>
            <p:sp>
              <p:nvSpPr>
                <p:cNvPr id="530" name="Rectangle 82"/>
                <p:cNvSpPr/>
                <p:nvPr/>
              </p:nvSpPr>
              <p:spPr>
                <a:xfrm>
                  <a:off x="985320" y="415980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.10.05 19:54: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83"/>
                <p:cNvSpPr/>
                <p:nvPr/>
              </p:nvSpPr>
              <p:spPr>
                <a:xfrm>
                  <a:off x="912240" y="415980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84"/>
              <p:cNvGrpSpPr/>
              <p:nvPr/>
            </p:nvGrpSpPr>
            <p:grpSpPr>
              <a:xfrm>
                <a:off x="2433240" y="4159800"/>
                <a:ext cx="4951080" cy="616680"/>
                <a:chOff x="2433240" y="4159800"/>
                <a:chExt cx="4951080" cy="616680"/>
              </a:xfrm>
            </p:grpSpPr>
            <p:sp>
              <p:nvSpPr>
                <p:cNvPr id="533" name="Rectangle 85"/>
                <p:cNvSpPr/>
                <p:nvPr/>
              </p:nvSpPr>
              <p:spPr>
                <a:xfrm>
                  <a:off x="2506320" y="415980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Секреты долгожителя Чубай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86"/>
                <p:cNvSpPr/>
                <p:nvPr/>
              </p:nvSpPr>
              <p:spPr>
                <a:xfrm>
                  <a:off x="2433240" y="415980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87"/>
              <p:cNvGrpSpPr/>
              <p:nvPr/>
            </p:nvGrpSpPr>
            <p:grpSpPr>
              <a:xfrm>
                <a:off x="7384680" y="4159800"/>
                <a:ext cx="2971800" cy="616680"/>
                <a:chOff x="7384680" y="4159800"/>
                <a:chExt cx="2971800" cy="616680"/>
              </a:xfrm>
            </p:grpSpPr>
            <p:sp>
              <p:nvSpPr>
                <p:cNvPr id="536" name="Rectangle 88"/>
                <p:cNvSpPr/>
                <p:nvPr/>
              </p:nvSpPr>
              <p:spPr>
                <a:xfrm>
                  <a:off x="7457760" y="415980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vobodanews.ru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89"/>
                <p:cNvSpPr/>
                <p:nvPr/>
              </p:nvSpPr>
              <p:spPr>
                <a:xfrm>
                  <a:off x="7384680" y="415980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90"/>
              <p:cNvGrpSpPr/>
              <p:nvPr/>
            </p:nvGrpSpPr>
            <p:grpSpPr>
              <a:xfrm>
                <a:off x="4680" y="4776480"/>
                <a:ext cx="907200" cy="616680"/>
                <a:chOff x="4680" y="4776480"/>
                <a:chExt cx="907200" cy="616680"/>
              </a:xfrm>
            </p:grpSpPr>
            <p:sp>
              <p:nvSpPr>
                <p:cNvPr id="539" name="Rectangle 91"/>
                <p:cNvSpPr/>
                <p:nvPr/>
              </p:nvSpPr>
              <p:spPr>
                <a:xfrm>
                  <a:off x="77760" y="477648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92"/>
                <p:cNvSpPr/>
                <p:nvPr/>
              </p:nvSpPr>
              <p:spPr>
                <a:xfrm>
                  <a:off x="4680" y="477648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93"/>
              <p:cNvGrpSpPr/>
              <p:nvPr/>
            </p:nvGrpSpPr>
            <p:grpSpPr>
              <a:xfrm>
                <a:off x="912240" y="4776480"/>
                <a:ext cx="1520640" cy="616680"/>
                <a:chOff x="912240" y="4776480"/>
                <a:chExt cx="1520640" cy="616680"/>
              </a:xfrm>
            </p:grpSpPr>
            <p:sp>
              <p:nvSpPr>
                <p:cNvPr id="542" name="Rectangle 94"/>
                <p:cNvSpPr/>
                <p:nvPr/>
              </p:nvSpPr>
              <p:spPr>
                <a:xfrm>
                  <a:off x="985320" y="477648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20:06: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95"/>
                <p:cNvSpPr/>
                <p:nvPr/>
              </p:nvSpPr>
              <p:spPr>
                <a:xfrm>
                  <a:off x="912240" y="477648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96"/>
              <p:cNvGrpSpPr/>
              <p:nvPr/>
            </p:nvGrpSpPr>
            <p:grpSpPr>
              <a:xfrm>
                <a:off x="2433240" y="4776480"/>
                <a:ext cx="4951080" cy="616680"/>
                <a:chOff x="2433240" y="4776480"/>
                <a:chExt cx="4951080" cy="616680"/>
              </a:xfrm>
            </p:grpSpPr>
            <p:sp>
              <p:nvSpPr>
                <p:cNvPr id="545" name="Rectangle 97"/>
                <p:cNvSpPr/>
                <p:nvPr/>
              </p:nvSpPr>
              <p:spPr>
                <a:xfrm>
                  <a:off x="2506320" y="477648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остехнадзор продолжит изучать последствия аварии на СШГЭ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98"/>
                <p:cNvSpPr/>
                <p:nvPr/>
              </p:nvSpPr>
              <p:spPr>
                <a:xfrm>
                  <a:off x="2433240" y="477648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99"/>
              <p:cNvGrpSpPr/>
              <p:nvPr/>
            </p:nvGrpSpPr>
            <p:grpSpPr>
              <a:xfrm>
                <a:off x="7384680" y="4776480"/>
                <a:ext cx="2971800" cy="616680"/>
                <a:chOff x="7384680" y="4776480"/>
                <a:chExt cx="2971800" cy="616680"/>
              </a:xfrm>
            </p:grpSpPr>
            <p:sp>
              <p:nvSpPr>
                <p:cNvPr id="548" name="Rectangle 100"/>
                <p:cNvSpPr/>
                <p:nvPr/>
              </p:nvSpPr>
              <p:spPr>
                <a:xfrm>
                  <a:off x="7457760" y="477648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еловая газета 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"Взгляд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101"/>
                <p:cNvSpPr/>
                <p:nvPr/>
              </p:nvSpPr>
              <p:spPr>
                <a:xfrm>
                  <a:off x="7384680" y="477648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02"/>
              <p:cNvGrpSpPr/>
              <p:nvPr/>
            </p:nvGrpSpPr>
            <p:grpSpPr>
              <a:xfrm>
                <a:off x="4680" y="5393160"/>
                <a:ext cx="907200" cy="616680"/>
                <a:chOff x="4680" y="5393160"/>
                <a:chExt cx="907200" cy="616680"/>
              </a:xfrm>
            </p:grpSpPr>
            <p:sp>
              <p:nvSpPr>
                <p:cNvPr id="551" name="Rectangle 103"/>
                <p:cNvSpPr/>
                <p:nvPr/>
              </p:nvSpPr>
              <p:spPr>
                <a:xfrm>
                  <a:off x="77760" y="539316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0,6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104"/>
                <p:cNvSpPr/>
                <p:nvPr/>
              </p:nvSpPr>
              <p:spPr>
                <a:xfrm>
                  <a:off x="4680" y="539316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105"/>
              <p:cNvGrpSpPr/>
              <p:nvPr/>
            </p:nvGrpSpPr>
            <p:grpSpPr>
              <a:xfrm>
                <a:off x="912240" y="5393160"/>
                <a:ext cx="1520640" cy="616680"/>
                <a:chOff x="912240" y="5393160"/>
                <a:chExt cx="1520640" cy="616680"/>
              </a:xfrm>
            </p:grpSpPr>
            <p:sp>
              <p:nvSpPr>
                <p:cNvPr id="554" name="Rectangle 106"/>
                <p:cNvSpPr/>
                <p:nvPr/>
              </p:nvSpPr>
              <p:spPr>
                <a:xfrm>
                  <a:off x="985320" y="539316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20:36:0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107"/>
                <p:cNvSpPr/>
                <p:nvPr/>
              </p:nvSpPr>
              <p:spPr>
                <a:xfrm>
                  <a:off x="912240" y="539316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108"/>
              <p:cNvGrpSpPr/>
              <p:nvPr/>
            </p:nvGrpSpPr>
            <p:grpSpPr>
              <a:xfrm>
                <a:off x="2433240" y="5393160"/>
                <a:ext cx="4951080" cy="616680"/>
                <a:chOff x="2433240" y="5393160"/>
                <a:chExt cx="4951080" cy="616680"/>
              </a:xfrm>
            </p:grpSpPr>
            <p:sp>
              <p:nvSpPr>
                <p:cNvPr id="557" name="Rectangle 109"/>
                <p:cNvSpPr/>
                <p:nvPr/>
              </p:nvSpPr>
              <p:spPr>
                <a:xfrm>
                  <a:off x="2506320" y="539316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Ответственных за аварию на Саяно-Шушенской ГЭС станет больш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110"/>
                <p:cNvSpPr/>
                <p:nvPr/>
              </p:nvSpPr>
              <p:spPr>
                <a:xfrm>
                  <a:off x="2433240" y="539316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111"/>
              <p:cNvGrpSpPr/>
              <p:nvPr/>
            </p:nvGrpSpPr>
            <p:grpSpPr>
              <a:xfrm>
                <a:off x="7384680" y="5393160"/>
                <a:ext cx="2971800" cy="616680"/>
                <a:chOff x="7384680" y="5393160"/>
                <a:chExt cx="2971800" cy="616680"/>
              </a:xfrm>
            </p:grpSpPr>
            <p:sp>
              <p:nvSpPr>
                <p:cNvPr id="560" name="Rectangle 112"/>
                <p:cNvSpPr/>
                <p:nvPr/>
              </p:nvSpPr>
              <p:spPr>
                <a:xfrm>
                  <a:off x="7457760" y="539316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Gnews.com.ua - Украин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113"/>
                <p:cNvSpPr/>
                <p:nvPr/>
              </p:nvSpPr>
              <p:spPr>
                <a:xfrm>
                  <a:off x="7384680" y="539316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114"/>
              <p:cNvGrpSpPr/>
              <p:nvPr/>
            </p:nvGrpSpPr>
            <p:grpSpPr>
              <a:xfrm>
                <a:off x="4680" y="6010200"/>
                <a:ext cx="907200" cy="616680"/>
                <a:chOff x="4680" y="6010200"/>
                <a:chExt cx="907200" cy="616680"/>
              </a:xfrm>
            </p:grpSpPr>
            <p:sp>
              <p:nvSpPr>
                <p:cNvPr id="563" name="Rectangle 115"/>
                <p:cNvSpPr/>
                <p:nvPr/>
              </p:nvSpPr>
              <p:spPr>
                <a:xfrm>
                  <a:off x="77760" y="6010200"/>
                  <a:ext cx="7610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1,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116"/>
                <p:cNvSpPr/>
                <p:nvPr/>
              </p:nvSpPr>
              <p:spPr>
                <a:xfrm>
                  <a:off x="4680" y="6010200"/>
                  <a:ext cx="9072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117"/>
              <p:cNvGrpSpPr/>
              <p:nvPr/>
            </p:nvGrpSpPr>
            <p:grpSpPr>
              <a:xfrm>
                <a:off x="912240" y="6010200"/>
                <a:ext cx="1520640" cy="616680"/>
                <a:chOff x="912240" y="6010200"/>
                <a:chExt cx="1520640" cy="616680"/>
              </a:xfrm>
            </p:grpSpPr>
            <p:sp>
              <p:nvSpPr>
                <p:cNvPr id="566" name="Rectangle 118"/>
                <p:cNvSpPr/>
                <p:nvPr/>
              </p:nvSpPr>
              <p:spPr>
                <a:xfrm>
                  <a:off x="985320" y="6010200"/>
                  <a:ext cx="137448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9.10.05 20:51:3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119"/>
                <p:cNvSpPr/>
                <p:nvPr/>
              </p:nvSpPr>
              <p:spPr>
                <a:xfrm>
                  <a:off x="912240" y="6010200"/>
                  <a:ext cx="152064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120"/>
              <p:cNvGrpSpPr/>
              <p:nvPr/>
            </p:nvGrpSpPr>
            <p:grpSpPr>
              <a:xfrm>
                <a:off x="2433240" y="6010200"/>
                <a:ext cx="4951080" cy="616680"/>
                <a:chOff x="2433240" y="6010200"/>
                <a:chExt cx="4951080" cy="616680"/>
              </a:xfrm>
            </p:grpSpPr>
            <p:sp>
              <p:nvSpPr>
                <p:cNvPr id="569" name="Rectangle 121"/>
                <p:cNvSpPr/>
                <p:nvPr/>
              </p:nvSpPr>
              <p:spPr>
                <a:xfrm>
                  <a:off x="2506320" y="6010200"/>
                  <a:ext cx="480492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Ростехнадзор пообещал расширить список виновных в аварии на Саяно-Шушенской ГЭ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22"/>
                <p:cNvSpPr/>
                <p:nvPr/>
              </p:nvSpPr>
              <p:spPr>
                <a:xfrm>
                  <a:off x="2433240" y="6010200"/>
                  <a:ext cx="495108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3"/>
              <p:cNvGrpSpPr/>
              <p:nvPr/>
            </p:nvGrpSpPr>
            <p:grpSpPr>
              <a:xfrm>
                <a:off x="7384680" y="6010200"/>
                <a:ext cx="2971800" cy="616680"/>
                <a:chOff x="7384680" y="6010200"/>
                <a:chExt cx="2971800" cy="616680"/>
              </a:xfrm>
            </p:grpSpPr>
            <p:sp>
              <p:nvSpPr>
                <p:cNvPr id="572" name="Rectangle 124"/>
                <p:cNvSpPr/>
                <p:nvPr/>
              </p:nvSpPr>
              <p:spPr>
                <a:xfrm>
                  <a:off x="7457760" y="6010200"/>
                  <a:ext cx="2825640" cy="61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егКорреспондент.net - Украина - Росс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125"/>
                <p:cNvSpPr/>
                <p:nvPr/>
              </p:nvSpPr>
              <p:spPr>
                <a:xfrm>
                  <a:off x="7384680" y="6010200"/>
                  <a:ext cx="2971800" cy="61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Rectangle 126"/>
            <p:cNvSpPr/>
            <p:nvPr/>
          </p:nvSpPr>
          <p:spPr>
            <a:xfrm>
              <a:off x="0" y="457200"/>
              <a:ext cx="1036296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Документы как вектора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6986880" cy="5057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655400" y="-331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бования к кластер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ация времени рабо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аксимально 15-30 мину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(главное сообщ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сех кластер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только больших, но и мал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перепеч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24000" y="4076640"/>
            <a:ext cx="8229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важнее полн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онность класт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ручного вмешатель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тировка класт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тировка представления на порт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для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3851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ip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125360"/>
          <a:ext cx="7859520" cy="307188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Шеварднад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.11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.12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выб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.04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Object 26"/>
          <p:cNvGraphicFramePr/>
          <p:nvPr/>
        </p:nvGraphicFramePr>
        <p:xfrm>
          <a:off x="4572000" y="4508640"/>
          <a:ext cx="4464000" cy="234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508640"/>
                    <a:ext cx="4464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лонн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87280" y="1196640"/>
            <a:ext cx="885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ред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зуализировать, сортировать кластеры 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е, близости к центру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близкие кластеры к рассматриваемому (кандидаты на склей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ть близкие клас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ять существующие клас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0" y="31680"/>
            <a:ext cx="8893080" cy="68263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4985640" y="33051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е кластеры тоже пох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2"/>
          <a:stretch/>
        </p:blipFill>
        <p:spPr>
          <a:xfrm>
            <a:off x="0" y="31680"/>
            <a:ext cx="8893080" cy="68263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6"/>
          <p:cNvSpPr/>
          <p:nvPr/>
        </p:nvSpPr>
        <p:spPr>
          <a:xfrm>
            <a:off x="5056200" y="4024440"/>
            <a:ext cx="35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работы 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ще более слож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теризации судеб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ие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124000" y="1916280"/>
          <a:ext cx="5040360" cy="2449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0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Text Box 14"/>
          <p:cNvSpPr/>
          <p:nvPr/>
        </p:nvSpPr>
        <p:spPr>
          <a:xfrm>
            <a:off x="2123280" y="765000"/>
            <a:ext cx="26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ало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и п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клас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4787280" y="765000"/>
            <a:ext cx="26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ало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и п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класт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-1440" y="184464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следуем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 в од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-1440" y="321300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следуем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 в ра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т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755640" y="48690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: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N11 / (N11 + N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N11 / (N11 + N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: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* P * R / (P +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сравн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0" y="836640"/>
          <a:ext cx="9144000" cy="5816520"/>
        </p:xfrm>
        <a:graphic>
          <a:graphicData uri="http://schemas.openxmlformats.org/drawingml/2006/table">
            <a:tbl>
              <a:tblPr/>
              <a:tblGrid>
                <a:gridCol w="1303200"/>
                <a:gridCol w="2033640"/>
                <a:gridCol w="1887480"/>
                <a:gridCol w="2032200"/>
                <a:gridCol w="188748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-11-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-12-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-04-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:20: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52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83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3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aver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68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S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:20: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51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1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=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86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=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5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=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6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=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-Me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:15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5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rations = 0,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 = 0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2 = 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ue = 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85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rations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2 = 0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ue = 0,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6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rations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2 = 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ue = 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rations = 0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ining2 = 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ue = 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glom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:15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5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8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aver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5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glom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57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40:40: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aver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8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40:3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9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20:5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40:3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заурус в кластер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640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ные способы векторизации дл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а кластеризации Agglom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08000" y="1600200"/>
          <a:ext cx="9036000" cy="3379680"/>
        </p:xfrm>
        <a:graphic>
          <a:graphicData uri="http://schemas.openxmlformats.org/drawingml/2006/table">
            <a:tbl>
              <a:tblPr/>
              <a:tblGrid>
                <a:gridCol w="2259000"/>
                <a:gridCol w="2259000"/>
                <a:gridCol w="2259000"/>
                <a:gridCol w="2259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(0, 0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только загол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(100 ,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только лемм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(x,0,100-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ез тезауру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H = (x,y,100-x-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0,4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0,5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0,6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CH = 70:0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= 0,7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= 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CH = 40:3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=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shold = 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46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качестве заключения: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ариативность кластер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0" y="914400"/>
            <a:ext cx="3123720" cy="3428640"/>
            <a:chOff x="0" y="914400"/>
            <a:chExt cx="3123720" cy="3428640"/>
          </a:xfrm>
        </p:grpSpPr>
        <p:sp>
          <p:nvSpPr>
            <p:cNvPr id="606" name="Oval 4"/>
            <p:cNvSpPr/>
            <p:nvPr/>
          </p:nvSpPr>
          <p:spPr>
            <a:xfrm>
              <a:off x="43920" y="1016280"/>
              <a:ext cx="3079800" cy="32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5"/>
            <p:cNvSpPr/>
            <p:nvPr/>
          </p:nvSpPr>
          <p:spPr>
            <a:xfrm>
              <a:off x="483840" y="2239920"/>
              <a:ext cx="228240" cy="3186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"/>
            <p:cNvSpPr/>
            <p:nvPr/>
          </p:nvSpPr>
          <p:spPr>
            <a:xfrm>
              <a:off x="1451880" y="914400"/>
              <a:ext cx="228240" cy="318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7"/>
            <p:cNvSpPr/>
            <p:nvPr/>
          </p:nvSpPr>
          <p:spPr>
            <a:xfrm>
              <a:off x="2156040" y="1067040"/>
              <a:ext cx="228240" cy="318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8"/>
            <p:cNvSpPr/>
            <p:nvPr/>
          </p:nvSpPr>
          <p:spPr>
            <a:xfrm>
              <a:off x="2816280" y="1679040"/>
              <a:ext cx="228240" cy="318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9"/>
            <p:cNvSpPr/>
            <p:nvPr/>
          </p:nvSpPr>
          <p:spPr>
            <a:xfrm>
              <a:off x="2728080" y="3514680"/>
              <a:ext cx="228240" cy="3186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0"/>
            <p:cNvSpPr/>
            <p:nvPr/>
          </p:nvSpPr>
          <p:spPr>
            <a:xfrm>
              <a:off x="2376000" y="3820680"/>
              <a:ext cx="228240" cy="3186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1"/>
            <p:cNvSpPr/>
            <p:nvPr/>
          </p:nvSpPr>
          <p:spPr>
            <a:xfrm>
              <a:off x="1936080" y="4024440"/>
              <a:ext cx="228240" cy="3186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2"/>
            <p:cNvSpPr/>
            <p:nvPr/>
          </p:nvSpPr>
          <p:spPr>
            <a:xfrm>
              <a:off x="572040" y="3820680"/>
              <a:ext cx="228240" cy="3186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>
              <a:off x="87840" y="3259800"/>
              <a:ext cx="228240" cy="3186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4"/>
            <p:cNvSpPr/>
            <p:nvPr/>
          </p:nvSpPr>
          <p:spPr>
            <a:xfrm>
              <a:off x="0" y="2138040"/>
              <a:ext cx="228240" cy="3186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5"/>
            <p:cNvSpPr/>
            <p:nvPr/>
          </p:nvSpPr>
          <p:spPr>
            <a:xfrm>
              <a:off x="2860200" y="3157920"/>
              <a:ext cx="228240" cy="3186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6"/>
            <p:cNvSpPr/>
            <p:nvPr/>
          </p:nvSpPr>
          <p:spPr>
            <a:xfrm>
              <a:off x="527760" y="1474920"/>
              <a:ext cx="2112120" cy="234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7"/>
            <p:cNvSpPr/>
            <p:nvPr/>
          </p:nvSpPr>
          <p:spPr>
            <a:xfrm>
              <a:off x="527760" y="3004920"/>
              <a:ext cx="228240" cy="3186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8"/>
            <p:cNvSpPr/>
            <p:nvPr/>
          </p:nvSpPr>
          <p:spPr>
            <a:xfrm>
              <a:off x="879840" y="3362040"/>
              <a:ext cx="228240" cy="3186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9"/>
            <p:cNvSpPr/>
            <p:nvPr/>
          </p:nvSpPr>
          <p:spPr>
            <a:xfrm>
              <a:off x="1803960" y="3527640"/>
              <a:ext cx="228240" cy="29304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0"/>
            <p:cNvSpPr/>
            <p:nvPr/>
          </p:nvSpPr>
          <p:spPr>
            <a:xfrm>
              <a:off x="2112120" y="3362040"/>
              <a:ext cx="228240" cy="29304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1"/>
            <p:cNvSpPr/>
            <p:nvPr/>
          </p:nvSpPr>
          <p:spPr>
            <a:xfrm>
              <a:off x="2420280" y="2953800"/>
              <a:ext cx="228240" cy="29304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2"/>
            <p:cNvSpPr/>
            <p:nvPr/>
          </p:nvSpPr>
          <p:spPr>
            <a:xfrm>
              <a:off x="2420280" y="1985040"/>
              <a:ext cx="228240" cy="29304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3"/>
            <p:cNvSpPr/>
            <p:nvPr/>
          </p:nvSpPr>
          <p:spPr>
            <a:xfrm>
              <a:off x="1451880" y="1373040"/>
              <a:ext cx="228240" cy="2930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4"/>
            <p:cNvSpPr/>
            <p:nvPr/>
          </p:nvSpPr>
          <p:spPr>
            <a:xfrm>
              <a:off x="1055880" y="1985040"/>
              <a:ext cx="1143720" cy="127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25"/>
            <p:cNvSpPr/>
            <p:nvPr/>
          </p:nvSpPr>
          <p:spPr>
            <a:xfrm>
              <a:off x="1980000" y="2698920"/>
              <a:ext cx="228240" cy="2930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6"/>
            <p:cNvSpPr/>
            <p:nvPr/>
          </p:nvSpPr>
          <p:spPr>
            <a:xfrm>
              <a:off x="1671840" y="3056040"/>
              <a:ext cx="228240" cy="2930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7"/>
            <p:cNvSpPr/>
            <p:nvPr/>
          </p:nvSpPr>
          <p:spPr>
            <a:xfrm>
              <a:off x="1451880" y="1882800"/>
              <a:ext cx="228240" cy="2930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8"/>
            <p:cNvSpPr/>
            <p:nvPr/>
          </p:nvSpPr>
          <p:spPr>
            <a:xfrm>
              <a:off x="1980000" y="2239920"/>
              <a:ext cx="228240" cy="2930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9"/>
            <p:cNvSpPr/>
            <p:nvPr/>
          </p:nvSpPr>
          <p:spPr>
            <a:xfrm>
              <a:off x="1100160" y="2953800"/>
              <a:ext cx="228240" cy="2930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30"/>
            <p:cNvSpPr/>
            <p:nvPr/>
          </p:nvSpPr>
          <p:spPr>
            <a:xfrm>
              <a:off x="968040" y="2647800"/>
              <a:ext cx="228240" cy="29304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1"/>
          <p:cNvGrpSpPr/>
          <p:nvPr/>
        </p:nvGrpSpPr>
        <p:grpSpPr>
          <a:xfrm>
            <a:off x="5562360" y="685800"/>
            <a:ext cx="3581640" cy="3276360"/>
            <a:chOff x="5562360" y="685800"/>
            <a:chExt cx="3581640" cy="3276360"/>
          </a:xfrm>
        </p:grpSpPr>
        <p:grpSp>
          <p:nvGrpSpPr>
            <p:cNvPr id="634" name="Group 32"/>
            <p:cNvGrpSpPr/>
            <p:nvPr/>
          </p:nvGrpSpPr>
          <p:grpSpPr>
            <a:xfrm>
              <a:off x="5562360" y="685800"/>
              <a:ext cx="3581640" cy="3108240"/>
              <a:chOff x="5562360" y="685800"/>
              <a:chExt cx="3581640" cy="3108240"/>
            </a:xfrm>
          </p:grpSpPr>
          <p:sp>
            <p:nvSpPr>
              <p:cNvPr id="635" name="Oval 33"/>
              <p:cNvSpPr/>
              <p:nvPr/>
            </p:nvSpPr>
            <p:spPr>
              <a:xfrm>
                <a:off x="6234120" y="1942560"/>
                <a:ext cx="232200" cy="28044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34"/>
              <p:cNvSpPr/>
              <p:nvPr/>
            </p:nvSpPr>
            <p:spPr>
              <a:xfrm>
                <a:off x="7219080" y="775440"/>
                <a:ext cx="232200" cy="28044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35"/>
              <p:cNvSpPr/>
              <p:nvPr/>
            </p:nvSpPr>
            <p:spPr>
              <a:xfrm>
                <a:off x="7935120" y="910080"/>
                <a:ext cx="232200" cy="280440"/>
              </a:xfrm>
              <a:prstGeom prst="ellips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36"/>
              <p:cNvSpPr/>
              <p:nvPr/>
            </p:nvSpPr>
            <p:spPr>
              <a:xfrm>
                <a:off x="8606880" y="1449000"/>
                <a:ext cx="232200" cy="280440"/>
              </a:xfrm>
              <a:prstGeom prst="ellips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37"/>
              <p:cNvSpPr/>
              <p:nvPr/>
            </p:nvSpPr>
            <p:spPr>
              <a:xfrm>
                <a:off x="8517240" y="3064680"/>
                <a:ext cx="232200" cy="28044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38"/>
              <p:cNvSpPr/>
              <p:nvPr/>
            </p:nvSpPr>
            <p:spPr>
              <a:xfrm>
                <a:off x="8159040" y="3333960"/>
                <a:ext cx="232200" cy="28044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39"/>
              <p:cNvSpPr/>
              <p:nvPr/>
            </p:nvSpPr>
            <p:spPr>
              <a:xfrm>
                <a:off x="7711200" y="3513600"/>
                <a:ext cx="232200" cy="28044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40"/>
              <p:cNvSpPr/>
              <p:nvPr/>
            </p:nvSpPr>
            <p:spPr>
              <a:xfrm>
                <a:off x="6323760" y="3333960"/>
                <a:ext cx="232200" cy="280440"/>
              </a:xfrm>
              <a:prstGeom prst="ellips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41"/>
              <p:cNvSpPr/>
              <p:nvPr/>
            </p:nvSpPr>
            <p:spPr>
              <a:xfrm>
                <a:off x="5831280" y="2840040"/>
                <a:ext cx="232200" cy="28044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42"/>
              <p:cNvSpPr/>
              <p:nvPr/>
            </p:nvSpPr>
            <p:spPr>
              <a:xfrm>
                <a:off x="5741640" y="1852920"/>
                <a:ext cx="232200" cy="28044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43"/>
              <p:cNvSpPr/>
              <p:nvPr/>
            </p:nvSpPr>
            <p:spPr>
              <a:xfrm>
                <a:off x="8651520" y="2750400"/>
                <a:ext cx="232200" cy="280440"/>
              </a:xfrm>
              <a:prstGeom prst="ellips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44"/>
              <p:cNvSpPr/>
              <p:nvPr/>
            </p:nvSpPr>
            <p:spPr>
              <a:xfrm>
                <a:off x="6278760" y="2615760"/>
                <a:ext cx="232200" cy="28044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45"/>
              <p:cNvSpPr/>
              <p:nvPr/>
            </p:nvSpPr>
            <p:spPr>
              <a:xfrm>
                <a:off x="6636960" y="2930040"/>
                <a:ext cx="232200" cy="280440"/>
              </a:xfrm>
              <a:prstGeom prst="ellipse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46"/>
              <p:cNvSpPr/>
              <p:nvPr/>
            </p:nvSpPr>
            <p:spPr>
              <a:xfrm>
                <a:off x="7576920" y="3075840"/>
                <a:ext cx="232200" cy="257760"/>
              </a:xfrm>
              <a:prstGeom prst="ellipse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47"/>
              <p:cNvSpPr/>
              <p:nvPr/>
            </p:nvSpPr>
            <p:spPr>
              <a:xfrm>
                <a:off x="7890480" y="2930040"/>
                <a:ext cx="232200" cy="25776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48"/>
              <p:cNvSpPr/>
              <p:nvPr/>
            </p:nvSpPr>
            <p:spPr>
              <a:xfrm>
                <a:off x="8204040" y="2570760"/>
                <a:ext cx="232200" cy="257760"/>
              </a:xfrm>
              <a:prstGeom prst="ellipse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9"/>
              <p:cNvSpPr/>
              <p:nvPr/>
            </p:nvSpPr>
            <p:spPr>
              <a:xfrm>
                <a:off x="8204040" y="1718280"/>
                <a:ext cx="232200" cy="257760"/>
              </a:xfrm>
              <a:prstGeom prst="ellipse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50"/>
              <p:cNvSpPr/>
              <p:nvPr/>
            </p:nvSpPr>
            <p:spPr>
              <a:xfrm>
                <a:off x="7219080" y="1179360"/>
                <a:ext cx="232200" cy="257760"/>
              </a:xfrm>
              <a:prstGeom prst="ellipse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51"/>
              <p:cNvSpPr/>
              <p:nvPr/>
            </p:nvSpPr>
            <p:spPr>
              <a:xfrm>
                <a:off x="7756200" y="2346480"/>
                <a:ext cx="232200" cy="257760"/>
              </a:xfrm>
              <a:prstGeom prst="ellips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52"/>
              <p:cNvSpPr/>
              <p:nvPr/>
            </p:nvSpPr>
            <p:spPr>
              <a:xfrm>
                <a:off x="7442640" y="2660760"/>
                <a:ext cx="232200" cy="257760"/>
              </a:xfrm>
              <a:prstGeom prst="ellipse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53"/>
              <p:cNvSpPr/>
              <p:nvPr/>
            </p:nvSpPr>
            <p:spPr>
              <a:xfrm>
                <a:off x="7219080" y="1628280"/>
                <a:ext cx="232200" cy="257760"/>
              </a:xfrm>
              <a:prstGeom prst="ellipse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54"/>
              <p:cNvSpPr/>
              <p:nvPr/>
            </p:nvSpPr>
            <p:spPr>
              <a:xfrm>
                <a:off x="7756200" y="1942560"/>
                <a:ext cx="232200" cy="257760"/>
              </a:xfrm>
              <a:prstGeom prst="ellipse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55"/>
              <p:cNvSpPr/>
              <p:nvPr/>
            </p:nvSpPr>
            <p:spPr>
              <a:xfrm>
                <a:off x="6860880" y="2570760"/>
                <a:ext cx="232200" cy="257760"/>
              </a:xfrm>
              <a:prstGeom prst="ellips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56"/>
              <p:cNvSpPr/>
              <p:nvPr/>
            </p:nvSpPr>
            <p:spPr>
              <a:xfrm>
                <a:off x="6726600" y="2301480"/>
                <a:ext cx="232200" cy="257760"/>
              </a:xfrm>
              <a:prstGeom prst="ellips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57"/>
              <p:cNvSpPr/>
              <p:nvPr/>
            </p:nvSpPr>
            <p:spPr>
              <a:xfrm flipH="1">
                <a:off x="6234120" y="2256840"/>
                <a:ext cx="1074240" cy="15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58"/>
              <p:cNvSpPr/>
              <p:nvPr/>
            </p:nvSpPr>
            <p:spPr>
              <a:xfrm flipH="1">
                <a:off x="5562360" y="2211840"/>
                <a:ext cx="1745640" cy="9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59"/>
              <p:cNvSpPr/>
              <p:nvPr/>
            </p:nvSpPr>
            <p:spPr>
              <a:xfrm>
                <a:off x="7308360" y="685800"/>
                <a:ext cx="44640" cy="152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60"/>
              <p:cNvSpPr/>
              <p:nvPr/>
            </p:nvSpPr>
            <p:spPr>
              <a:xfrm>
                <a:off x="5607360" y="1942560"/>
                <a:ext cx="1701000" cy="26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61"/>
              <p:cNvSpPr/>
              <p:nvPr/>
            </p:nvSpPr>
            <p:spPr>
              <a:xfrm flipV="1">
                <a:off x="7353360" y="1359000"/>
                <a:ext cx="1790640" cy="9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62"/>
              <p:cNvSpPr/>
              <p:nvPr/>
            </p:nvSpPr>
            <p:spPr>
              <a:xfrm>
                <a:off x="7353360" y="2256840"/>
                <a:ext cx="1790640" cy="80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Line 63"/>
            <p:cNvSpPr/>
            <p:nvPr/>
          </p:nvSpPr>
          <p:spPr>
            <a:xfrm>
              <a:off x="7353360" y="2256840"/>
              <a:ext cx="581760" cy="17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64"/>
          <p:cNvGrpSpPr/>
          <p:nvPr/>
        </p:nvGrpSpPr>
        <p:grpSpPr>
          <a:xfrm>
            <a:off x="2286000" y="3429000"/>
            <a:ext cx="3581280" cy="3429000"/>
            <a:chOff x="2286000" y="3429000"/>
            <a:chExt cx="3581280" cy="3429000"/>
          </a:xfrm>
        </p:grpSpPr>
        <p:sp>
          <p:nvSpPr>
            <p:cNvPr id="667" name="Oval 65"/>
            <p:cNvSpPr/>
            <p:nvPr/>
          </p:nvSpPr>
          <p:spPr>
            <a:xfrm>
              <a:off x="3191400" y="4987440"/>
              <a:ext cx="213480" cy="278280"/>
            </a:xfrm>
            <a:prstGeom prst="ellips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66"/>
            <p:cNvSpPr/>
            <p:nvPr/>
          </p:nvSpPr>
          <p:spPr>
            <a:xfrm>
              <a:off x="4097160" y="3829680"/>
              <a:ext cx="213480" cy="278280"/>
            </a:xfrm>
            <a:prstGeom prst="ellips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7"/>
            <p:cNvSpPr/>
            <p:nvPr/>
          </p:nvSpPr>
          <p:spPr>
            <a:xfrm>
              <a:off x="4755960" y="3963240"/>
              <a:ext cx="213480" cy="278280"/>
            </a:xfrm>
            <a:prstGeom prst="ellips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8"/>
            <p:cNvSpPr/>
            <p:nvPr/>
          </p:nvSpPr>
          <p:spPr>
            <a:xfrm>
              <a:off x="5373360" y="4497840"/>
              <a:ext cx="213480" cy="278280"/>
            </a:xfrm>
            <a:prstGeom prst="ellips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9"/>
            <p:cNvSpPr/>
            <p:nvPr/>
          </p:nvSpPr>
          <p:spPr>
            <a:xfrm>
              <a:off x="5290920" y="6100920"/>
              <a:ext cx="213480" cy="278280"/>
            </a:xfrm>
            <a:prstGeom prst="ellips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0"/>
            <p:cNvSpPr/>
            <p:nvPr/>
          </p:nvSpPr>
          <p:spPr>
            <a:xfrm>
              <a:off x="4961520" y="6368040"/>
              <a:ext cx="213480" cy="278280"/>
            </a:xfrm>
            <a:prstGeom prst="ellips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71"/>
            <p:cNvSpPr/>
            <p:nvPr/>
          </p:nvSpPr>
          <p:spPr>
            <a:xfrm>
              <a:off x="4549680" y="6546240"/>
              <a:ext cx="213480" cy="278280"/>
            </a:xfrm>
            <a:prstGeom prst="ellips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72"/>
            <p:cNvSpPr/>
            <p:nvPr/>
          </p:nvSpPr>
          <p:spPr>
            <a:xfrm>
              <a:off x="3273840" y="6368040"/>
              <a:ext cx="213480" cy="278280"/>
            </a:xfrm>
            <a:prstGeom prst="ellipse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73"/>
            <p:cNvSpPr/>
            <p:nvPr/>
          </p:nvSpPr>
          <p:spPr>
            <a:xfrm>
              <a:off x="2820960" y="5878080"/>
              <a:ext cx="213480" cy="278280"/>
            </a:xfrm>
            <a:prstGeom prst="ellips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74"/>
            <p:cNvSpPr/>
            <p:nvPr/>
          </p:nvSpPr>
          <p:spPr>
            <a:xfrm>
              <a:off x="2738520" y="4898520"/>
              <a:ext cx="213480" cy="278280"/>
            </a:xfrm>
            <a:prstGeom prst="ellips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5"/>
            <p:cNvSpPr/>
            <p:nvPr/>
          </p:nvSpPr>
          <p:spPr>
            <a:xfrm>
              <a:off x="5414400" y="5789160"/>
              <a:ext cx="213480" cy="278280"/>
            </a:xfrm>
            <a:prstGeom prst="ellips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76"/>
            <p:cNvSpPr/>
            <p:nvPr/>
          </p:nvSpPr>
          <p:spPr>
            <a:xfrm>
              <a:off x="3232440" y="5655600"/>
              <a:ext cx="213480" cy="278280"/>
            </a:xfrm>
            <a:prstGeom prst="ellips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7"/>
            <p:cNvSpPr/>
            <p:nvPr/>
          </p:nvSpPr>
          <p:spPr>
            <a:xfrm>
              <a:off x="3561840" y="5967360"/>
              <a:ext cx="213480" cy="278280"/>
            </a:xfrm>
            <a:prstGeom prst="ellips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8"/>
            <p:cNvSpPr/>
            <p:nvPr/>
          </p:nvSpPr>
          <p:spPr>
            <a:xfrm>
              <a:off x="4426200" y="6112080"/>
              <a:ext cx="213480" cy="255960"/>
            </a:xfrm>
            <a:prstGeom prst="ellips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9"/>
            <p:cNvSpPr/>
            <p:nvPr/>
          </p:nvSpPr>
          <p:spPr>
            <a:xfrm>
              <a:off x="4714560" y="5967360"/>
              <a:ext cx="213480" cy="255960"/>
            </a:xfrm>
            <a:prstGeom prst="ellips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80"/>
            <p:cNvSpPr/>
            <p:nvPr/>
          </p:nvSpPr>
          <p:spPr>
            <a:xfrm>
              <a:off x="5002920" y="5610960"/>
              <a:ext cx="213480" cy="255960"/>
            </a:xfrm>
            <a:prstGeom prst="ellips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81"/>
            <p:cNvSpPr/>
            <p:nvPr/>
          </p:nvSpPr>
          <p:spPr>
            <a:xfrm>
              <a:off x="5002920" y="4764960"/>
              <a:ext cx="213480" cy="255960"/>
            </a:xfrm>
            <a:prstGeom prst="ellips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2"/>
            <p:cNvSpPr/>
            <p:nvPr/>
          </p:nvSpPr>
          <p:spPr>
            <a:xfrm>
              <a:off x="4097160" y="4230360"/>
              <a:ext cx="213480" cy="255960"/>
            </a:xfrm>
            <a:prstGeom prst="ellips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3"/>
            <p:cNvSpPr/>
            <p:nvPr/>
          </p:nvSpPr>
          <p:spPr>
            <a:xfrm>
              <a:off x="4591080" y="5388480"/>
              <a:ext cx="213480" cy="255960"/>
            </a:xfrm>
            <a:prstGeom prst="ellips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84"/>
            <p:cNvSpPr/>
            <p:nvPr/>
          </p:nvSpPr>
          <p:spPr>
            <a:xfrm>
              <a:off x="4302720" y="5700240"/>
              <a:ext cx="213480" cy="255960"/>
            </a:xfrm>
            <a:prstGeom prst="ellipse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5"/>
            <p:cNvSpPr/>
            <p:nvPr/>
          </p:nvSpPr>
          <p:spPr>
            <a:xfrm>
              <a:off x="4097160" y="4675680"/>
              <a:ext cx="213480" cy="255960"/>
            </a:xfrm>
            <a:prstGeom prst="ellipse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6"/>
            <p:cNvSpPr/>
            <p:nvPr/>
          </p:nvSpPr>
          <p:spPr>
            <a:xfrm>
              <a:off x="4591080" y="4987440"/>
              <a:ext cx="213480" cy="255960"/>
            </a:xfrm>
            <a:prstGeom prst="ellipse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7"/>
            <p:cNvSpPr/>
            <p:nvPr/>
          </p:nvSpPr>
          <p:spPr>
            <a:xfrm>
              <a:off x="3767760" y="5610960"/>
              <a:ext cx="213480" cy="255960"/>
            </a:xfrm>
            <a:prstGeom prst="ellips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"/>
            <p:cNvSpPr/>
            <p:nvPr/>
          </p:nvSpPr>
          <p:spPr>
            <a:xfrm>
              <a:off x="3644280" y="5343840"/>
              <a:ext cx="213480" cy="255960"/>
            </a:xfrm>
            <a:prstGeom prst="ellips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"/>
            <p:cNvSpPr/>
            <p:nvPr/>
          </p:nvSpPr>
          <p:spPr>
            <a:xfrm>
              <a:off x="4097160" y="5388480"/>
              <a:ext cx="1770120" cy="1469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90"/>
            <p:cNvSpPr/>
            <p:nvPr/>
          </p:nvSpPr>
          <p:spPr>
            <a:xfrm>
              <a:off x="2286000" y="4809240"/>
              <a:ext cx="1769760" cy="178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91"/>
            <p:cNvSpPr/>
            <p:nvPr/>
          </p:nvSpPr>
          <p:spPr>
            <a:xfrm>
              <a:off x="3891240" y="3429000"/>
              <a:ext cx="1769760" cy="178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Кластеризация выдачи поиско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на кластериза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2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.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052640"/>
            <a:ext cx="8291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gle-link, complet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инусная мера сх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т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 (0.6, 1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 (1.8, 1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  (2.7,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 (3.0, 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 (3.0, 2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 (3.1, 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(3.8, 0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 (4.2, 2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кластеризацию и показать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Для визуализации тематик в коллекции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e et al, “Visualizing the non-vis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capes, Ca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00"/>
                </a:solidFill>
                <a:latin typeface="Arial"/>
              </a:rPr>
              <a:t>[Mountain height = cluster size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hemeview800"/>
          <p:cNvPicPr/>
          <p:nvPr/>
        </p:nvPicPr>
        <p:blipFill>
          <a:blip r:embed="rId1"/>
          <a:srcRect l="3449" t="2156" r="3449" b="3012"/>
          <a:stretch/>
        </p:blipFill>
        <p:spPr>
          <a:xfrm>
            <a:off x="0" y="3132000"/>
            <a:ext cx="4572000" cy="372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tarr_report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Новостные агрег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80880" y="3714840"/>
            <a:ext cx="41911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41911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96216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3962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нятие сходства/рас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антическое сх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ое сх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инусное сх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 как в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горитмы кластер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оские алгорит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начинаются со случайного разби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еративное уточ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редних (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ерархические алгорит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зу-ввер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гломера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ху-вниз, разби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9:59Z</dcterms:created>
  <dc:creator>boris</dc:creator>
  <dc:description/>
  <dc:language>en-US</dc:language>
  <cp:lastModifiedBy>louk</cp:lastModifiedBy>
  <dcterms:modified xsi:type="dcterms:W3CDTF">2017-11-16T18:00:40Z</dcterms:modified>
  <cp:revision>69</cp:revision>
  <dc:subject/>
  <dc:title>08-Кластеризация текстов</dc:title>
</cp:coreProperties>
</file>