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0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5FD8-2D50-4EF9-88A4-632F267647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2282-4DE7-427C-A652-943EF158A7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is was discussed in the review section, for giving better estimates in the spelling correction exerc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60A38D09-F3CF-489D-BAF6-B6857471D34B}" type="slidenum">
              <a:rPr b="0" lang="en-US" sz="11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10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7CB3-BE50-41CE-A1A4-F0D6131D8A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10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B976-F22A-4998-A401-1709CCEC3F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10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9A56-FBF6-4010-83CE-E16F31B6B4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70E3-965B-4E27-BE2C-9DDDE56EE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0AAE-5431-497A-9B64-DF1A8630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4B9D-7240-4E92-9BF3-7945F83F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E5EC-DE3D-429F-9BD4-82FE635E3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0EEF-27B6-40B9-973C-84A03298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6116-557B-4889-8021-6C13B652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EF4E-41F6-4F2E-81C3-9622FCFA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7908-22FF-4127-930B-43CD1F2F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720A-A0F1-434B-9F8D-5B7E4F3A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1A69-3893-482E-878D-3238C4F3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668B-A587-4CBA-8FA4-5CA8975F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BB67-AA6D-4238-98E9-27F8218D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4BE5-84FE-48DC-B625-9B5D29347F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mailto:aj6xfdou7@yahoo.com" TargetMode="External"/><Relationship Id="rId3" Type="http://schemas.openxmlformats.org/officeDocument/2006/relationships/hyperlink" Target="mailto:ddlewis4@att.net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spamassassin.apache.org/tests_3_3_x.html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втоматическая классификация текс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catego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ning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др. Введение в информационный пои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. 13,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Reuters: </a:t>
            </a: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пример описания рубр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    (wheat &amp; farm)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wheat &amp; commodity)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shels &amp; export)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wheat &amp; tonnes)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wheat &amp; winter and (¬ soft)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E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Автоматическая рубрикация: Методы машинного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ется коллекция отрубрицированных людьми текс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каждой рубри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ется множество положительных и отрицательных приме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Методы машинного для задачи автоматической рубрик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Байес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ive Baye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c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ближайшего сосед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-Nearest Neighbors – kn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опорных векторов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-vector machine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стоящее время: активно развиваются подходы на основе нейронных с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жно быть размечено много да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лассификаторы на основе  пространства векто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фикация на основ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ранства вект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ументы – вектора, точки в векторном простран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поло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ументы одного класса находятся в одной области простра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ументы из разных классов находятся в непересекающихся облас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: нужно найти разделяющую поверх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FD84-D865-4051-B2AA-6F3B841805F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ументы в векторном простран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3"/>
          <p:cNvSpPr/>
          <p:nvPr/>
        </p:nvSpPr>
        <p:spPr>
          <a:xfrm>
            <a:off x="1905120" y="2666880"/>
            <a:ext cx="152280" cy="15264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4"/>
          <p:cNvSpPr/>
          <p:nvPr/>
        </p:nvSpPr>
        <p:spPr>
          <a:xfrm>
            <a:off x="4114800" y="3352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5"/>
          <p:cNvSpPr/>
          <p:nvPr/>
        </p:nvSpPr>
        <p:spPr>
          <a:xfrm>
            <a:off x="46483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6"/>
          <p:cNvSpPr/>
          <p:nvPr/>
        </p:nvSpPr>
        <p:spPr>
          <a:xfrm>
            <a:off x="2057400" y="3200400"/>
            <a:ext cx="152280" cy="15228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7"/>
          <p:cNvSpPr/>
          <p:nvPr/>
        </p:nvSpPr>
        <p:spPr>
          <a:xfrm>
            <a:off x="2209680" y="4267080"/>
            <a:ext cx="152640" cy="15264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8"/>
          <p:cNvSpPr/>
          <p:nvPr/>
        </p:nvSpPr>
        <p:spPr>
          <a:xfrm>
            <a:off x="3124080" y="2666880"/>
            <a:ext cx="152640" cy="15264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9"/>
          <p:cNvSpPr/>
          <p:nvPr/>
        </p:nvSpPr>
        <p:spPr>
          <a:xfrm>
            <a:off x="1600200" y="3657600"/>
            <a:ext cx="152280" cy="15228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0"/>
          <p:cNvSpPr/>
          <p:nvPr/>
        </p:nvSpPr>
        <p:spPr>
          <a:xfrm>
            <a:off x="2666880" y="3429000"/>
            <a:ext cx="152640" cy="15228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1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2"/>
          <p:cNvSpPr/>
          <p:nvPr/>
        </p:nvSpPr>
        <p:spPr>
          <a:xfrm>
            <a:off x="2971800" y="4267080"/>
            <a:ext cx="152280" cy="15264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3"/>
          <p:cNvSpPr/>
          <p:nvPr/>
        </p:nvSpPr>
        <p:spPr>
          <a:xfrm>
            <a:off x="4267080" y="2438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4"/>
          <p:cNvSpPr/>
          <p:nvPr/>
        </p:nvSpPr>
        <p:spPr>
          <a:xfrm>
            <a:off x="4419720" y="3962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5"/>
          <p:cNvSpPr/>
          <p:nvPr/>
        </p:nvSpPr>
        <p:spPr>
          <a:xfrm>
            <a:off x="4572000" y="27432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6"/>
          <p:cNvSpPr/>
          <p:nvPr/>
        </p:nvSpPr>
        <p:spPr>
          <a:xfrm>
            <a:off x="5638680" y="28954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7"/>
          <p:cNvSpPr/>
          <p:nvPr/>
        </p:nvSpPr>
        <p:spPr>
          <a:xfrm>
            <a:off x="4876920" y="3048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8"/>
          <p:cNvSpPr/>
          <p:nvPr/>
        </p:nvSpPr>
        <p:spPr>
          <a:xfrm>
            <a:off x="4038480" y="5029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9"/>
          <p:cNvSpPr/>
          <p:nvPr/>
        </p:nvSpPr>
        <p:spPr>
          <a:xfrm>
            <a:off x="4572000" y="5943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0"/>
          <p:cNvSpPr/>
          <p:nvPr/>
        </p:nvSpPr>
        <p:spPr>
          <a:xfrm>
            <a:off x="510552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1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2"/>
          <p:cNvSpPr/>
          <p:nvPr/>
        </p:nvSpPr>
        <p:spPr>
          <a:xfrm>
            <a:off x="7238880" y="4876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3"/>
          <p:cNvSpPr/>
          <p:nvPr/>
        </p:nvSpPr>
        <p:spPr>
          <a:xfrm>
            <a:off x="7238880" y="53341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6629400" y="1905120"/>
            <a:ext cx="0" cy="441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7288200" y="428148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Arial Unicode MS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6"/>
          <p:cNvSpPr/>
          <p:nvPr/>
        </p:nvSpPr>
        <p:spPr>
          <a:xfrm>
            <a:off x="7346520" y="480060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Arial Unicode MS"/>
              </a:rPr>
              <a:t>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7"/>
          <p:cNvSpPr/>
          <p:nvPr/>
        </p:nvSpPr>
        <p:spPr>
          <a:xfrm>
            <a:off x="7373880" y="525780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Arial Unicode MS"/>
              </a:rPr>
              <a:t>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8"/>
          <p:cNvSpPr/>
          <p:nvPr/>
        </p:nvSpPr>
        <p:spPr>
          <a:xfrm>
            <a:off x="7656120" y="-33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14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1847-A538-47AC-8EE2-A66B4CA283D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умент относится к какому класс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22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3"/>
          <p:cNvSpPr/>
          <p:nvPr/>
        </p:nvSpPr>
        <p:spPr>
          <a:xfrm>
            <a:off x="7238880" y="4876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4"/>
          <p:cNvSpPr/>
          <p:nvPr/>
        </p:nvSpPr>
        <p:spPr>
          <a:xfrm>
            <a:off x="7238880" y="53341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5"/>
          <p:cNvSpPr/>
          <p:nvPr/>
        </p:nvSpPr>
        <p:spPr>
          <a:xfrm>
            <a:off x="6629400" y="1905120"/>
            <a:ext cx="0" cy="441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6"/>
          <p:cNvSpPr/>
          <p:nvPr/>
        </p:nvSpPr>
        <p:spPr>
          <a:xfrm>
            <a:off x="7288200" y="428148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Arial Unicode MS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7"/>
          <p:cNvSpPr/>
          <p:nvPr/>
        </p:nvSpPr>
        <p:spPr>
          <a:xfrm>
            <a:off x="7346520" y="480060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Arial Unicode MS"/>
              </a:rPr>
              <a:t>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7373880" y="525780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Arial Unicode MS"/>
              </a:rPr>
              <a:t>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6"/>
          <p:cNvGrpSpPr/>
          <p:nvPr/>
        </p:nvGrpSpPr>
        <p:grpSpPr>
          <a:xfrm>
            <a:off x="1600200" y="2438280"/>
            <a:ext cx="4191120" cy="3657600"/>
            <a:chOff x="1600200" y="2438280"/>
            <a:chExt cx="4191120" cy="3657600"/>
          </a:xfrm>
        </p:grpSpPr>
        <p:sp>
          <p:nvSpPr>
            <p:cNvPr id="116" name="Oval 4"/>
            <p:cNvSpPr/>
            <p:nvPr/>
          </p:nvSpPr>
          <p:spPr>
            <a:xfrm>
              <a:off x="1905120" y="2666880"/>
              <a:ext cx="152280" cy="15264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5"/>
            <p:cNvSpPr/>
            <p:nvPr/>
          </p:nvSpPr>
          <p:spPr>
            <a:xfrm>
              <a:off x="4114800" y="335268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6"/>
            <p:cNvSpPr/>
            <p:nvPr/>
          </p:nvSpPr>
          <p:spPr>
            <a:xfrm>
              <a:off x="4648320" y="48769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7"/>
            <p:cNvSpPr/>
            <p:nvPr/>
          </p:nvSpPr>
          <p:spPr>
            <a:xfrm>
              <a:off x="2057400" y="3200400"/>
              <a:ext cx="152280" cy="15228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8"/>
            <p:cNvSpPr/>
            <p:nvPr/>
          </p:nvSpPr>
          <p:spPr>
            <a:xfrm>
              <a:off x="2209680" y="4267080"/>
              <a:ext cx="152640" cy="15264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9"/>
            <p:cNvSpPr/>
            <p:nvPr/>
          </p:nvSpPr>
          <p:spPr>
            <a:xfrm>
              <a:off x="3124080" y="2666880"/>
              <a:ext cx="152640" cy="15264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0"/>
            <p:cNvSpPr/>
            <p:nvPr/>
          </p:nvSpPr>
          <p:spPr>
            <a:xfrm>
              <a:off x="1600200" y="3657600"/>
              <a:ext cx="152280" cy="15228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1"/>
            <p:cNvSpPr/>
            <p:nvPr/>
          </p:nvSpPr>
          <p:spPr>
            <a:xfrm>
              <a:off x="2666880" y="3429000"/>
              <a:ext cx="152640" cy="15228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"/>
            <p:cNvSpPr/>
            <p:nvPr/>
          </p:nvSpPr>
          <p:spPr>
            <a:xfrm>
              <a:off x="3352680" y="3048120"/>
              <a:ext cx="152640" cy="15228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2971800" y="4267080"/>
              <a:ext cx="152280" cy="15264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4"/>
            <p:cNvSpPr/>
            <p:nvPr/>
          </p:nvSpPr>
          <p:spPr>
            <a:xfrm>
              <a:off x="4267080" y="2438280"/>
              <a:ext cx="15264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5"/>
            <p:cNvSpPr/>
            <p:nvPr/>
          </p:nvSpPr>
          <p:spPr>
            <a:xfrm>
              <a:off x="4419720" y="396252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6"/>
            <p:cNvSpPr/>
            <p:nvPr/>
          </p:nvSpPr>
          <p:spPr>
            <a:xfrm>
              <a:off x="4572000" y="27432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7"/>
            <p:cNvSpPr/>
            <p:nvPr/>
          </p:nvSpPr>
          <p:spPr>
            <a:xfrm>
              <a:off x="5638680" y="2895480"/>
              <a:ext cx="15264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8"/>
            <p:cNvSpPr/>
            <p:nvPr/>
          </p:nvSpPr>
          <p:spPr>
            <a:xfrm>
              <a:off x="4876920" y="304812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9"/>
            <p:cNvSpPr/>
            <p:nvPr/>
          </p:nvSpPr>
          <p:spPr>
            <a:xfrm>
              <a:off x="4038480" y="50292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0"/>
            <p:cNvSpPr/>
            <p:nvPr/>
          </p:nvSpPr>
          <p:spPr>
            <a:xfrm>
              <a:off x="4572000" y="5943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1"/>
            <p:cNvSpPr/>
            <p:nvPr/>
          </p:nvSpPr>
          <p:spPr>
            <a:xfrm>
              <a:off x="5105520" y="53341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2"/>
            <p:cNvSpPr/>
            <p:nvPr/>
          </p:nvSpPr>
          <p:spPr>
            <a:xfrm>
              <a:off x="3505320" y="3886200"/>
              <a:ext cx="152280" cy="1522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Line 33"/>
          <p:cNvSpPr/>
          <p:nvPr/>
        </p:nvSpPr>
        <p:spPr>
          <a:xfrm>
            <a:off x="3581280" y="14479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2"/>
          <p:cNvSpPr/>
          <p:nvPr/>
        </p:nvSpPr>
        <p:spPr>
          <a:xfrm>
            <a:off x="7656120" y="-33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14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359D-D52E-412F-BE6E-CF9C50D4F38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документа - Правитель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22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23"/>
          <p:cNvSpPr/>
          <p:nvPr/>
        </p:nvSpPr>
        <p:spPr>
          <a:xfrm>
            <a:off x="7238880" y="4876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4"/>
          <p:cNvSpPr/>
          <p:nvPr/>
        </p:nvSpPr>
        <p:spPr>
          <a:xfrm>
            <a:off x="7238880" y="53341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5"/>
          <p:cNvSpPr/>
          <p:nvPr/>
        </p:nvSpPr>
        <p:spPr>
          <a:xfrm>
            <a:off x="6629400" y="1905120"/>
            <a:ext cx="0" cy="441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7288200" y="428148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Arial Unicode MS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7346520" y="480060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Arial Unicode MS"/>
              </a:rPr>
              <a:t>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373880" y="525780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Arial Unicode MS"/>
              </a:rPr>
              <a:t>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9"/>
          <p:cNvSpPr/>
          <p:nvPr/>
        </p:nvSpPr>
        <p:spPr>
          <a:xfrm>
            <a:off x="1701720" y="4343400"/>
            <a:ext cx="2184480" cy="1981080"/>
          </a:xfrm>
          <a:custGeom>
            <a:avLst/>
            <a:gdLst>
              <a:gd name="textAreaLeft" fmla="*/ 0 w 2184480"/>
              <a:gd name="textAreaRight" fmla="*/ 2184840 w 2184480"/>
              <a:gd name="textAreaTop" fmla="*/ 0 h 1981080"/>
              <a:gd name="textAreaBottom" fmla="*/ 1981440 h 1981080"/>
            </a:gdLst>
            <a:ahLst/>
            <a:rect l="textAreaLeft" t="textAreaTop" r="textAreaRight" b="textAreaBottom"/>
            <a:pathLst>
              <a:path w="1376" h="1248">
                <a:moveTo>
                  <a:pt x="1376" y="0"/>
                </a:moveTo>
                <a:cubicBezTo>
                  <a:pt x="1208" y="44"/>
                  <a:pt x="1040" y="88"/>
                  <a:pt x="944" y="192"/>
                </a:cubicBezTo>
                <a:cubicBezTo>
                  <a:pt x="848" y="296"/>
                  <a:pt x="936" y="464"/>
                  <a:pt x="800" y="624"/>
                </a:cubicBezTo>
                <a:cubicBezTo>
                  <a:pt x="664" y="784"/>
                  <a:pt x="256" y="1056"/>
                  <a:pt x="128" y="1152"/>
                </a:cubicBezTo>
                <a:cubicBezTo>
                  <a:pt x="0" y="1248"/>
                  <a:pt x="48" y="1192"/>
                  <a:pt x="32" y="120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30"/>
          <p:cNvSpPr/>
          <p:nvPr/>
        </p:nvSpPr>
        <p:spPr>
          <a:xfrm>
            <a:off x="3784680" y="2286000"/>
            <a:ext cx="266760" cy="2057400"/>
          </a:xfrm>
          <a:custGeom>
            <a:avLst/>
            <a:gdLst>
              <a:gd name="textAreaLeft" fmla="*/ 0 w 266760"/>
              <a:gd name="textAreaRight" fmla="*/ 267120 w 26676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168" h="1296">
                <a:moveTo>
                  <a:pt x="64" y="1296"/>
                </a:moveTo>
                <a:cubicBezTo>
                  <a:pt x="116" y="1248"/>
                  <a:pt x="168" y="1200"/>
                  <a:pt x="160" y="1104"/>
                </a:cubicBezTo>
                <a:cubicBezTo>
                  <a:pt x="152" y="1008"/>
                  <a:pt x="32" y="904"/>
                  <a:pt x="16" y="720"/>
                </a:cubicBezTo>
                <a:cubicBezTo>
                  <a:pt x="0" y="536"/>
                  <a:pt x="32" y="268"/>
                  <a:pt x="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31"/>
          <p:cNvSpPr/>
          <p:nvPr/>
        </p:nvSpPr>
        <p:spPr>
          <a:xfrm>
            <a:off x="3924360" y="4292640"/>
            <a:ext cx="2628720" cy="774720"/>
          </a:xfrm>
          <a:custGeom>
            <a:avLst/>
            <a:gdLst>
              <a:gd name="textAreaLeft" fmla="*/ 0 w 2628720"/>
              <a:gd name="textAreaRight" fmla="*/ 2629080 w 26287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1656" h="488">
                <a:moveTo>
                  <a:pt x="0" y="32"/>
                </a:moveTo>
                <a:cubicBezTo>
                  <a:pt x="0" y="128"/>
                  <a:pt x="0" y="224"/>
                  <a:pt x="144" y="224"/>
                </a:cubicBezTo>
                <a:cubicBezTo>
                  <a:pt x="288" y="224"/>
                  <a:pt x="632" y="0"/>
                  <a:pt x="864" y="32"/>
                </a:cubicBezTo>
                <a:cubicBezTo>
                  <a:pt x="1096" y="64"/>
                  <a:pt x="1416" y="344"/>
                  <a:pt x="1536" y="416"/>
                </a:cubicBezTo>
                <a:cubicBezTo>
                  <a:pt x="1656" y="488"/>
                  <a:pt x="1620" y="476"/>
                  <a:pt x="1584" y="46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36"/>
          <p:cNvGrpSpPr/>
          <p:nvPr/>
        </p:nvGrpSpPr>
        <p:grpSpPr>
          <a:xfrm>
            <a:off x="1600200" y="2438280"/>
            <a:ext cx="4191120" cy="3657600"/>
            <a:chOff x="1600200" y="2438280"/>
            <a:chExt cx="4191120" cy="3657600"/>
          </a:xfrm>
        </p:grpSpPr>
        <p:sp>
          <p:nvSpPr>
            <p:cNvPr id="151" name="Oval 4"/>
            <p:cNvSpPr/>
            <p:nvPr/>
          </p:nvSpPr>
          <p:spPr>
            <a:xfrm>
              <a:off x="1905120" y="2666880"/>
              <a:ext cx="152280" cy="15264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5"/>
            <p:cNvSpPr/>
            <p:nvPr/>
          </p:nvSpPr>
          <p:spPr>
            <a:xfrm>
              <a:off x="4114800" y="335268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6"/>
            <p:cNvSpPr/>
            <p:nvPr/>
          </p:nvSpPr>
          <p:spPr>
            <a:xfrm>
              <a:off x="4648320" y="48769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7"/>
            <p:cNvSpPr/>
            <p:nvPr/>
          </p:nvSpPr>
          <p:spPr>
            <a:xfrm>
              <a:off x="2057400" y="3200400"/>
              <a:ext cx="152280" cy="15228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8"/>
            <p:cNvSpPr/>
            <p:nvPr/>
          </p:nvSpPr>
          <p:spPr>
            <a:xfrm>
              <a:off x="2209680" y="4267080"/>
              <a:ext cx="152640" cy="15264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9"/>
            <p:cNvSpPr/>
            <p:nvPr/>
          </p:nvSpPr>
          <p:spPr>
            <a:xfrm>
              <a:off x="3124080" y="2666880"/>
              <a:ext cx="152640" cy="15264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0"/>
            <p:cNvSpPr/>
            <p:nvPr/>
          </p:nvSpPr>
          <p:spPr>
            <a:xfrm>
              <a:off x="1600200" y="3657600"/>
              <a:ext cx="152280" cy="15228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1"/>
            <p:cNvSpPr/>
            <p:nvPr/>
          </p:nvSpPr>
          <p:spPr>
            <a:xfrm>
              <a:off x="2666880" y="3429000"/>
              <a:ext cx="152640" cy="15228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2"/>
            <p:cNvSpPr/>
            <p:nvPr/>
          </p:nvSpPr>
          <p:spPr>
            <a:xfrm>
              <a:off x="3352680" y="3048120"/>
              <a:ext cx="152640" cy="15228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3"/>
            <p:cNvSpPr/>
            <p:nvPr/>
          </p:nvSpPr>
          <p:spPr>
            <a:xfrm>
              <a:off x="2971800" y="4267080"/>
              <a:ext cx="152280" cy="15264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4"/>
            <p:cNvSpPr/>
            <p:nvPr/>
          </p:nvSpPr>
          <p:spPr>
            <a:xfrm>
              <a:off x="4267080" y="2438280"/>
              <a:ext cx="15264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5"/>
            <p:cNvSpPr/>
            <p:nvPr/>
          </p:nvSpPr>
          <p:spPr>
            <a:xfrm>
              <a:off x="4419720" y="396252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"/>
            <p:cNvSpPr/>
            <p:nvPr/>
          </p:nvSpPr>
          <p:spPr>
            <a:xfrm>
              <a:off x="4572000" y="27432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7"/>
            <p:cNvSpPr/>
            <p:nvPr/>
          </p:nvSpPr>
          <p:spPr>
            <a:xfrm>
              <a:off x="5638680" y="2895480"/>
              <a:ext cx="15264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8"/>
            <p:cNvSpPr/>
            <p:nvPr/>
          </p:nvSpPr>
          <p:spPr>
            <a:xfrm>
              <a:off x="4876920" y="304812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9"/>
            <p:cNvSpPr/>
            <p:nvPr/>
          </p:nvSpPr>
          <p:spPr>
            <a:xfrm>
              <a:off x="4038480" y="50292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0"/>
            <p:cNvSpPr/>
            <p:nvPr/>
          </p:nvSpPr>
          <p:spPr>
            <a:xfrm>
              <a:off x="4572000" y="5943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1"/>
            <p:cNvSpPr/>
            <p:nvPr/>
          </p:nvSpPr>
          <p:spPr>
            <a:xfrm>
              <a:off x="5105520" y="53341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32"/>
            <p:cNvSpPr/>
            <p:nvPr/>
          </p:nvSpPr>
          <p:spPr>
            <a:xfrm>
              <a:off x="3505320" y="3886200"/>
              <a:ext cx="152280" cy="1522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Line 33"/>
          <p:cNvSpPr/>
          <p:nvPr/>
        </p:nvSpPr>
        <p:spPr>
          <a:xfrm>
            <a:off x="3581280" y="14479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4"/>
          <p:cNvSpPr/>
          <p:nvPr/>
        </p:nvSpPr>
        <p:spPr>
          <a:xfrm>
            <a:off x="6918480" y="2097000"/>
            <a:ext cx="1578240" cy="825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  <a:ea typeface="Arial Unicode MS"/>
              </a:rPr>
              <a:t>Верна 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  <a:ea typeface="Arial Unicode MS"/>
              </a:rPr>
              <a:t>гипот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36"/>
          <p:cNvSpPr/>
          <p:nvPr/>
        </p:nvSpPr>
        <p:spPr>
          <a:xfrm>
            <a:off x="296640" y="6248520"/>
            <a:ext cx="5877360" cy="3988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 Unicode MS"/>
              </a:rPr>
              <a:t>Как найти хорошие разделяющие поверхнос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7"/>
          <p:cNvSpPr/>
          <p:nvPr/>
        </p:nvSpPr>
        <p:spPr>
          <a:xfrm>
            <a:off x="7656120" y="-33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14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тод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cch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3628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тод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cchio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классификации текс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74872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ы 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vance feedback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гут быть адаптированы к классификации тек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f-idf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кторов для представления докум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обучения вычисляется вектор-центроид, суммированием векторов в обучающей коллекции для каждой 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type = centroid of members of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овые документы присваиваются категории, вектор которой наиболее близок по косинусной ме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F93C-4C51-4E45-A55B-1856B8A444C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7656120" y="-33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14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Классификация текс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91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тическая классификация (рубрика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анровая классификация (новости – научные тексты – техническое зада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ификация по автор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ьтрация сп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ификация по тональности текс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жна быть задана система классов (категорий) для классифик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тер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е центро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жество всех документов, которые принадлежат класс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кторное представление документа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2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7C58-4F77-4F71-BA9E-1DA29CFFA03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5"/>
              <p:cNvSpPr txBox="1"/>
              <p:nvPr/>
            </p:nvSpPr>
            <p:spPr>
              <a:xfrm>
                <a:off x="2684520" y="1517760"/>
                <a:ext cx="324000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d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4" name="TextBox 5"/>
          <p:cNvSpPr/>
          <p:nvPr/>
        </p:nvSpPr>
        <p:spPr>
          <a:xfrm>
            <a:off x="7656120" y="-33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14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Line 16"/>
          <p:cNvSpPr/>
          <p:nvPr/>
        </p:nvSpPr>
        <p:spPr>
          <a:xfrm flipV="1">
            <a:off x="981000" y="4876920"/>
            <a:ext cx="1843200" cy="909360"/>
          </a:xfrm>
          <a:prstGeom prst="line">
            <a:avLst/>
          </a:prstGeom>
          <a:ln w="190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люстрац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cchio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фикации текс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4323-89C4-4221-8248-7203DBE281E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3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189" name="Line 4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5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Line 6"/>
          <p:cNvSpPr/>
          <p:nvPr/>
        </p:nvSpPr>
        <p:spPr>
          <a:xfrm flipV="1">
            <a:off x="976320" y="4208400"/>
            <a:ext cx="501480" cy="1565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7"/>
          <p:cNvSpPr/>
          <p:nvPr/>
        </p:nvSpPr>
        <p:spPr>
          <a:xfrm flipV="1">
            <a:off x="965160" y="4822560"/>
            <a:ext cx="587520" cy="9507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8"/>
          <p:cNvSpPr/>
          <p:nvPr/>
        </p:nvSpPr>
        <p:spPr>
          <a:xfrm flipV="1">
            <a:off x="965160" y="4876920"/>
            <a:ext cx="1397160" cy="909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9"/>
          <p:cNvSpPr/>
          <p:nvPr/>
        </p:nvSpPr>
        <p:spPr>
          <a:xfrm flipV="1">
            <a:off x="965160" y="5624280"/>
            <a:ext cx="1614600" cy="16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0"/>
          <p:cNvSpPr/>
          <p:nvPr/>
        </p:nvSpPr>
        <p:spPr>
          <a:xfrm flipV="1">
            <a:off x="965160" y="5361120"/>
            <a:ext cx="1163520" cy="41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1"/>
          <p:cNvSpPr/>
          <p:nvPr/>
        </p:nvSpPr>
        <p:spPr>
          <a:xfrm flipV="1">
            <a:off x="976320" y="2514240"/>
            <a:ext cx="2604960" cy="325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2"/>
          <p:cNvSpPr/>
          <p:nvPr/>
        </p:nvSpPr>
        <p:spPr>
          <a:xfrm flipV="1">
            <a:off x="976320" y="5210280"/>
            <a:ext cx="265572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"/>
          <p:cNvSpPr/>
          <p:nvPr/>
        </p:nvSpPr>
        <p:spPr>
          <a:xfrm flipV="1">
            <a:off x="976320" y="4876920"/>
            <a:ext cx="1843200" cy="909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4"/>
          <p:cNvSpPr/>
          <p:nvPr/>
        </p:nvSpPr>
        <p:spPr>
          <a:xfrm>
            <a:off x="2057400" y="4419720"/>
            <a:ext cx="598320" cy="528480"/>
          </a:xfrm>
          <a:custGeom>
            <a:avLst/>
            <a:gdLst>
              <a:gd name="textAreaLeft" fmla="*/ 0 w 598320"/>
              <a:gd name="textAreaRight" fmla="*/ 598680 w 598320"/>
              <a:gd name="textAreaTop" fmla="*/ 0 h 528480"/>
              <a:gd name="textAreaBottom" fmla="*/ 528480 h 528480"/>
            </a:gdLst>
            <a:ahLst/>
            <a:rect l="textAreaLeft" t="textAreaTop" r="textAreaRight" b="textAreaBottom"/>
            <a:pathLst>
              <a:path w="425" h="285">
                <a:moveTo>
                  <a:pt x="0" y="0"/>
                </a:moveTo>
                <a:cubicBezTo>
                  <a:pt x="97" y="8"/>
                  <a:pt x="195" y="16"/>
                  <a:pt x="259" y="40"/>
                </a:cubicBezTo>
                <a:cubicBezTo>
                  <a:pt x="323" y="64"/>
                  <a:pt x="357" y="102"/>
                  <a:pt x="385" y="143"/>
                </a:cubicBezTo>
                <a:cubicBezTo>
                  <a:pt x="413" y="184"/>
                  <a:pt x="419" y="234"/>
                  <a:pt x="425" y="28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5"/>
          <p:cNvSpPr/>
          <p:nvPr/>
        </p:nvSpPr>
        <p:spPr>
          <a:xfrm>
            <a:off x="2471760" y="5052960"/>
            <a:ext cx="185760" cy="371520"/>
          </a:xfrm>
          <a:custGeom>
            <a:avLst/>
            <a:gdLst>
              <a:gd name="textAreaLeft" fmla="*/ 0 w 185760"/>
              <a:gd name="textAreaRight" fmla="*/ 186120 w 18576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138" h="249">
                <a:moveTo>
                  <a:pt x="0" y="0"/>
                </a:moveTo>
                <a:cubicBezTo>
                  <a:pt x="45" y="16"/>
                  <a:pt x="90" y="33"/>
                  <a:pt x="113" y="59"/>
                </a:cubicBezTo>
                <a:cubicBezTo>
                  <a:pt x="136" y="85"/>
                  <a:pt x="136" y="122"/>
                  <a:pt x="137" y="154"/>
                </a:cubicBezTo>
                <a:cubicBezTo>
                  <a:pt x="138" y="186"/>
                  <a:pt x="129" y="217"/>
                  <a:pt x="121" y="24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7"/>
          <p:cNvSpPr/>
          <p:nvPr/>
        </p:nvSpPr>
        <p:spPr>
          <a:xfrm>
            <a:off x="7656120" y="-33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14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6DFF-4072-4339-8D2B-CFFC2FE7138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ы метод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cch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проблемы с «полиморфными» категор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4"/>
          <p:cNvGrpSpPr/>
          <p:nvPr/>
        </p:nvGrpSpPr>
        <p:grpSpPr>
          <a:xfrm>
            <a:off x="914400" y="2286000"/>
            <a:ext cx="7353360" cy="4046400"/>
            <a:chOff x="914400" y="2286000"/>
            <a:chExt cx="7353360" cy="4046400"/>
          </a:xfrm>
        </p:grpSpPr>
        <p:sp>
          <p:nvSpPr>
            <p:cNvPr id="206" name="Line 5"/>
            <p:cNvSpPr/>
            <p:nvPr/>
          </p:nvSpPr>
          <p:spPr>
            <a:xfrm flipV="1">
              <a:off x="916200" y="2286000"/>
              <a:ext cx="0" cy="403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6"/>
            <p:cNvSpPr/>
            <p:nvPr/>
          </p:nvSpPr>
          <p:spPr>
            <a:xfrm>
              <a:off x="914400" y="633240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Line 7"/>
          <p:cNvSpPr/>
          <p:nvPr/>
        </p:nvSpPr>
        <p:spPr>
          <a:xfrm flipV="1">
            <a:off x="901800" y="4766760"/>
            <a:ext cx="414360" cy="1552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8"/>
          <p:cNvSpPr/>
          <p:nvPr/>
        </p:nvSpPr>
        <p:spPr>
          <a:xfrm flipV="1">
            <a:off x="901800" y="5118120"/>
            <a:ext cx="565200" cy="1201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 flipV="1">
            <a:off x="914400" y="5505120"/>
            <a:ext cx="588960" cy="826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0"/>
          <p:cNvSpPr/>
          <p:nvPr/>
        </p:nvSpPr>
        <p:spPr>
          <a:xfrm flipV="1">
            <a:off x="914400" y="5638320"/>
            <a:ext cx="1295280" cy="69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1"/>
          <p:cNvSpPr/>
          <p:nvPr/>
        </p:nvSpPr>
        <p:spPr>
          <a:xfrm flipV="1">
            <a:off x="901800" y="5743440"/>
            <a:ext cx="1290600" cy="5889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2"/>
          <p:cNvSpPr/>
          <p:nvPr/>
        </p:nvSpPr>
        <p:spPr>
          <a:xfrm flipV="1">
            <a:off x="901800" y="6032520"/>
            <a:ext cx="161604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3"/>
          <p:cNvSpPr/>
          <p:nvPr/>
        </p:nvSpPr>
        <p:spPr>
          <a:xfrm flipV="1">
            <a:off x="901800" y="4858920"/>
            <a:ext cx="1866960" cy="1467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4"/>
          <p:cNvSpPr/>
          <p:nvPr/>
        </p:nvSpPr>
        <p:spPr>
          <a:xfrm flipV="1">
            <a:off x="901800" y="3432240"/>
            <a:ext cx="2943000" cy="2906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5"/>
          <p:cNvSpPr/>
          <p:nvPr/>
        </p:nvSpPr>
        <p:spPr>
          <a:xfrm flipV="1">
            <a:off x="901800" y="5122440"/>
            <a:ext cx="1052280" cy="119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16"/>
          <p:cNvGrpSpPr/>
          <p:nvPr/>
        </p:nvGrpSpPr>
        <p:grpSpPr>
          <a:xfrm>
            <a:off x="1676520" y="5257800"/>
            <a:ext cx="371520" cy="190440"/>
            <a:chOff x="1676520" y="5257800"/>
            <a:chExt cx="371520" cy="190440"/>
          </a:xfrm>
        </p:grpSpPr>
        <p:sp>
          <p:nvSpPr>
            <p:cNvPr id="218" name="Freeform 17"/>
            <p:cNvSpPr/>
            <p:nvPr/>
          </p:nvSpPr>
          <p:spPr>
            <a:xfrm>
              <a:off x="1676520" y="5389560"/>
              <a:ext cx="109440" cy="586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69" h="37">
                  <a:moveTo>
                    <a:pt x="0" y="13"/>
                  </a:moveTo>
                  <a:cubicBezTo>
                    <a:pt x="18" y="6"/>
                    <a:pt x="37" y="0"/>
                    <a:pt x="48" y="4"/>
                  </a:cubicBezTo>
                  <a:cubicBezTo>
                    <a:pt x="59" y="8"/>
                    <a:pt x="64" y="22"/>
                    <a:pt x="69" y="37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8"/>
            <p:cNvSpPr/>
            <p:nvPr/>
          </p:nvSpPr>
          <p:spPr>
            <a:xfrm>
              <a:off x="1800360" y="5257800"/>
              <a:ext cx="247680" cy="16668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56" h="105">
                  <a:moveTo>
                    <a:pt x="18" y="0"/>
                  </a:moveTo>
                  <a:lnTo>
                    <a:pt x="0" y="21"/>
                  </a:lnTo>
                  <a:cubicBezTo>
                    <a:pt x="8" y="24"/>
                    <a:pt x="44" y="12"/>
                    <a:pt x="66" y="15"/>
                  </a:cubicBezTo>
                  <a:cubicBezTo>
                    <a:pt x="88" y="18"/>
                    <a:pt x="120" y="24"/>
                    <a:pt x="135" y="39"/>
                  </a:cubicBezTo>
                  <a:cubicBezTo>
                    <a:pt x="150" y="54"/>
                    <a:pt x="153" y="79"/>
                    <a:pt x="156" y="10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Line 19"/>
          <p:cNvSpPr/>
          <p:nvPr/>
        </p:nvSpPr>
        <p:spPr>
          <a:xfrm flipV="1">
            <a:off x="914400" y="5105160"/>
            <a:ext cx="1052640" cy="1190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0"/>
          <p:cNvSpPr/>
          <p:nvPr/>
        </p:nvSpPr>
        <p:spPr>
          <a:xfrm>
            <a:off x="7656120" y="-33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14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43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сечение по центрам тяжести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cch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3"/>
          <p:cNvSpPr/>
          <p:nvPr/>
        </p:nvSpPr>
        <p:spPr>
          <a:xfrm>
            <a:off x="927000" y="1671480"/>
            <a:ext cx="263520" cy="182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4"/>
          <p:cNvSpPr/>
          <p:nvPr/>
        </p:nvSpPr>
        <p:spPr>
          <a:xfrm>
            <a:off x="533520" y="2397240"/>
            <a:ext cx="264960" cy="18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5"/>
          <p:cNvSpPr/>
          <p:nvPr/>
        </p:nvSpPr>
        <p:spPr>
          <a:xfrm>
            <a:off x="1195560" y="2587680"/>
            <a:ext cx="264960" cy="182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3549600" y="2373480"/>
            <a:ext cx="262080" cy="182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7"/>
          <p:cNvSpPr/>
          <p:nvPr/>
        </p:nvSpPr>
        <p:spPr>
          <a:xfrm>
            <a:off x="2714760" y="2116080"/>
            <a:ext cx="264960" cy="182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8"/>
          <p:cNvSpPr/>
          <p:nvPr/>
        </p:nvSpPr>
        <p:spPr>
          <a:xfrm>
            <a:off x="1074600" y="3121200"/>
            <a:ext cx="262080" cy="182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4253040" y="2233440"/>
            <a:ext cx="26496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0"/>
          <p:cNvSpPr/>
          <p:nvPr/>
        </p:nvSpPr>
        <p:spPr>
          <a:xfrm>
            <a:off x="3278160" y="2859120"/>
            <a:ext cx="266760" cy="182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1"/>
          <p:cNvSpPr/>
          <p:nvPr/>
        </p:nvSpPr>
        <p:spPr>
          <a:xfrm>
            <a:off x="2093760" y="2924280"/>
            <a:ext cx="263520" cy="182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2"/>
          <p:cNvSpPr/>
          <p:nvPr/>
        </p:nvSpPr>
        <p:spPr>
          <a:xfrm>
            <a:off x="2089080" y="3508200"/>
            <a:ext cx="262080" cy="182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3243240" y="1822320"/>
            <a:ext cx="26496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4"/>
          <p:cNvSpPr/>
          <p:nvPr/>
        </p:nvSpPr>
        <p:spPr>
          <a:xfrm>
            <a:off x="3236760" y="3541680"/>
            <a:ext cx="266760" cy="182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5"/>
          <p:cNvSpPr/>
          <p:nvPr/>
        </p:nvSpPr>
        <p:spPr>
          <a:xfrm>
            <a:off x="4005360" y="1868400"/>
            <a:ext cx="264960" cy="182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6"/>
          <p:cNvSpPr/>
          <p:nvPr/>
        </p:nvSpPr>
        <p:spPr>
          <a:xfrm>
            <a:off x="2714760" y="2774880"/>
            <a:ext cx="264960" cy="182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7"/>
          <p:cNvSpPr/>
          <p:nvPr/>
        </p:nvSpPr>
        <p:spPr>
          <a:xfrm>
            <a:off x="2975040" y="3330720"/>
            <a:ext cx="261720" cy="182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8"/>
          <p:cNvSpPr/>
          <p:nvPr/>
        </p:nvSpPr>
        <p:spPr>
          <a:xfrm>
            <a:off x="4253040" y="2738520"/>
            <a:ext cx="264960" cy="18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9"/>
          <p:cNvSpPr/>
          <p:nvPr/>
        </p:nvSpPr>
        <p:spPr>
          <a:xfrm>
            <a:off x="2030400" y="1527120"/>
            <a:ext cx="262080" cy="182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0"/>
          <p:cNvSpPr/>
          <p:nvPr/>
        </p:nvSpPr>
        <p:spPr>
          <a:xfrm>
            <a:off x="4956120" y="3817800"/>
            <a:ext cx="265320" cy="209520"/>
          </a:xfrm>
          <a:prstGeom prst="rect">
            <a:avLst/>
          </a:prstGeom>
          <a:solidFill>
            <a:srgbClr val="000000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1"/>
          <p:cNvSpPr/>
          <p:nvPr/>
        </p:nvSpPr>
        <p:spPr>
          <a:xfrm>
            <a:off x="6464160" y="3755880"/>
            <a:ext cx="263520" cy="211320"/>
          </a:xfrm>
          <a:prstGeom prst="rect">
            <a:avLst/>
          </a:prstGeom>
          <a:solidFill>
            <a:srgbClr val="000000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>
            <a:off x="4505400" y="4522680"/>
            <a:ext cx="264960" cy="211320"/>
          </a:xfrm>
          <a:prstGeom prst="rect">
            <a:avLst/>
          </a:prstGeom>
          <a:solidFill>
            <a:srgbClr val="000000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>
            <a:off x="4518000" y="5330880"/>
            <a:ext cx="262080" cy="210960"/>
          </a:xfrm>
          <a:prstGeom prst="rect">
            <a:avLst/>
          </a:prstGeom>
          <a:solidFill>
            <a:srgbClr val="000000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4"/>
          <p:cNvSpPr/>
          <p:nvPr/>
        </p:nvSpPr>
        <p:spPr>
          <a:xfrm>
            <a:off x="3967200" y="5241960"/>
            <a:ext cx="262080" cy="210960"/>
          </a:xfrm>
          <a:prstGeom prst="rect">
            <a:avLst/>
          </a:prstGeom>
          <a:solidFill>
            <a:srgbClr val="000000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5"/>
          <p:cNvSpPr/>
          <p:nvPr/>
        </p:nvSpPr>
        <p:spPr>
          <a:xfrm>
            <a:off x="5403960" y="5140440"/>
            <a:ext cx="261720" cy="209520"/>
          </a:xfrm>
          <a:prstGeom prst="rect">
            <a:avLst/>
          </a:prstGeom>
          <a:solidFill>
            <a:srgbClr val="000000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6"/>
          <p:cNvSpPr/>
          <p:nvPr/>
        </p:nvSpPr>
        <p:spPr>
          <a:xfrm>
            <a:off x="6434280" y="5219640"/>
            <a:ext cx="264960" cy="209520"/>
          </a:xfrm>
          <a:prstGeom prst="rect">
            <a:avLst/>
          </a:prstGeom>
          <a:solidFill>
            <a:srgbClr val="000000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>
            <a:off x="5987880" y="4498920"/>
            <a:ext cx="265320" cy="211320"/>
          </a:xfrm>
          <a:prstGeom prst="rect">
            <a:avLst/>
          </a:prstGeom>
          <a:solidFill>
            <a:srgbClr val="000000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8"/>
          <p:cNvSpPr/>
          <p:nvPr/>
        </p:nvSpPr>
        <p:spPr>
          <a:xfrm>
            <a:off x="6037200" y="3373560"/>
            <a:ext cx="262080" cy="209520"/>
          </a:xfrm>
          <a:prstGeom prst="rect">
            <a:avLst/>
          </a:prstGeom>
          <a:solidFill>
            <a:srgbClr val="000000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9"/>
          <p:cNvSpPr/>
          <p:nvPr/>
        </p:nvSpPr>
        <p:spPr>
          <a:xfrm>
            <a:off x="7015320" y="4729320"/>
            <a:ext cx="263520" cy="209520"/>
          </a:xfrm>
          <a:prstGeom prst="rect">
            <a:avLst/>
          </a:prstGeom>
          <a:solidFill>
            <a:srgbClr val="000000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0"/>
          <p:cNvSpPr/>
          <p:nvPr/>
        </p:nvSpPr>
        <p:spPr>
          <a:xfrm>
            <a:off x="5761080" y="3909960"/>
            <a:ext cx="263520" cy="211320"/>
          </a:xfrm>
          <a:prstGeom prst="rect">
            <a:avLst/>
          </a:prstGeom>
          <a:solidFill>
            <a:srgbClr val="000000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1"/>
          <p:cNvSpPr/>
          <p:nvPr/>
        </p:nvSpPr>
        <p:spPr>
          <a:xfrm>
            <a:off x="5173560" y="4635360"/>
            <a:ext cx="263520" cy="209520"/>
          </a:xfrm>
          <a:prstGeom prst="rect">
            <a:avLst/>
          </a:prstGeom>
          <a:solidFill>
            <a:srgbClr val="000000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2"/>
          <p:cNvSpPr/>
          <p:nvPr/>
        </p:nvSpPr>
        <p:spPr>
          <a:xfrm>
            <a:off x="7162920" y="4325760"/>
            <a:ext cx="261720" cy="211320"/>
          </a:xfrm>
          <a:prstGeom prst="rect">
            <a:avLst/>
          </a:prstGeom>
          <a:solidFill>
            <a:srgbClr val="000000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3"/>
          <p:cNvSpPr/>
          <p:nvPr/>
        </p:nvSpPr>
        <p:spPr>
          <a:xfrm>
            <a:off x="7278840" y="3228840"/>
            <a:ext cx="264960" cy="209520"/>
          </a:xfrm>
          <a:prstGeom prst="rect">
            <a:avLst/>
          </a:prstGeom>
          <a:solidFill>
            <a:srgbClr val="000000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4"/>
          <p:cNvSpPr/>
          <p:nvPr/>
        </p:nvSpPr>
        <p:spPr>
          <a:xfrm flipV="1">
            <a:off x="1717560" y="1447920"/>
            <a:ext cx="5651640" cy="42480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5"/>
          <p:cNvSpPr/>
          <p:nvPr/>
        </p:nvSpPr>
        <p:spPr>
          <a:xfrm flipV="1">
            <a:off x="3425760" y="2863800"/>
            <a:ext cx="986040" cy="743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6"/>
          <p:cNvSpPr/>
          <p:nvPr/>
        </p:nvSpPr>
        <p:spPr>
          <a:xfrm flipH="1" flipV="1">
            <a:off x="1236240" y="3223800"/>
            <a:ext cx="916200" cy="39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7"/>
          <p:cNvSpPr/>
          <p:nvPr/>
        </p:nvSpPr>
        <p:spPr>
          <a:xfrm flipH="1" flipV="1">
            <a:off x="2199960" y="3611160"/>
            <a:ext cx="1197000" cy="28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8"/>
          <p:cNvSpPr/>
          <p:nvPr/>
        </p:nvSpPr>
        <p:spPr>
          <a:xfrm flipH="1" flipV="1">
            <a:off x="693720" y="2508120"/>
            <a:ext cx="542880" cy="687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39"/>
          <p:cNvSpPr/>
          <p:nvPr/>
        </p:nvSpPr>
        <p:spPr>
          <a:xfrm flipV="1">
            <a:off x="703440" y="1760400"/>
            <a:ext cx="334800" cy="728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40"/>
          <p:cNvSpPr/>
          <p:nvPr/>
        </p:nvSpPr>
        <p:spPr>
          <a:xfrm flipV="1">
            <a:off x="1047600" y="1644120"/>
            <a:ext cx="1092240" cy="125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41"/>
          <p:cNvSpPr/>
          <p:nvPr/>
        </p:nvSpPr>
        <p:spPr>
          <a:xfrm>
            <a:off x="2171880" y="1625760"/>
            <a:ext cx="1933560" cy="322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42"/>
          <p:cNvSpPr/>
          <p:nvPr/>
        </p:nvSpPr>
        <p:spPr>
          <a:xfrm>
            <a:off x="4187880" y="1971720"/>
            <a:ext cx="160200" cy="322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43"/>
          <p:cNvSpPr/>
          <p:nvPr/>
        </p:nvSpPr>
        <p:spPr>
          <a:xfrm>
            <a:off x="4357800" y="2401920"/>
            <a:ext cx="36360" cy="503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 flipV="1">
            <a:off x="4087800" y="3882960"/>
            <a:ext cx="949320" cy="1416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5"/>
          <p:cNvSpPr/>
          <p:nvPr/>
        </p:nvSpPr>
        <p:spPr>
          <a:xfrm flipV="1">
            <a:off x="5119560" y="3429000"/>
            <a:ext cx="1022400" cy="434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4734000" y="5308560"/>
            <a:ext cx="1741320" cy="1396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7"/>
          <p:cNvSpPr/>
          <p:nvPr/>
        </p:nvSpPr>
        <p:spPr>
          <a:xfrm>
            <a:off x="4129200" y="5373720"/>
            <a:ext cx="527040" cy="698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8"/>
          <p:cNvSpPr/>
          <p:nvPr/>
        </p:nvSpPr>
        <p:spPr>
          <a:xfrm flipV="1">
            <a:off x="6575400" y="4840200"/>
            <a:ext cx="546120" cy="519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9"/>
          <p:cNvSpPr/>
          <p:nvPr/>
        </p:nvSpPr>
        <p:spPr>
          <a:xfrm flipV="1">
            <a:off x="7167600" y="4443480"/>
            <a:ext cx="141120" cy="365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0"/>
          <p:cNvSpPr/>
          <p:nvPr/>
        </p:nvSpPr>
        <p:spPr>
          <a:xfrm flipV="1">
            <a:off x="6194520" y="3317400"/>
            <a:ext cx="1197000" cy="111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1"/>
          <p:cNvSpPr/>
          <p:nvPr/>
        </p:nvSpPr>
        <p:spPr>
          <a:xfrm flipV="1">
            <a:off x="7296120" y="3354480"/>
            <a:ext cx="106560" cy="10936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52"/>
          <p:cNvSpPr/>
          <p:nvPr/>
        </p:nvSpPr>
        <p:spPr>
          <a:xfrm>
            <a:off x="2971800" y="2438280"/>
            <a:ext cx="385920" cy="309600"/>
          </a:xfrm>
          <a:prstGeom prst="ellipse">
            <a:avLst/>
          </a:prstGeom>
          <a:solidFill>
            <a:srgbClr val="66ff66"/>
          </a:solidFill>
          <a:ln w="2844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53"/>
          <p:cNvSpPr/>
          <p:nvPr/>
        </p:nvSpPr>
        <p:spPr>
          <a:xfrm>
            <a:off x="5562720" y="4495680"/>
            <a:ext cx="385560" cy="308160"/>
          </a:xfrm>
          <a:prstGeom prst="ellipse">
            <a:avLst/>
          </a:prstGeom>
          <a:solidFill>
            <a:srgbClr val="66ff66"/>
          </a:solidFill>
          <a:ln w="2844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4"/>
          <p:cNvSpPr/>
          <p:nvPr/>
        </p:nvSpPr>
        <p:spPr>
          <a:xfrm flipH="1" flipV="1">
            <a:off x="3200040" y="2666880"/>
            <a:ext cx="2514600" cy="1905120"/>
          </a:xfrm>
          <a:prstGeom prst="line">
            <a:avLst/>
          </a:prstGeom>
          <a:ln w="190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55"/>
          <p:cNvSpPr/>
          <p:nvPr/>
        </p:nvSpPr>
        <p:spPr>
          <a:xfrm>
            <a:off x="4867200" y="2122560"/>
            <a:ext cx="619200" cy="380880"/>
          </a:xfrm>
          <a:prstGeom prst="su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56"/>
          <p:cNvSpPr/>
          <p:nvPr/>
        </p:nvSpPr>
        <p:spPr>
          <a:xfrm>
            <a:off x="0" y="2195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8"/>
          <p:cNvSpPr/>
          <p:nvPr/>
        </p:nvSpPr>
        <p:spPr>
          <a:xfrm>
            <a:off x="0" y="3017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9"/>
          <p:cNvSpPr/>
          <p:nvPr/>
        </p:nvSpPr>
        <p:spPr>
          <a:xfrm>
            <a:off x="0" y="3840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ы по метод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cch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197000"/>
            <a:ext cx="822960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ое представление для каждого класса: центроид-прототи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сификация основана на близости центрои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ло используется вне классификации тек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ет быть эффективна для классификации тек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обычно хуже, че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ïve Ba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ое обучение и  тест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34E1-3161-40CE-A18A-DADB01E33F6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4"/>
          <p:cNvSpPr/>
          <p:nvPr/>
        </p:nvSpPr>
        <p:spPr>
          <a:xfrm>
            <a:off x="7656120" y="-33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14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Метод ближайших соседей</a:t>
            </a:r>
            <a:br>
              <a:rPr sz="3600"/>
            </a:b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KN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94A0-DD3F-4DDD-8BDB-CA748BF1A4B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k Nearest Neighbor</a:t>
            </a:r>
            <a:br>
              <a:rPr sz="4000"/>
            </a:b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(К ближайших соседей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N = k Nearest Neigh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классифицировать документ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уж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руж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ижайших соседе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читать число документов 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оторые относятся 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ени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(c|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s i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рать максимальный клас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g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(c|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   [ = majority clas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5"/>
          <p:cNvSpPr/>
          <p:nvPr/>
        </p:nvSpPr>
        <p:spPr>
          <a:xfrm>
            <a:off x="7656120" y="-33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14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4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2762-60CA-4972-839A-2380C8A68A5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"/>
          <p:cNvSpPr/>
          <p:nvPr/>
        </p:nvSpPr>
        <p:spPr>
          <a:xfrm>
            <a:off x="1981080" y="2514600"/>
            <a:ext cx="2514600" cy="19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Пример</a:t>
            </a: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: k=6 (6N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5"/>
          <p:cNvSpPr/>
          <p:nvPr/>
        </p:nvSpPr>
        <p:spPr>
          <a:xfrm>
            <a:off x="1905120" y="2666880"/>
            <a:ext cx="152280" cy="15264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6"/>
          <p:cNvSpPr/>
          <p:nvPr/>
        </p:nvSpPr>
        <p:spPr>
          <a:xfrm>
            <a:off x="4114800" y="3352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7"/>
          <p:cNvSpPr/>
          <p:nvPr/>
        </p:nvSpPr>
        <p:spPr>
          <a:xfrm>
            <a:off x="46483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8"/>
          <p:cNvSpPr/>
          <p:nvPr/>
        </p:nvSpPr>
        <p:spPr>
          <a:xfrm>
            <a:off x="2057400" y="3200400"/>
            <a:ext cx="152280" cy="15228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9"/>
          <p:cNvSpPr/>
          <p:nvPr/>
        </p:nvSpPr>
        <p:spPr>
          <a:xfrm>
            <a:off x="2209680" y="4267080"/>
            <a:ext cx="152640" cy="15264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0"/>
          <p:cNvSpPr/>
          <p:nvPr/>
        </p:nvSpPr>
        <p:spPr>
          <a:xfrm>
            <a:off x="3124080" y="2666880"/>
            <a:ext cx="152640" cy="15264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1"/>
          <p:cNvSpPr/>
          <p:nvPr/>
        </p:nvSpPr>
        <p:spPr>
          <a:xfrm>
            <a:off x="1600200" y="3657600"/>
            <a:ext cx="152280" cy="15228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2"/>
          <p:cNvSpPr/>
          <p:nvPr/>
        </p:nvSpPr>
        <p:spPr>
          <a:xfrm>
            <a:off x="2666880" y="3429000"/>
            <a:ext cx="152640" cy="15228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13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4"/>
          <p:cNvSpPr/>
          <p:nvPr/>
        </p:nvSpPr>
        <p:spPr>
          <a:xfrm>
            <a:off x="2971800" y="4267080"/>
            <a:ext cx="152280" cy="15264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5"/>
          <p:cNvSpPr/>
          <p:nvPr/>
        </p:nvSpPr>
        <p:spPr>
          <a:xfrm>
            <a:off x="4267080" y="2438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4419720" y="3962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7"/>
          <p:cNvSpPr/>
          <p:nvPr/>
        </p:nvSpPr>
        <p:spPr>
          <a:xfrm>
            <a:off x="4572000" y="27432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18"/>
          <p:cNvSpPr/>
          <p:nvPr/>
        </p:nvSpPr>
        <p:spPr>
          <a:xfrm>
            <a:off x="5638680" y="28954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9"/>
          <p:cNvSpPr/>
          <p:nvPr/>
        </p:nvSpPr>
        <p:spPr>
          <a:xfrm>
            <a:off x="4876920" y="3048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20"/>
          <p:cNvSpPr/>
          <p:nvPr/>
        </p:nvSpPr>
        <p:spPr>
          <a:xfrm>
            <a:off x="4038480" y="5029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21"/>
          <p:cNvSpPr/>
          <p:nvPr/>
        </p:nvSpPr>
        <p:spPr>
          <a:xfrm>
            <a:off x="4572000" y="5943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22"/>
          <p:cNvSpPr/>
          <p:nvPr/>
        </p:nvSpPr>
        <p:spPr>
          <a:xfrm>
            <a:off x="510552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2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24"/>
          <p:cNvSpPr/>
          <p:nvPr/>
        </p:nvSpPr>
        <p:spPr>
          <a:xfrm>
            <a:off x="7238880" y="4876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25"/>
          <p:cNvSpPr/>
          <p:nvPr/>
        </p:nvSpPr>
        <p:spPr>
          <a:xfrm>
            <a:off x="7238880" y="53341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26"/>
          <p:cNvSpPr/>
          <p:nvPr/>
        </p:nvSpPr>
        <p:spPr>
          <a:xfrm>
            <a:off x="6629400" y="1905120"/>
            <a:ext cx="0" cy="441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7"/>
          <p:cNvSpPr/>
          <p:nvPr/>
        </p:nvSpPr>
        <p:spPr>
          <a:xfrm>
            <a:off x="7288200" y="428148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Arial Unicode MS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8"/>
          <p:cNvSpPr/>
          <p:nvPr/>
        </p:nvSpPr>
        <p:spPr>
          <a:xfrm>
            <a:off x="7346520" y="480060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Arial Unicode MS"/>
              </a:rPr>
              <a:t>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9"/>
          <p:cNvSpPr/>
          <p:nvPr/>
        </p:nvSpPr>
        <p:spPr>
          <a:xfrm>
            <a:off x="7373880" y="525780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Arial Unicode MS"/>
              </a:rPr>
              <a:t>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30"/>
          <p:cNvSpPr/>
          <p:nvPr/>
        </p:nvSpPr>
        <p:spPr>
          <a:xfrm>
            <a:off x="3124080" y="3429000"/>
            <a:ext cx="228600" cy="2286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1"/>
          <p:cNvSpPr/>
          <p:nvPr/>
        </p:nvSpPr>
        <p:spPr>
          <a:xfrm>
            <a:off x="6913440" y="2173320"/>
            <a:ext cx="21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Lucida Sans"/>
                <a:ea typeface="Arial Unicode MS"/>
              </a:rPr>
              <a:t>P(science|   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32"/>
          <p:cNvSpPr/>
          <p:nvPr/>
        </p:nvSpPr>
        <p:spPr>
          <a:xfrm>
            <a:off x="8458200" y="2286000"/>
            <a:ext cx="228600" cy="2286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33"/>
          <p:cNvSpPr/>
          <p:nvPr/>
        </p:nvSpPr>
        <p:spPr>
          <a:xfrm>
            <a:off x="7656120" y="-33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14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A9D3-C403-4B1A-92F2-6EF735637C1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Arial"/>
              </a:rPr>
              <a:t>Алгоритм: 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k </a:t>
            </a:r>
            <a:r>
              <a:rPr b="0" lang="ru-RU" sz="4000" spc="-1" strike="noStrike">
                <a:solidFill>
                  <a:srgbClr val="800080"/>
                </a:solidFill>
                <a:latin typeface="Arial"/>
              </a:rPr>
              <a:t>ближайших сосед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только одного ближайшего сосе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NN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ет к ошибкам из-з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ипичных пример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шибок в ручной привязке единственного обучающего приме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ее устойчивой альтернативой является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ее похожих примеров и определение больши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личина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пично нечетная: 3, 5 (наиболее распространенные величин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4"/>
          <p:cNvSpPr/>
          <p:nvPr/>
        </p:nvSpPr>
        <p:spPr>
          <a:xfrm>
            <a:off x="7656120" y="-33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14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lide Number Placeholder 4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BA80-6AD8-49E8-918F-F92D5FCC2D4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kNN </a:t>
            </a: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границы разде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3"/>
          <p:cNvSpPr/>
          <p:nvPr/>
        </p:nvSpPr>
        <p:spPr>
          <a:xfrm>
            <a:off x="1905120" y="2666880"/>
            <a:ext cx="152280" cy="15264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4"/>
          <p:cNvSpPr/>
          <p:nvPr/>
        </p:nvSpPr>
        <p:spPr>
          <a:xfrm>
            <a:off x="4114800" y="3352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5"/>
          <p:cNvSpPr/>
          <p:nvPr/>
        </p:nvSpPr>
        <p:spPr>
          <a:xfrm>
            <a:off x="46483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6"/>
          <p:cNvSpPr/>
          <p:nvPr/>
        </p:nvSpPr>
        <p:spPr>
          <a:xfrm>
            <a:off x="2057400" y="3200400"/>
            <a:ext cx="152280" cy="15228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7"/>
          <p:cNvSpPr/>
          <p:nvPr/>
        </p:nvSpPr>
        <p:spPr>
          <a:xfrm>
            <a:off x="2209680" y="4267080"/>
            <a:ext cx="152640" cy="15264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8"/>
          <p:cNvSpPr/>
          <p:nvPr/>
        </p:nvSpPr>
        <p:spPr>
          <a:xfrm>
            <a:off x="3124080" y="2666880"/>
            <a:ext cx="152640" cy="15264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9"/>
          <p:cNvSpPr/>
          <p:nvPr/>
        </p:nvSpPr>
        <p:spPr>
          <a:xfrm>
            <a:off x="1600200" y="3657600"/>
            <a:ext cx="152280" cy="15228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0"/>
          <p:cNvSpPr/>
          <p:nvPr/>
        </p:nvSpPr>
        <p:spPr>
          <a:xfrm>
            <a:off x="2666880" y="3429000"/>
            <a:ext cx="152640" cy="15228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1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2"/>
          <p:cNvSpPr/>
          <p:nvPr/>
        </p:nvSpPr>
        <p:spPr>
          <a:xfrm>
            <a:off x="2971800" y="4267080"/>
            <a:ext cx="152280" cy="15264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3"/>
          <p:cNvSpPr/>
          <p:nvPr/>
        </p:nvSpPr>
        <p:spPr>
          <a:xfrm>
            <a:off x="4267080" y="2438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4"/>
          <p:cNvSpPr/>
          <p:nvPr/>
        </p:nvSpPr>
        <p:spPr>
          <a:xfrm>
            <a:off x="4419720" y="3962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5"/>
          <p:cNvSpPr/>
          <p:nvPr/>
        </p:nvSpPr>
        <p:spPr>
          <a:xfrm>
            <a:off x="4572000" y="27432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16"/>
          <p:cNvSpPr/>
          <p:nvPr/>
        </p:nvSpPr>
        <p:spPr>
          <a:xfrm>
            <a:off x="5638680" y="28954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17"/>
          <p:cNvSpPr/>
          <p:nvPr/>
        </p:nvSpPr>
        <p:spPr>
          <a:xfrm>
            <a:off x="4876920" y="3048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18"/>
          <p:cNvSpPr/>
          <p:nvPr/>
        </p:nvSpPr>
        <p:spPr>
          <a:xfrm>
            <a:off x="4038480" y="5029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9"/>
          <p:cNvSpPr/>
          <p:nvPr/>
        </p:nvSpPr>
        <p:spPr>
          <a:xfrm>
            <a:off x="4572000" y="5943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0"/>
          <p:cNvSpPr/>
          <p:nvPr/>
        </p:nvSpPr>
        <p:spPr>
          <a:xfrm>
            <a:off x="510552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21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22"/>
          <p:cNvSpPr/>
          <p:nvPr/>
        </p:nvSpPr>
        <p:spPr>
          <a:xfrm>
            <a:off x="7238880" y="4876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23"/>
          <p:cNvSpPr/>
          <p:nvPr/>
        </p:nvSpPr>
        <p:spPr>
          <a:xfrm>
            <a:off x="7238880" y="53341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4"/>
          <p:cNvSpPr/>
          <p:nvPr/>
        </p:nvSpPr>
        <p:spPr>
          <a:xfrm>
            <a:off x="6629400" y="1905120"/>
            <a:ext cx="0" cy="441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5"/>
          <p:cNvSpPr/>
          <p:nvPr/>
        </p:nvSpPr>
        <p:spPr>
          <a:xfrm>
            <a:off x="7288200" y="428148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Arial Unicode MS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6"/>
          <p:cNvSpPr/>
          <p:nvPr/>
        </p:nvSpPr>
        <p:spPr>
          <a:xfrm>
            <a:off x="7346520" y="480060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Arial Unicode MS"/>
              </a:rPr>
              <a:t>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7"/>
          <p:cNvSpPr/>
          <p:nvPr/>
        </p:nvSpPr>
        <p:spPr>
          <a:xfrm>
            <a:off x="7373880" y="525780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Arial Unicode MS"/>
              </a:rPr>
              <a:t>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32"/>
          <p:cNvSpPr/>
          <p:nvPr/>
        </p:nvSpPr>
        <p:spPr>
          <a:xfrm>
            <a:off x="2022480" y="2241720"/>
            <a:ext cx="1766880" cy="3992400"/>
          </a:xfrm>
          <a:custGeom>
            <a:avLst/>
            <a:gdLst>
              <a:gd name="textAreaLeft" fmla="*/ 0 w 1766880"/>
              <a:gd name="textAreaRight" fmla="*/ 1767240 w 1766880"/>
              <a:gd name="textAreaTop" fmla="*/ 0 h 3992400"/>
              <a:gd name="textAreaBottom" fmla="*/ 3992760 h 3992400"/>
            </a:gdLst>
            <a:ahLst/>
            <a:rect l="textAreaLeft" t="textAreaTop" r="textAreaRight" b="textAreaBottom"/>
            <a:pathLst>
              <a:path w="1113" h="2515">
                <a:moveTo>
                  <a:pt x="876" y="0"/>
                </a:moveTo>
                <a:cubicBezTo>
                  <a:pt x="887" y="16"/>
                  <a:pt x="897" y="32"/>
                  <a:pt x="908" y="48"/>
                </a:cubicBezTo>
                <a:cubicBezTo>
                  <a:pt x="914" y="56"/>
                  <a:pt x="925" y="73"/>
                  <a:pt x="925" y="73"/>
                </a:cubicBezTo>
                <a:cubicBezTo>
                  <a:pt x="935" y="104"/>
                  <a:pt x="959" y="117"/>
                  <a:pt x="973" y="146"/>
                </a:cubicBezTo>
                <a:cubicBezTo>
                  <a:pt x="997" y="195"/>
                  <a:pt x="1031" y="244"/>
                  <a:pt x="1071" y="284"/>
                </a:cubicBezTo>
                <a:cubicBezTo>
                  <a:pt x="1076" y="300"/>
                  <a:pt x="1082" y="316"/>
                  <a:pt x="1087" y="332"/>
                </a:cubicBezTo>
                <a:cubicBezTo>
                  <a:pt x="1090" y="340"/>
                  <a:pt x="1092" y="349"/>
                  <a:pt x="1095" y="357"/>
                </a:cubicBezTo>
                <a:cubicBezTo>
                  <a:pt x="1098" y="365"/>
                  <a:pt x="1103" y="381"/>
                  <a:pt x="1103" y="381"/>
                </a:cubicBezTo>
                <a:cubicBezTo>
                  <a:pt x="1109" y="426"/>
                  <a:pt x="1101" y="461"/>
                  <a:pt x="1111" y="503"/>
                </a:cubicBezTo>
                <a:cubicBezTo>
                  <a:pt x="1098" y="567"/>
                  <a:pt x="1113" y="657"/>
                  <a:pt x="1062" y="705"/>
                </a:cubicBezTo>
                <a:cubicBezTo>
                  <a:pt x="1033" y="794"/>
                  <a:pt x="1078" y="662"/>
                  <a:pt x="1038" y="754"/>
                </a:cubicBezTo>
                <a:cubicBezTo>
                  <a:pt x="1031" y="770"/>
                  <a:pt x="1022" y="803"/>
                  <a:pt x="1022" y="803"/>
                </a:cubicBezTo>
                <a:cubicBezTo>
                  <a:pt x="1030" y="879"/>
                  <a:pt x="1043" y="954"/>
                  <a:pt x="1054" y="1030"/>
                </a:cubicBezTo>
                <a:cubicBezTo>
                  <a:pt x="1064" y="1097"/>
                  <a:pt x="1056" y="1059"/>
                  <a:pt x="1071" y="1103"/>
                </a:cubicBezTo>
                <a:cubicBezTo>
                  <a:pt x="1077" y="1119"/>
                  <a:pt x="1087" y="1152"/>
                  <a:pt x="1087" y="1152"/>
                </a:cubicBezTo>
                <a:cubicBezTo>
                  <a:pt x="1093" y="1193"/>
                  <a:pt x="1101" y="1226"/>
                  <a:pt x="1111" y="1265"/>
                </a:cubicBezTo>
                <a:cubicBezTo>
                  <a:pt x="1110" y="1275"/>
                  <a:pt x="1107" y="1334"/>
                  <a:pt x="1095" y="1354"/>
                </a:cubicBezTo>
                <a:cubicBezTo>
                  <a:pt x="1075" y="1389"/>
                  <a:pt x="1039" y="1406"/>
                  <a:pt x="1014" y="1436"/>
                </a:cubicBezTo>
                <a:cubicBezTo>
                  <a:pt x="992" y="1463"/>
                  <a:pt x="973" y="1492"/>
                  <a:pt x="949" y="1517"/>
                </a:cubicBezTo>
                <a:cubicBezTo>
                  <a:pt x="930" y="1575"/>
                  <a:pt x="834" y="1667"/>
                  <a:pt x="779" y="1703"/>
                </a:cubicBezTo>
                <a:cubicBezTo>
                  <a:pt x="758" y="1734"/>
                  <a:pt x="740" y="1766"/>
                  <a:pt x="714" y="1793"/>
                </a:cubicBezTo>
                <a:cubicBezTo>
                  <a:pt x="688" y="1862"/>
                  <a:pt x="613" y="1915"/>
                  <a:pt x="559" y="1963"/>
                </a:cubicBezTo>
                <a:cubicBezTo>
                  <a:pt x="475" y="2037"/>
                  <a:pt x="543" y="1992"/>
                  <a:pt x="486" y="2028"/>
                </a:cubicBezTo>
                <a:cubicBezTo>
                  <a:pt x="459" y="2068"/>
                  <a:pt x="452" y="2084"/>
                  <a:pt x="413" y="2109"/>
                </a:cubicBezTo>
                <a:cubicBezTo>
                  <a:pt x="391" y="2142"/>
                  <a:pt x="365" y="2177"/>
                  <a:pt x="332" y="2198"/>
                </a:cubicBezTo>
                <a:cubicBezTo>
                  <a:pt x="299" y="2247"/>
                  <a:pt x="243" y="2288"/>
                  <a:pt x="194" y="2320"/>
                </a:cubicBezTo>
                <a:cubicBezTo>
                  <a:pt x="175" y="2348"/>
                  <a:pt x="158" y="2367"/>
                  <a:pt x="129" y="2385"/>
                </a:cubicBezTo>
                <a:cubicBezTo>
                  <a:pt x="106" y="2419"/>
                  <a:pt x="67" y="2451"/>
                  <a:pt x="32" y="2474"/>
                </a:cubicBezTo>
                <a:cubicBezTo>
                  <a:pt x="27" y="2482"/>
                  <a:pt x="22" y="2490"/>
                  <a:pt x="16" y="2498"/>
                </a:cubicBezTo>
                <a:cubicBezTo>
                  <a:pt x="11" y="2504"/>
                  <a:pt x="0" y="2515"/>
                  <a:pt x="0" y="2515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33"/>
          <p:cNvSpPr/>
          <p:nvPr/>
        </p:nvSpPr>
        <p:spPr>
          <a:xfrm>
            <a:off x="3760920" y="4121280"/>
            <a:ext cx="2549520" cy="385560"/>
          </a:xfrm>
          <a:custGeom>
            <a:avLst/>
            <a:gdLst>
              <a:gd name="textAreaLeft" fmla="*/ 0 w 2549520"/>
              <a:gd name="textAreaRight" fmla="*/ 2549520 w 2549520"/>
              <a:gd name="textAreaTop" fmla="*/ 0 h 385560"/>
              <a:gd name="textAreaBottom" fmla="*/ 385920 h 385560"/>
            </a:gdLst>
            <a:ahLst/>
            <a:rect l="textAreaLeft" t="textAreaTop" r="textAreaRight" b="textAreaBottom"/>
            <a:pathLst>
              <a:path w="1606" h="243">
                <a:moveTo>
                  <a:pt x="0" y="170"/>
                </a:moveTo>
                <a:cubicBezTo>
                  <a:pt x="11" y="173"/>
                  <a:pt x="21" y="178"/>
                  <a:pt x="32" y="179"/>
                </a:cubicBezTo>
                <a:cubicBezTo>
                  <a:pt x="70" y="183"/>
                  <a:pt x="108" y="180"/>
                  <a:pt x="146" y="187"/>
                </a:cubicBezTo>
                <a:cubicBezTo>
                  <a:pt x="155" y="189"/>
                  <a:pt x="161" y="199"/>
                  <a:pt x="170" y="203"/>
                </a:cubicBezTo>
                <a:cubicBezTo>
                  <a:pt x="204" y="218"/>
                  <a:pt x="248" y="234"/>
                  <a:pt x="284" y="243"/>
                </a:cubicBezTo>
                <a:cubicBezTo>
                  <a:pt x="405" y="237"/>
                  <a:pt x="521" y="226"/>
                  <a:pt x="641" y="211"/>
                </a:cubicBezTo>
                <a:cubicBezTo>
                  <a:pt x="676" y="199"/>
                  <a:pt x="711" y="191"/>
                  <a:pt x="746" y="179"/>
                </a:cubicBezTo>
                <a:cubicBezTo>
                  <a:pt x="783" y="154"/>
                  <a:pt x="825" y="136"/>
                  <a:pt x="868" y="122"/>
                </a:cubicBezTo>
                <a:cubicBezTo>
                  <a:pt x="884" y="117"/>
                  <a:pt x="917" y="106"/>
                  <a:pt x="917" y="106"/>
                </a:cubicBezTo>
                <a:cubicBezTo>
                  <a:pt x="1013" y="112"/>
                  <a:pt x="1098" y="127"/>
                  <a:pt x="1192" y="146"/>
                </a:cubicBezTo>
                <a:cubicBezTo>
                  <a:pt x="1254" y="134"/>
                  <a:pt x="1288" y="92"/>
                  <a:pt x="1347" y="73"/>
                </a:cubicBezTo>
                <a:cubicBezTo>
                  <a:pt x="1395" y="41"/>
                  <a:pt x="1462" y="43"/>
                  <a:pt x="1517" y="24"/>
                </a:cubicBezTo>
                <a:cubicBezTo>
                  <a:pt x="1533" y="18"/>
                  <a:pt x="1549" y="11"/>
                  <a:pt x="1566" y="8"/>
                </a:cubicBezTo>
                <a:cubicBezTo>
                  <a:pt x="1579" y="5"/>
                  <a:pt x="1606" y="0"/>
                  <a:pt x="1606" y="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4"/>
          <p:cNvSpPr/>
          <p:nvPr/>
        </p:nvSpPr>
        <p:spPr>
          <a:xfrm>
            <a:off x="7086600" y="1828800"/>
            <a:ext cx="1600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Boundaries are in principle arbitrary surfaces – but usually polyhed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31"/>
          <p:cNvSpPr/>
          <p:nvPr/>
        </p:nvSpPr>
        <p:spPr>
          <a:xfrm>
            <a:off x="457200" y="5791320"/>
            <a:ext cx="7162920" cy="1008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kNN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дает локально определяемое решение границ между классами – дальние точки не влияют на определение границ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в отличие от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Naïve Bayes, Rocchio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 и др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32"/>
          <p:cNvSpPr/>
          <p:nvPr/>
        </p:nvSpPr>
        <p:spPr>
          <a:xfrm>
            <a:off x="7656120" y="-33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14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Тематическая классификация (рубрикация) текс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820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ификация/рубрикация информации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есение порции информации к одной или нескольким категориям из конечного множества рубр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вигация по коллекции доку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мена сложного запро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ерархическое упорядочение знаний предметн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распределения документов по темат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льтрация потока текс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атический сбор нов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сонализированная фильтрация потока тек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атический сбор информации из интер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lide Number Placeholder 4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94D4-3008-4DFA-A8EB-613B029AB55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Иллюстрация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3NN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 для текста в векторном простран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3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361" name="Line 4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5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Line 6"/>
          <p:cNvSpPr/>
          <p:nvPr/>
        </p:nvSpPr>
        <p:spPr>
          <a:xfrm flipV="1">
            <a:off x="976320" y="4208400"/>
            <a:ext cx="501480" cy="1565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7"/>
          <p:cNvSpPr/>
          <p:nvPr/>
        </p:nvSpPr>
        <p:spPr>
          <a:xfrm flipV="1">
            <a:off x="965160" y="4822560"/>
            <a:ext cx="587520" cy="950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8"/>
          <p:cNvSpPr/>
          <p:nvPr/>
        </p:nvSpPr>
        <p:spPr>
          <a:xfrm flipV="1">
            <a:off x="965160" y="4876920"/>
            <a:ext cx="1397160" cy="909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9"/>
          <p:cNvSpPr/>
          <p:nvPr/>
        </p:nvSpPr>
        <p:spPr>
          <a:xfrm flipV="1">
            <a:off x="965160" y="5624280"/>
            <a:ext cx="1614600" cy="16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0"/>
          <p:cNvSpPr/>
          <p:nvPr/>
        </p:nvSpPr>
        <p:spPr>
          <a:xfrm flipV="1">
            <a:off x="965160" y="5361120"/>
            <a:ext cx="1163520" cy="412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1"/>
          <p:cNvSpPr/>
          <p:nvPr/>
        </p:nvSpPr>
        <p:spPr>
          <a:xfrm flipV="1">
            <a:off x="976320" y="4876920"/>
            <a:ext cx="1843200" cy="909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2"/>
          <p:cNvSpPr/>
          <p:nvPr/>
        </p:nvSpPr>
        <p:spPr>
          <a:xfrm flipV="1">
            <a:off x="981000" y="4876920"/>
            <a:ext cx="1843200" cy="909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3"/>
          <p:cNvGrpSpPr/>
          <p:nvPr/>
        </p:nvGrpSpPr>
        <p:grpSpPr>
          <a:xfrm>
            <a:off x="1838160" y="5178600"/>
            <a:ext cx="576360" cy="469800"/>
            <a:chOff x="1838160" y="5178600"/>
            <a:chExt cx="576360" cy="469800"/>
          </a:xfrm>
        </p:grpSpPr>
        <p:sp>
          <p:nvSpPr>
            <p:cNvPr id="371" name="Freeform 14"/>
            <p:cNvSpPr/>
            <p:nvPr/>
          </p:nvSpPr>
          <p:spPr>
            <a:xfrm>
              <a:off x="1838160" y="5357880"/>
              <a:ext cx="22320" cy="1047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4" h="66">
                  <a:moveTo>
                    <a:pt x="0" y="0"/>
                  </a:moveTo>
                  <a:lnTo>
                    <a:pt x="12" y="18"/>
                  </a:lnTo>
                  <a:cubicBezTo>
                    <a:pt x="14" y="29"/>
                    <a:pt x="13" y="47"/>
                    <a:pt x="12" y="6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5"/>
            <p:cNvSpPr/>
            <p:nvPr/>
          </p:nvSpPr>
          <p:spPr>
            <a:xfrm>
              <a:off x="1905120" y="5178600"/>
              <a:ext cx="104760" cy="1029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66" h="65">
                  <a:moveTo>
                    <a:pt x="0" y="2"/>
                  </a:moveTo>
                  <a:cubicBezTo>
                    <a:pt x="14" y="1"/>
                    <a:pt x="28" y="0"/>
                    <a:pt x="39" y="5"/>
                  </a:cubicBezTo>
                  <a:cubicBezTo>
                    <a:pt x="50" y="10"/>
                    <a:pt x="60" y="19"/>
                    <a:pt x="63" y="29"/>
                  </a:cubicBezTo>
                  <a:cubicBezTo>
                    <a:pt x="66" y="39"/>
                    <a:pt x="61" y="52"/>
                    <a:pt x="57" y="6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6"/>
            <p:cNvSpPr/>
            <p:nvPr/>
          </p:nvSpPr>
          <p:spPr>
            <a:xfrm>
              <a:off x="2209680" y="5181480"/>
              <a:ext cx="204840" cy="46692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466920"/>
                <a:gd name="textAreaBottom" fmla="*/ 467280 h 466920"/>
              </a:gdLst>
              <a:ahLst/>
              <a:rect l="textAreaLeft" t="textAreaTop" r="textAreaRight" b="textAreaBottom"/>
              <a:pathLst>
                <a:path w="129" h="294">
                  <a:moveTo>
                    <a:pt x="0" y="0"/>
                  </a:moveTo>
                  <a:cubicBezTo>
                    <a:pt x="30" y="11"/>
                    <a:pt x="61" y="22"/>
                    <a:pt x="81" y="42"/>
                  </a:cubicBezTo>
                  <a:cubicBezTo>
                    <a:pt x="101" y="62"/>
                    <a:pt x="117" y="94"/>
                    <a:pt x="123" y="123"/>
                  </a:cubicBezTo>
                  <a:cubicBezTo>
                    <a:pt x="129" y="152"/>
                    <a:pt x="123" y="188"/>
                    <a:pt x="117" y="216"/>
                  </a:cubicBezTo>
                  <a:cubicBezTo>
                    <a:pt x="111" y="244"/>
                    <a:pt x="97" y="269"/>
                    <a:pt x="84" y="29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TextBox 17"/>
          <p:cNvSpPr/>
          <p:nvPr/>
        </p:nvSpPr>
        <p:spPr>
          <a:xfrm>
            <a:off x="7656120" y="-33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14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Slide Number Placeholder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3D0B-7461-40A9-A266-A7A5734B05F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3 NN vs. Rocch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ижайшие соседи справляются с полиморфными категриями лучше, че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cch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4"/>
          <p:cNvGrpSpPr/>
          <p:nvPr/>
        </p:nvGrpSpPr>
        <p:grpSpPr>
          <a:xfrm>
            <a:off x="990720" y="2362320"/>
            <a:ext cx="7353360" cy="4046400"/>
            <a:chOff x="990720" y="2362320"/>
            <a:chExt cx="7353360" cy="4046400"/>
          </a:xfrm>
        </p:grpSpPr>
        <p:sp>
          <p:nvSpPr>
            <p:cNvPr id="379" name="Line 5"/>
            <p:cNvSpPr/>
            <p:nvPr/>
          </p:nvSpPr>
          <p:spPr>
            <a:xfrm flipV="1">
              <a:off x="992520" y="2362320"/>
              <a:ext cx="0" cy="403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6"/>
            <p:cNvSpPr/>
            <p:nvPr/>
          </p:nvSpPr>
          <p:spPr>
            <a:xfrm>
              <a:off x="990720" y="640872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Line 7"/>
          <p:cNvSpPr/>
          <p:nvPr/>
        </p:nvSpPr>
        <p:spPr>
          <a:xfrm flipV="1">
            <a:off x="977760" y="4843080"/>
            <a:ext cx="414360" cy="1552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8"/>
          <p:cNvSpPr/>
          <p:nvPr/>
        </p:nvSpPr>
        <p:spPr>
          <a:xfrm flipV="1">
            <a:off x="977760" y="5194440"/>
            <a:ext cx="565200" cy="1201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9"/>
          <p:cNvSpPr/>
          <p:nvPr/>
        </p:nvSpPr>
        <p:spPr>
          <a:xfrm flipV="1">
            <a:off x="990720" y="5581440"/>
            <a:ext cx="588960" cy="826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0"/>
          <p:cNvSpPr/>
          <p:nvPr/>
        </p:nvSpPr>
        <p:spPr>
          <a:xfrm flipV="1">
            <a:off x="977760" y="5562720"/>
            <a:ext cx="1309680" cy="84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1"/>
          <p:cNvSpPr/>
          <p:nvPr/>
        </p:nvSpPr>
        <p:spPr>
          <a:xfrm flipV="1">
            <a:off x="977760" y="5819760"/>
            <a:ext cx="1290600" cy="5889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2"/>
          <p:cNvSpPr/>
          <p:nvPr/>
        </p:nvSpPr>
        <p:spPr>
          <a:xfrm flipV="1">
            <a:off x="977760" y="6108840"/>
            <a:ext cx="1616040" cy="287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3"/>
          <p:cNvSpPr/>
          <p:nvPr/>
        </p:nvSpPr>
        <p:spPr>
          <a:xfrm flipV="1">
            <a:off x="992160" y="5181480"/>
            <a:ext cx="1052640" cy="119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4"/>
          <p:cNvSpPr/>
          <p:nvPr/>
        </p:nvSpPr>
        <p:spPr>
          <a:xfrm flipV="1">
            <a:off x="992160" y="5181480"/>
            <a:ext cx="1052640" cy="1190880"/>
          </a:xfrm>
          <a:prstGeom prst="line">
            <a:avLst/>
          </a:prstGeom>
          <a:ln w="28440">
            <a:solidFill>
              <a:srgbClr val="3333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15"/>
          <p:cNvGrpSpPr/>
          <p:nvPr/>
        </p:nvGrpSpPr>
        <p:grpSpPr>
          <a:xfrm>
            <a:off x="1406520" y="5432400"/>
            <a:ext cx="376200" cy="458640"/>
            <a:chOff x="1406520" y="5432400"/>
            <a:chExt cx="376200" cy="458640"/>
          </a:xfrm>
        </p:grpSpPr>
        <p:sp>
          <p:nvSpPr>
            <p:cNvPr id="390" name="Freeform 16"/>
            <p:cNvSpPr/>
            <p:nvPr/>
          </p:nvSpPr>
          <p:spPr>
            <a:xfrm>
              <a:off x="1449360" y="5751360"/>
              <a:ext cx="52200" cy="349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33" h="22">
                  <a:moveTo>
                    <a:pt x="0" y="16"/>
                  </a:moveTo>
                  <a:cubicBezTo>
                    <a:pt x="6" y="8"/>
                    <a:pt x="13" y="0"/>
                    <a:pt x="18" y="1"/>
                  </a:cubicBezTo>
                  <a:cubicBezTo>
                    <a:pt x="23" y="2"/>
                    <a:pt x="28" y="12"/>
                    <a:pt x="33" y="2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7"/>
            <p:cNvSpPr/>
            <p:nvPr/>
          </p:nvSpPr>
          <p:spPr>
            <a:xfrm>
              <a:off x="1558800" y="5719680"/>
              <a:ext cx="223920" cy="17136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62" h="114">
                  <a:moveTo>
                    <a:pt x="0" y="3"/>
                  </a:moveTo>
                  <a:lnTo>
                    <a:pt x="24" y="6"/>
                  </a:lnTo>
                  <a:cubicBezTo>
                    <a:pt x="40" y="6"/>
                    <a:pt x="82" y="0"/>
                    <a:pt x="99" y="3"/>
                  </a:cubicBezTo>
                  <a:cubicBezTo>
                    <a:pt x="116" y="6"/>
                    <a:pt x="120" y="14"/>
                    <a:pt x="129" y="24"/>
                  </a:cubicBezTo>
                  <a:cubicBezTo>
                    <a:pt x="138" y="34"/>
                    <a:pt x="148" y="48"/>
                    <a:pt x="153" y="63"/>
                  </a:cubicBezTo>
                  <a:cubicBezTo>
                    <a:pt x="158" y="78"/>
                    <a:pt x="160" y="96"/>
                    <a:pt x="162" y="11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8"/>
            <p:cNvSpPr/>
            <p:nvPr/>
          </p:nvSpPr>
          <p:spPr>
            <a:xfrm>
              <a:off x="1406520" y="5432400"/>
              <a:ext cx="276120" cy="14436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95" h="91">
                  <a:moveTo>
                    <a:pt x="0" y="34"/>
                  </a:moveTo>
                  <a:cubicBezTo>
                    <a:pt x="29" y="21"/>
                    <a:pt x="58" y="8"/>
                    <a:pt x="81" y="4"/>
                  </a:cubicBezTo>
                  <a:cubicBezTo>
                    <a:pt x="104" y="0"/>
                    <a:pt x="125" y="2"/>
                    <a:pt x="141" y="7"/>
                  </a:cubicBezTo>
                  <a:cubicBezTo>
                    <a:pt x="157" y="12"/>
                    <a:pt x="171" y="20"/>
                    <a:pt x="180" y="34"/>
                  </a:cubicBezTo>
                  <a:cubicBezTo>
                    <a:pt x="189" y="48"/>
                    <a:pt x="192" y="69"/>
                    <a:pt x="195" y="91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 Байе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левантность документов рубр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ьзователь (эксперт) – размечает документы, относящиеся к рубр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 разметка производится оффлай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быть результатом ручной рубр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лучшего класса для доку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(C|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условная вероятность: вероятность класса С при предъявлении документ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Байе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курса теории вероя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авило Байеса для классификации текс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докумен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класс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4"/>
              <p:cNvSpPr txBox="1"/>
              <p:nvPr/>
            </p:nvSpPr>
            <p:spPr>
              <a:xfrm>
                <a:off x="1303200" y="3036960"/>
                <a:ext cx="60390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Rectangle 4"/>
          <p:cNvSpPr/>
          <p:nvPr/>
        </p:nvSpPr>
        <p:spPr>
          <a:xfrm>
            <a:off x="2216160" y="4363920"/>
            <a:ext cx="4584600" cy="1198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Object 6"/>
              <p:cNvSpPr txBox="1"/>
              <p:nvPr/>
            </p:nvSpPr>
            <p:spPr>
              <a:xfrm>
                <a:off x="2619360" y="4448160"/>
                <a:ext cx="37972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2" name="TextBox 6"/>
          <p:cNvSpPr/>
          <p:nvPr/>
        </p:nvSpPr>
        <p:spPr>
          <a:xfrm>
            <a:off x="7656120" y="-33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1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7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00CD-EB51-4194-AD65-21EC08152F1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айесовский классификатор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ive Bayes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7772400" cy="15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лассифицировать новый докумен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на основе совокупности признаков в один из классов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Object 4"/>
              <p:cNvSpPr txBox="1"/>
              <p:nvPr/>
            </p:nvSpPr>
            <p:spPr>
              <a:xfrm>
                <a:off x="2004840" y="2592360"/>
                <a:ext cx="24829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5"/>
              <p:cNvSpPr txBox="1"/>
              <p:nvPr/>
            </p:nvSpPr>
            <p:spPr>
              <a:xfrm>
                <a:off x="2201760" y="3124080"/>
                <a:ext cx="413712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6"/>
              <p:cNvSpPr txBox="1"/>
              <p:nvPr/>
            </p:nvSpPr>
            <p:spPr>
              <a:xfrm>
                <a:off x="2741760" y="4068720"/>
                <a:ext cx="457344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C</m:t>
                        </m:r>
                      </m:lim>
                    </m:limLow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7"/>
              <p:cNvSpPr txBox="1"/>
              <p:nvPr/>
            </p:nvSpPr>
            <p:spPr>
              <a:xfrm>
                <a:off x="2722680" y="5410080"/>
                <a:ext cx="451620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TextBox 7"/>
          <p:cNvSpPr/>
          <p:nvPr/>
        </p:nvSpPr>
        <p:spPr>
          <a:xfrm>
            <a:off x="7656120" y="-33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1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9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6DD3-6048-43AB-A595-E44B9B41851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10"/>
          <p:cNvSpPr/>
          <p:nvPr/>
        </p:nvSpPr>
        <p:spPr>
          <a:xfrm>
            <a:off x="1285920" y="628668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– наиболее вероятный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1"/>
          <p:cNvSpPr/>
          <p:nvPr/>
        </p:nvSpPr>
        <p:spPr>
          <a:xfrm>
            <a:off x="7358040" y="5143680"/>
            <a:ext cx="16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инак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все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Стрелка влево 21"/>
          <p:cNvSpPr/>
          <p:nvPr/>
        </p:nvSpPr>
        <p:spPr>
          <a:xfrm>
            <a:off x="6929280" y="4643280"/>
            <a:ext cx="978120" cy="48420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положение классификатора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ive Ba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быть оценено из частотности классов в обучающих приме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X|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C|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арамет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быть оценено, но нужно очень-очень много обучающих прим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Arial"/>
              </a:rPr>
              <a:t>Naive Bayes </a:t>
            </a:r>
            <a:r>
              <a:rPr b="0" lang="ru-RU" sz="2400" spc="-1" strike="noStrike">
                <a:solidFill>
                  <a:srgbClr val="00a000"/>
                </a:solidFill>
                <a:latin typeface="Arial"/>
              </a:rPr>
              <a:t>Предположение о независимости</a:t>
            </a:r>
            <a:r>
              <a:rPr b="0" lang="en-US" sz="2400" spc="-1" strike="noStrike">
                <a:solidFill>
                  <a:srgbClr val="00a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ожим, что вероятность наблюдения конъюнкции атрибутов равна произведению индивидуальных вероятност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3"/>
          <p:cNvSpPr/>
          <p:nvPr/>
        </p:nvSpPr>
        <p:spPr>
          <a:xfrm>
            <a:off x="7656120" y="-33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1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4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573B-491F-4E0F-911E-173489A9653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2"/>
          <p:cNvGrpSpPr/>
          <p:nvPr/>
        </p:nvGrpSpPr>
        <p:grpSpPr>
          <a:xfrm>
            <a:off x="1619640" y="1197000"/>
            <a:ext cx="4983480" cy="1372680"/>
            <a:chOff x="1619640" y="1197000"/>
            <a:chExt cx="4983480" cy="1372680"/>
          </a:xfrm>
        </p:grpSpPr>
        <p:sp>
          <p:nvSpPr>
            <p:cNvPr id="420" name="Oval 3"/>
            <p:cNvSpPr/>
            <p:nvPr/>
          </p:nvSpPr>
          <p:spPr>
            <a:xfrm>
              <a:off x="3962520" y="1197000"/>
              <a:ext cx="622440" cy="21240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  <a:ea typeface="Arial Unicode MS"/>
                </a:rPr>
                <a:t>Fl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4"/>
            <p:cNvSpPr/>
            <p:nvPr/>
          </p:nvSpPr>
          <p:spPr>
            <a:xfrm>
              <a:off x="1981440" y="2067120"/>
              <a:ext cx="622080" cy="21240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  <a:ea typeface="Arial Unicode MS"/>
                </a:rPr>
                <a:t>X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Comic Sans MS"/>
                  <a:ea typeface="Arial Unicode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5"/>
            <p:cNvSpPr/>
            <p:nvPr/>
          </p:nvSpPr>
          <p:spPr>
            <a:xfrm>
              <a:off x="2819520" y="2067120"/>
              <a:ext cx="622440" cy="21240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  <a:ea typeface="Arial Unicode MS"/>
                </a:rPr>
                <a:t>X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Comic Sans MS"/>
                  <a:ea typeface="Arial Unicode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6"/>
            <p:cNvSpPr/>
            <p:nvPr/>
          </p:nvSpPr>
          <p:spPr>
            <a:xfrm>
              <a:off x="5410440" y="2067120"/>
              <a:ext cx="622080" cy="21240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  <a:ea typeface="Arial Unicode MS"/>
                </a:rPr>
                <a:t>X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Comic Sans MS"/>
                  <a:ea typeface="Arial Unicode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7"/>
            <p:cNvSpPr/>
            <p:nvPr/>
          </p:nvSpPr>
          <p:spPr>
            <a:xfrm>
              <a:off x="3810240" y="2067120"/>
              <a:ext cx="622080" cy="21240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  <a:ea typeface="Arial Unicode MS"/>
                </a:rPr>
                <a:t>X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Comic Sans MS"/>
                  <a:ea typeface="Arial Unicode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5" name="AutoShape 8"/>
            <p:cNvCxnSpPr>
              <a:stCxn id="420" idx="4"/>
              <a:endCxn id="421" idx="0"/>
            </p:cNvCxnSpPr>
            <p:nvPr/>
          </p:nvCxnSpPr>
          <p:spPr>
            <a:xfrm flipH="1">
              <a:off x="2291760" y="1420560"/>
              <a:ext cx="1981800" cy="6364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6" name="AutoShape 9"/>
            <p:cNvCxnSpPr>
              <a:stCxn id="420" idx="4"/>
              <a:endCxn id="422" idx="0"/>
            </p:cNvCxnSpPr>
            <p:nvPr/>
          </p:nvCxnSpPr>
          <p:spPr>
            <a:xfrm flipH="1">
              <a:off x="3129840" y="1420560"/>
              <a:ext cx="1143720" cy="6364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7" name="AutoShape 10"/>
            <p:cNvCxnSpPr>
              <a:stCxn id="420" idx="4"/>
              <a:endCxn id="424" idx="0"/>
            </p:cNvCxnSpPr>
            <p:nvPr/>
          </p:nvCxnSpPr>
          <p:spPr>
            <a:xfrm flipH="1">
              <a:off x="4120560" y="1420560"/>
              <a:ext cx="153000" cy="6364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8" name="AutoShape 11"/>
            <p:cNvCxnSpPr>
              <a:stCxn id="420" idx="4"/>
              <a:endCxn id="423" idx="0"/>
            </p:cNvCxnSpPr>
            <p:nvPr/>
          </p:nvCxnSpPr>
          <p:spPr>
            <a:xfrm>
              <a:off x="4273560" y="1420560"/>
              <a:ext cx="1448640" cy="6364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29" name="Oval 12"/>
            <p:cNvSpPr/>
            <p:nvPr/>
          </p:nvSpPr>
          <p:spPr>
            <a:xfrm>
              <a:off x="4648320" y="2067120"/>
              <a:ext cx="622440" cy="21240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  <a:ea typeface="Arial Unicode MS"/>
                </a:rPr>
                <a:t>X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Comic Sans MS"/>
                  <a:ea typeface="Arial Unicode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0" name="AutoShape 13"/>
            <p:cNvCxnSpPr>
              <a:stCxn id="420" idx="4"/>
              <a:endCxn id="429" idx="0"/>
            </p:cNvCxnSpPr>
            <p:nvPr/>
          </p:nvCxnSpPr>
          <p:spPr>
            <a:xfrm>
              <a:off x="4273200" y="1420560"/>
              <a:ext cx="686520" cy="6364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31" name="Text Box 14"/>
            <p:cNvSpPr/>
            <p:nvPr/>
          </p:nvSpPr>
          <p:spPr>
            <a:xfrm>
              <a:off x="4650120" y="2262600"/>
              <a:ext cx="64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  <a:ea typeface="Arial Unicode MS"/>
                </a:rPr>
                <a:t>fe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15"/>
            <p:cNvSpPr/>
            <p:nvPr/>
          </p:nvSpPr>
          <p:spPr>
            <a:xfrm>
              <a:off x="2792880" y="226260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  <a:ea typeface="Arial Unicode MS"/>
                </a:rPr>
                <a:t>sin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16"/>
            <p:cNvSpPr/>
            <p:nvPr/>
          </p:nvSpPr>
          <p:spPr>
            <a:xfrm>
              <a:off x="3708000" y="2262600"/>
              <a:ext cx="729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  <a:ea typeface="Arial Unicode MS"/>
                </a:rPr>
                <a:t>coug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17"/>
            <p:cNvSpPr/>
            <p:nvPr/>
          </p:nvSpPr>
          <p:spPr>
            <a:xfrm>
              <a:off x="1619640" y="2262600"/>
              <a:ext cx="113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  <a:ea typeface="Arial Unicode MS"/>
                </a:rPr>
                <a:t>runnyn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18"/>
            <p:cNvSpPr/>
            <p:nvPr/>
          </p:nvSpPr>
          <p:spPr>
            <a:xfrm>
              <a:off x="5310000" y="2262600"/>
              <a:ext cx="1293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  <a:ea typeface="Arial Unicode MS"/>
                </a:rPr>
                <a:t>muscle-a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лассификатор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ive Ba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81080" y="2781360"/>
            <a:ext cx="737712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a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a000"/>
                </a:solidFill>
                <a:latin typeface="Arial"/>
              </a:rPr>
              <a:t>Предположение о </a:t>
            </a:r>
            <a:r>
              <a:rPr b="1" lang="en-US" sz="2400" spc="-1" strike="noStrike">
                <a:solidFill>
                  <a:srgbClr val="00a000"/>
                </a:solidFill>
                <a:latin typeface="Arial"/>
              </a:rPr>
              <a:t>Conditional Independence Assump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знаки присутствия термов независимы друг от друга в заданном классе классификато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Object 21"/>
              <p:cNvSpPr txBox="1"/>
              <p:nvPr/>
            </p:nvSpPr>
            <p:spPr>
              <a:xfrm>
                <a:off x="785880" y="4643280"/>
                <a:ext cx="76262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⋯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9" name="TextBox 22"/>
          <p:cNvSpPr/>
          <p:nvPr/>
        </p:nvSpPr>
        <p:spPr>
          <a:xfrm>
            <a:off x="7656120" y="-33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13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22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45B6-07AD-4D6F-9F4E-B1C31621D5D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18676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учение модели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вычисление нужных велич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42960" y="2928960"/>
            <a:ext cx="82152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ая попытка:–частотная оц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м просто частоты в обучающих приме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Object 4"/>
              <p:cNvSpPr txBox="1"/>
              <p:nvPr/>
            </p:nvSpPr>
            <p:spPr>
              <a:xfrm>
                <a:off x="1773360" y="5516640"/>
                <a:ext cx="5084640" cy="12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44" name="Group 5"/>
          <p:cNvGrpSpPr/>
          <p:nvPr/>
        </p:nvGrpSpPr>
        <p:grpSpPr>
          <a:xfrm>
            <a:off x="2428920" y="1500120"/>
            <a:ext cx="4331880" cy="1279440"/>
            <a:chOff x="2428920" y="1500120"/>
            <a:chExt cx="4331880" cy="1279440"/>
          </a:xfrm>
        </p:grpSpPr>
        <p:sp>
          <p:nvSpPr>
            <p:cNvPr id="445" name="Oval 6"/>
            <p:cNvSpPr/>
            <p:nvPr/>
          </p:nvSpPr>
          <p:spPr>
            <a:xfrm>
              <a:off x="4212000" y="1500120"/>
              <a:ext cx="559800" cy="2512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  <a:ea typeface="Arial Unicode M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7"/>
            <p:cNvSpPr/>
            <p:nvPr/>
          </p:nvSpPr>
          <p:spPr>
            <a:xfrm>
              <a:off x="2428920" y="2528280"/>
              <a:ext cx="560160" cy="2512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  <a:ea typeface="Arial Unicode MS"/>
                </a:rPr>
                <a:t>X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Comic Sans MS"/>
                  <a:ea typeface="Arial Unicode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8"/>
            <p:cNvSpPr/>
            <p:nvPr/>
          </p:nvSpPr>
          <p:spPr>
            <a:xfrm>
              <a:off x="3183480" y="2528280"/>
              <a:ext cx="559800" cy="2512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  <a:ea typeface="Arial Unicode MS"/>
                </a:rPr>
                <a:t>X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Comic Sans MS"/>
                  <a:ea typeface="Arial Unicode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9"/>
            <p:cNvSpPr/>
            <p:nvPr/>
          </p:nvSpPr>
          <p:spPr>
            <a:xfrm>
              <a:off x="5514840" y="2528280"/>
              <a:ext cx="560160" cy="2512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  <a:ea typeface="Arial Unicode MS"/>
                </a:rPr>
                <a:t>X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Comic Sans MS"/>
                  <a:ea typeface="Arial Unicode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0"/>
            <p:cNvSpPr/>
            <p:nvPr/>
          </p:nvSpPr>
          <p:spPr>
            <a:xfrm>
              <a:off x="4074840" y="2528280"/>
              <a:ext cx="560160" cy="2512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  <a:ea typeface="Arial Unicode MS"/>
                </a:rPr>
                <a:t>X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Comic Sans MS"/>
                  <a:ea typeface="Arial Unicode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0" name="AutoShape 11"/>
            <p:cNvCxnSpPr>
              <a:stCxn id="445" idx="4"/>
              <a:endCxn id="446" idx="0"/>
            </p:cNvCxnSpPr>
            <p:nvPr/>
          </p:nvCxnSpPr>
          <p:spPr>
            <a:xfrm flipH="1">
              <a:off x="2708640" y="1764360"/>
              <a:ext cx="1783440" cy="7516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1" name="AutoShape 12"/>
            <p:cNvCxnSpPr>
              <a:stCxn id="445" idx="4"/>
              <a:endCxn id="447" idx="0"/>
            </p:cNvCxnSpPr>
            <p:nvPr/>
          </p:nvCxnSpPr>
          <p:spPr>
            <a:xfrm flipH="1">
              <a:off x="3462840" y="1764360"/>
              <a:ext cx="1028880" cy="7516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2" name="AutoShape 13"/>
            <p:cNvCxnSpPr>
              <a:stCxn id="445" idx="4"/>
              <a:endCxn id="449" idx="0"/>
            </p:cNvCxnSpPr>
            <p:nvPr/>
          </p:nvCxnSpPr>
          <p:spPr>
            <a:xfrm flipH="1">
              <a:off x="4354560" y="1764360"/>
              <a:ext cx="137520" cy="7516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3" name="AutoShape 14"/>
            <p:cNvCxnSpPr>
              <a:stCxn id="445" idx="4"/>
              <a:endCxn id="448" idx="0"/>
            </p:cNvCxnSpPr>
            <p:nvPr/>
          </p:nvCxnSpPr>
          <p:spPr>
            <a:xfrm>
              <a:off x="4491720" y="1764360"/>
              <a:ext cx="1303560" cy="7516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4" name="Oval 15"/>
            <p:cNvSpPr/>
            <p:nvPr/>
          </p:nvSpPr>
          <p:spPr>
            <a:xfrm>
              <a:off x="4829400" y="2528280"/>
              <a:ext cx="559800" cy="2512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  <a:ea typeface="Arial Unicode MS"/>
                </a:rPr>
                <a:t>X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Comic Sans MS"/>
                  <a:ea typeface="Arial Unicode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6"/>
            <p:cNvSpPr/>
            <p:nvPr/>
          </p:nvSpPr>
          <p:spPr>
            <a:xfrm>
              <a:off x="6200640" y="2528280"/>
              <a:ext cx="560160" cy="2512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  <a:ea typeface="Arial Unicode MS"/>
                </a:rPr>
                <a:t>X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Comic Sans MS"/>
                  <a:ea typeface="Arial Unicode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6" name="AutoShape 17"/>
            <p:cNvCxnSpPr>
              <a:stCxn id="445" idx="4"/>
              <a:endCxn id="454" idx="0"/>
            </p:cNvCxnSpPr>
            <p:nvPr/>
          </p:nvCxnSpPr>
          <p:spPr>
            <a:xfrm>
              <a:off x="4492080" y="1764360"/>
              <a:ext cx="617760" cy="7516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7" name="AutoShape 18"/>
            <p:cNvCxnSpPr>
              <a:stCxn id="445" idx="4"/>
              <a:endCxn id="455" idx="0"/>
            </p:cNvCxnSpPr>
            <p:nvPr/>
          </p:nvCxnSpPr>
          <p:spPr>
            <a:xfrm>
              <a:off x="4492080" y="1764360"/>
              <a:ext cx="1989360" cy="7516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mc:AlternateContent>
        <mc:Choice xmlns:a14="http://schemas.microsoft.com/office/drawing/2010/main" Requires="a14">
          <p:sp>
            <p:nvSpPr>
              <p:cNvPr id="458" name="Object 19"/>
              <p:cNvSpPr txBox="1"/>
              <p:nvPr/>
            </p:nvSpPr>
            <p:spPr>
              <a:xfrm>
                <a:off x="3071880" y="4282920"/>
                <a:ext cx="314316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9" name="TextBox 20"/>
          <p:cNvSpPr/>
          <p:nvPr/>
        </p:nvSpPr>
        <p:spPr>
          <a:xfrm>
            <a:off x="7656120" y="-33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13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20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DD8A-E997-4AF5-AF42-2F77737B660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блемы 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астотной оцен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-360" y="3643200"/>
            <a:ext cx="89298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ожим, что у нас не было обучающих документов со слова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uscle-ach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классифицированных в тему Грип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одного признака в обучающей выборке делает вероятность нулевой!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Object 4"/>
              <p:cNvSpPr txBox="1"/>
              <p:nvPr/>
            </p:nvSpPr>
            <p:spPr>
              <a:xfrm>
                <a:off x="1643040" y="5143680"/>
                <a:ext cx="59770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|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lu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u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u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4" name="Group 6"/>
          <p:cNvGrpSpPr/>
          <p:nvPr/>
        </p:nvGrpSpPr>
        <p:grpSpPr>
          <a:xfrm>
            <a:off x="1922760" y="836640"/>
            <a:ext cx="4983480" cy="1753560"/>
            <a:chOff x="1922760" y="836640"/>
            <a:chExt cx="4983480" cy="1753560"/>
          </a:xfrm>
        </p:grpSpPr>
        <p:sp>
          <p:nvSpPr>
            <p:cNvPr id="465" name="Oval 7"/>
            <p:cNvSpPr/>
            <p:nvPr/>
          </p:nvSpPr>
          <p:spPr>
            <a:xfrm>
              <a:off x="4265640" y="836640"/>
              <a:ext cx="622440" cy="27900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  <a:ea typeface="Arial Unicode MS"/>
                </a:rPr>
                <a:t>Fl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8"/>
            <p:cNvSpPr/>
            <p:nvPr/>
          </p:nvSpPr>
          <p:spPr>
            <a:xfrm>
              <a:off x="2284560" y="1979280"/>
              <a:ext cx="622080" cy="27900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  <a:ea typeface="Arial Unicode MS"/>
                </a:rPr>
                <a:t>X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Comic Sans MS"/>
                  <a:ea typeface="Arial Unicode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9"/>
            <p:cNvSpPr/>
            <p:nvPr/>
          </p:nvSpPr>
          <p:spPr>
            <a:xfrm>
              <a:off x="3122640" y="1979280"/>
              <a:ext cx="622440" cy="27900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  <a:ea typeface="Arial Unicode MS"/>
                </a:rPr>
                <a:t>X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Comic Sans MS"/>
                  <a:ea typeface="Arial Unicode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10"/>
            <p:cNvSpPr/>
            <p:nvPr/>
          </p:nvSpPr>
          <p:spPr>
            <a:xfrm>
              <a:off x="5713560" y="1979280"/>
              <a:ext cx="622080" cy="27900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  <a:ea typeface="Arial Unicode MS"/>
                </a:rPr>
                <a:t>X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Comic Sans MS"/>
                  <a:ea typeface="Arial Unicode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11"/>
            <p:cNvSpPr/>
            <p:nvPr/>
          </p:nvSpPr>
          <p:spPr>
            <a:xfrm>
              <a:off x="4113360" y="1979280"/>
              <a:ext cx="622080" cy="27900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  <a:ea typeface="Arial Unicode MS"/>
                </a:rPr>
                <a:t>X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Comic Sans MS"/>
                  <a:ea typeface="Arial Unicode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0" name="AutoShape 12"/>
            <p:cNvCxnSpPr>
              <a:stCxn id="465" idx="4"/>
              <a:endCxn id="466" idx="0"/>
            </p:cNvCxnSpPr>
            <p:nvPr/>
          </p:nvCxnSpPr>
          <p:spPr>
            <a:xfrm flipH="1">
              <a:off x="2594880" y="1129680"/>
              <a:ext cx="1981800" cy="8355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1" name="AutoShape 13"/>
            <p:cNvCxnSpPr>
              <a:stCxn id="465" idx="4"/>
              <a:endCxn id="467" idx="0"/>
            </p:cNvCxnSpPr>
            <p:nvPr/>
          </p:nvCxnSpPr>
          <p:spPr>
            <a:xfrm flipH="1">
              <a:off x="3432960" y="1129680"/>
              <a:ext cx="1143720" cy="8355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2" name="AutoShape 14"/>
            <p:cNvCxnSpPr>
              <a:stCxn id="465" idx="4"/>
              <a:endCxn id="469" idx="0"/>
            </p:cNvCxnSpPr>
            <p:nvPr/>
          </p:nvCxnSpPr>
          <p:spPr>
            <a:xfrm flipH="1">
              <a:off x="4423680" y="1129680"/>
              <a:ext cx="153000" cy="8355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3" name="AutoShape 15"/>
            <p:cNvCxnSpPr>
              <a:stCxn id="465" idx="4"/>
              <a:endCxn id="468" idx="0"/>
            </p:cNvCxnSpPr>
            <p:nvPr/>
          </p:nvCxnSpPr>
          <p:spPr>
            <a:xfrm>
              <a:off x="4576680" y="1129680"/>
              <a:ext cx="1448640" cy="8355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4" name="Oval 16"/>
            <p:cNvSpPr/>
            <p:nvPr/>
          </p:nvSpPr>
          <p:spPr>
            <a:xfrm>
              <a:off x="4951440" y="1979280"/>
              <a:ext cx="622440" cy="27900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  <a:ea typeface="Arial Unicode MS"/>
                </a:rPr>
                <a:t>X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Comic Sans MS"/>
                  <a:ea typeface="Arial Unicode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5" name="AutoShape 17"/>
            <p:cNvCxnSpPr>
              <a:stCxn id="465" idx="4"/>
              <a:endCxn id="474" idx="0"/>
            </p:cNvCxnSpPr>
            <p:nvPr/>
          </p:nvCxnSpPr>
          <p:spPr>
            <a:xfrm>
              <a:off x="4576320" y="1129680"/>
              <a:ext cx="686520" cy="8355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6" name="Text Box 18"/>
            <p:cNvSpPr/>
            <p:nvPr/>
          </p:nvSpPr>
          <p:spPr>
            <a:xfrm>
              <a:off x="4953240" y="2283120"/>
              <a:ext cx="64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  <a:ea typeface="Arial Unicode MS"/>
                </a:rPr>
                <a:t>fe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19"/>
            <p:cNvSpPr/>
            <p:nvPr/>
          </p:nvSpPr>
          <p:spPr>
            <a:xfrm>
              <a:off x="3096000" y="228312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  <a:ea typeface="Arial Unicode MS"/>
                </a:rPr>
                <a:t>sin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20"/>
            <p:cNvSpPr/>
            <p:nvPr/>
          </p:nvSpPr>
          <p:spPr>
            <a:xfrm>
              <a:off x="4011120" y="2283120"/>
              <a:ext cx="729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  <a:ea typeface="Arial Unicode MS"/>
                </a:rPr>
                <a:t>coug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21"/>
            <p:cNvSpPr/>
            <p:nvPr/>
          </p:nvSpPr>
          <p:spPr>
            <a:xfrm>
              <a:off x="1922760" y="2283120"/>
              <a:ext cx="113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  <a:ea typeface="Arial Unicode MS"/>
                </a:rPr>
                <a:t>runnyn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22"/>
            <p:cNvSpPr/>
            <p:nvPr/>
          </p:nvSpPr>
          <p:spPr>
            <a:xfrm>
              <a:off x="5613120" y="2283120"/>
              <a:ext cx="1293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  <a:ea typeface="Arial Unicode MS"/>
                </a:rPr>
                <a:t>muscle-a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1" name="Object 23"/>
              <p:cNvSpPr txBox="1"/>
              <p:nvPr/>
            </p:nvSpPr>
            <p:spPr>
              <a:xfrm>
                <a:off x="539640" y="2852640"/>
                <a:ext cx="76266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⋯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2" name="TextBox 24"/>
          <p:cNvSpPr/>
          <p:nvPr/>
        </p:nvSpPr>
        <p:spPr>
          <a:xfrm>
            <a:off x="7656120" y="-33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13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lide Number Placeholder 24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18AF-05A5-48E6-971C-8B5B45AFAA1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Яндекс-нов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сификатор новостей включ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и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ше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у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-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брика текущего периода: Ситуация на валютном рын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40096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глаживание: добавляем тем признакам, которые не встречались, немного вероя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Object 3"/>
              <p:cNvSpPr txBox="1"/>
              <p:nvPr/>
            </p:nvSpPr>
            <p:spPr>
              <a:xfrm>
                <a:off x="1600200" y="1600200"/>
                <a:ext cx="6019920" cy="12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80880" y="3855600"/>
            <a:ext cx="7391520" cy="6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ее «мягкая» вер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3276720" y="2971800"/>
            <a:ext cx="3200400" cy="533520"/>
          </a:xfrm>
          <a:prstGeom prst="wedgeRoundRectCallout">
            <a:avLst>
              <a:gd name="adj1" fmla="val 56101"/>
              <a:gd name="adj2" fmla="val -8779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# of values of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mic Sans MS"/>
                <a:ea typeface="Arial Unicode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Object 6"/>
              <p:cNvSpPr txBox="1"/>
              <p:nvPr/>
            </p:nvSpPr>
            <p:spPr>
              <a:xfrm>
                <a:off x="790560" y="4743360"/>
                <a:ext cx="657864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9" name="TextBox 8"/>
          <p:cNvSpPr/>
          <p:nvPr/>
        </p:nvSpPr>
        <p:spPr>
          <a:xfrm>
            <a:off x="7656120" y="-33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13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зовый подход к классификации текстов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основе метода Бай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643040"/>
            <a:ext cx="7958160" cy="7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трибуты - позиции в тексте, значения -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457200" y="4214880"/>
            <a:ext cx="845820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Предположим еще, что классификация не зависит от позиции с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"/>
                <a:ea typeface="MS PGothic"/>
              </a:rPr>
              <a:t>Используем те же параметры в любой пози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"/>
                <a:ea typeface="MS PGothic"/>
              </a:rPr>
              <a:t>Результат – модель мешка сл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Object 5"/>
              <p:cNvSpPr txBox="1"/>
              <p:nvPr/>
            </p:nvSpPr>
            <p:spPr>
              <a:xfrm>
                <a:off x="942840" y="2514600"/>
                <a:ext cx="777888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B</m:t>
                            </m:r>
                          </m:sub>
                        </m:sSub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gmax</m:t>
                            </m:r>
                          </m:e>
                          <m:li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C</m:t>
                            </m:r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gmax</m:t>
                            </m:r>
                          </m:e>
                          <m:li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C</m:t>
                            </m:r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our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⋯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text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4" name="TextBox 5"/>
          <p:cNvSpPr/>
          <p:nvPr/>
        </p:nvSpPr>
        <p:spPr>
          <a:xfrm>
            <a:off x="7656120" y="-33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1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6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48FB-C663-4077-99A7-F285CB9A4F2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285840" y="4500720"/>
            <a:ext cx="857232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ex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документ, содержащий все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j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класса 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Для каждого слов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Vocabu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number of occurrences 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ex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24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ивный Байе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99680" y="1428840"/>
            <a:ext cx="83581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 обучающего корпуса извлекае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– совокупность разных сл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числяе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| c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аждог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c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ножество документов, в которых проставлен класс 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2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Object 5"/>
              <p:cNvSpPr txBox="1"/>
              <p:nvPr/>
            </p:nvSpPr>
            <p:spPr>
              <a:xfrm>
                <a:off x="2136600" y="5786280"/>
                <a:ext cx="367992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←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Vocabulary</m:t>
                        </m:r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Object 6"/>
              <p:cNvSpPr txBox="1"/>
              <p:nvPr/>
            </p:nvSpPr>
            <p:spPr>
              <a:xfrm>
                <a:off x="2133720" y="3648240"/>
                <a:ext cx="27432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←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oc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total # documents</m:t>
                        </m:r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1" name="TextBox 6"/>
          <p:cNvSpPr/>
          <p:nvPr/>
        </p:nvSpPr>
        <p:spPr>
          <a:xfrm>
            <a:off x="7656120" y="-33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1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lide Number Placeholder 7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197C-FBD2-4591-90C7-1E9FBF52496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358120" cy="93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ивный Байес: Классифик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6840" y="1571400"/>
            <a:ext cx="853452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N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whe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Object 4"/>
              <p:cNvSpPr txBox="1"/>
              <p:nvPr/>
            </p:nvSpPr>
            <p:spPr>
              <a:xfrm>
                <a:off x="1143000" y="3571920"/>
                <a:ext cx="714384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B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positions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06" name="TextBox 4"/>
          <p:cNvSpPr/>
          <p:nvPr/>
        </p:nvSpPr>
        <p:spPr>
          <a:xfrm>
            <a:off x="7656120" y="-33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1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lide Number Placeholder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E49A-7936-410F-9351-081DC4D5A83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числение: переход к логарифм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множение большого числа вероятностей от 0 до1 может привести к проблемам тип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loating-point underf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как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log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log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лучше выполнять все операции, суммиру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гариф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с с максимальным логарифмом – является наиболее вероят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тим, что полученная модель классификации – это просто сумма ве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Object 4"/>
              <p:cNvSpPr txBox="1"/>
              <p:nvPr/>
            </p:nvSpPr>
            <p:spPr>
              <a:xfrm>
                <a:off x="673200" y="4630680"/>
                <a:ext cx="758340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B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ÎC</m:t>
                        </m:r>
                      </m:lim>
                    </m:limLow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Î</m:t>
                        </m:r>
                        <m:r>
                          <m:rPr>
                            <m:lit/>
                            <m:nor/>
                          </m:rPr>
                          <m:t xml:space="preserve">positions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1" name="TextBox 4"/>
          <p:cNvSpPr/>
          <p:nvPr/>
        </p:nvSpPr>
        <p:spPr>
          <a:xfrm>
            <a:off x="7656120" y="-33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1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D94D-0D59-465C-9175-4831A851887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250920" y="31680"/>
            <a:ext cx="853272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тод Байеса в распознавании почтового сп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яется во многих системах распознавания сп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убийца спам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c Naive Bayes superior when appropriately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чтовый сп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4358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ам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рассылка коммерческой и иной рекламы или иных видов сообщений лицам, не выражавшим желания их получ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боратория Касперского: доля спама в почтовом трафике в июле 2013 года составила 7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http://www.securelist.com/en/threats/spam?chapter=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ные списки сай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lk email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овая рассылка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ьтрация по контен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чные прав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етод Бай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влечение призна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головок: получатель, отправитель, доменные им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а, фразы, строки симв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гут быть бинарными или числов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, HTML tags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ти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2" descr="spamnoheader2"/>
          <p:cNvPicPr/>
          <p:nvPr/>
        </p:nvPicPr>
        <p:blipFill>
          <a:blip r:embed="rId1"/>
          <a:stretch/>
        </p:blipFill>
        <p:spPr>
          <a:xfrm>
            <a:off x="914400" y="2428920"/>
            <a:ext cx="5391000" cy="320976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3"/>
          <p:cNvSpPr/>
          <p:nvPr/>
        </p:nvSpPr>
        <p:spPr>
          <a:xfrm>
            <a:off x="853920" y="1371600"/>
            <a:ext cx="601992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_TERMINAL"/>
              </a:rPr>
              <a:t>From: Sam Elegy &lt;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HE_TERMINAL"/>
                <a:hlinkClick r:id="rId2"/>
              </a:rPr>
              <a:t>aj6xfdou7@yahoo.com</a:t>
            </a:r>
            <a:r>
              <a:rPr b="0" lang="en-US" sz="2000" spc="-1" strike="noStrike">
                <a:solidFill>
                  <a:srgbClr val="000000"/>
                </a:solidFill>
                <a:latin typeface="HE_TERMIN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_TERMINAL"/>
              </a:rPr>
              <a:t>To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HE_TERMINAL"/>
                <a:hlinkClick r:id="rId3"/>
              </a:rPr>
              <a:t>ddlewis4@att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_TERMINAL"/>
              </a:rPr>
              <a:t>Subject: you can buy V!@gr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4"/>
          <p:cNvSpPr/>
          <p:nvPr/>
        </p:nvSpPr>
        <p:spPr>
          <a:xfrm>
            <a:off x="7315200" y="365760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ам-контент в форме карт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5"/>
          <p:cNvSpPr/>
          <p:nvPr/>
        </p:nvSpPr>
        <p:spPr>
          <a:xfrm>
            <a:off x="5715000" y="57150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relevant legit content; doubles as hash b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6"/>
          <p:cNvSpPr/>
          <p:nvPr/>
        </p:nvSpPr>
        <p:spPr>
          <a:xfrm>
            <a:off x="7024320" y="1981080"/>
            <a:ext cx="168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ограф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риа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7"/>
          <p:cNvSpPr/>
          <p:nvPr/>
        </p:nvSpPr>
        <p:spPr>
          <a:xfrm>
            <a:off x="1979640" y="457200"/>
            <a:ext cx="57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учайно порожденное им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адр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8"/>
          <p:cNvSpPr/>
          <p:nvPr/>
        </p:nvSpPr>
        <p:spPr>
          <a:xfrm flipH="1">
            <a:off x="3123720" y="838080"/>
            <a:ext cx="3962520" cy="53352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9"/>
          <p:cNvSpPr/>
          <p:nvPr/>
        </p:nvSpPr>
        <p:spPr>
          <a:xfrm flipH="1">
            <a:off x="5181480" y="2209680"/>
            <a:ext cx="19051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0"/>
          <p:cNvSpPr/>
          <p:nvPr/>
        </p:nvSpPr>
        <p:spPr>
          <a:xfrm flipH="1" flipV="1">
            <a:off x="6477120" y="4114440"/>
            <a:ext cx="761760" cy="15228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11"/>
          <p:cNvSpPr/>
          <p:nvPr/>
        </p:nvSpPr>
        <p:spPr>
          <a:xfrm flipH="1" flipV="1">
            <a:off x="4190760" y="5638680"/>
            <a:ext cx="1523880" cy="45720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12"/>
          <p:cNvSpPr/>
          <p:nvPr/>
        </p:nvSpPr>
        <p:spPr>
          <a:xfrm flipH="1">
            <a:off x="5562360" y="914400"/>
            <a:ext cx="1447560" cy="45720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Рубрикатор </a:t>
            </a:r>
            <a:br>
              <a:rPr sz="3200"/>
            </a:b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нормативно-правовых а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идентский классификатор  (Указ №511 15.03.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ерархия рубрик - 1168 рубр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НПА рубрицируются экспертами в обязательном поря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rcRect l="11003" t="32617" r="0" b="0"/>
          <a:stretch/>
        </p:blipFill>
        <p:spPr>
          <a:xfrm>
            <a:off x="152280" y="2971800"/>
            <a:ext cx="88394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amAssassin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знак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87000"/>
          </a:bodyPr>
          <a:p>
            <a:pPr lvl="1" marL="68076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(Naïve) Bayes spam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ions: Generic Viag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ex: millions of (dollar) ((dollar) NN,NNN,NNN.N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rase: impress ... gi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rase: ‘Prestigious Non-Accredited Universitie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: starts with many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 is all cap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 has a low ratio of text to imag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y in RBL, http://www.mail-abuse.com/enduserinfo_rbl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VD line looks fa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24840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pamassassin.apache.org/tests_3_3_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285840" y="4643280"/>
            <a:ext cx="857232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айес для распознавания сп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8208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ва класса: спам – неспа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числение вероятност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ероятности классов: доля каждого класса в обучающей выборк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Вероятности признаков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| c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 количество вхождений в классе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число признаков в класс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Могут быть варианты формул, связанные с тем, что пропустить спам менее опасно, чем отправить нормальное письмо в спа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спользуется во многих системах фильтрации и в настоящее врем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озможно, что предположение о независимости признаков, больше соответствует действительнос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6"/>
          <p:cNvSpPr/>
          <p:nvPr/>
        </p:nvSpPr>
        <p:spPr>
          <a:xfrm>
            <a:off x="7656120" y="-33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1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lide Number Placeholder 7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EB26-2330-4505-840E-AA414C4DF12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стирование методов рубрик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лекция и рубрикато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uter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ля автоматического рубриц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е 21 тысячи информационных сообщений из области биржевой торговли и слияния пред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ив разделен на две части: документы для обучения, документы для тест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инство текстов имеют рубрики, проставленные люд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рубрики: 135 без иерарх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ы рубрик: Золото (товар), Свинец (товар), Кофе и др. товары, Торгов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яя длина текста - 133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1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C72E5E99-F456-4C8C-A49F-8BBF32FA3C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2"/>
          <p:cNvSpPr/>
          <p:nvPr/>
        </p:nvSpPr>
        <p:spPr>
          <a:xfrm>
            <a:off x="0" y="12600"/>
            <a:ext cx="93582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Точность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и полнот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214200" y="1643040"/>
            <a:ext cx="864396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7640640" y="-33480"/>
            <a:ext cx="925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2E98-FE55-4C3C-9AF4-E9331B56D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9"/>
          <p:cNvSpPr/>
          <p:nvPr/>
        </p:nvSpPr>
        <p:spPr>
          <a:xfrm>
            <a:off x="285840" y="3679920"/>
            <a:ext cx="85723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(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(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7" descr="1355.png"/>
          <p:cNvPicPr/>
          <p:nvPr/>
        </p:nvPicPr>
        <p:blipFill>
          <a:blip r:embed="rId1"/>
          <a:stretch/>
        </p:blipFill>
        <p:spPr>
          <a:xfrm>
            <a:off x="357120" y="2286000"/>
            <a:ext cx="85726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1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3734E3EF-FBCC-4983-9BC9-14D846720C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"/>
          <p:cNvSpPr/>
          <p:nvPr/>
        </p:nvSpPr>
        <p:spPr>
          <a:xfrm>
            <a:off x="0" y="12600"/>
            <a:ext cx="9358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омбинированная мер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214200" y="1643040"/>
            <a:ext cx="864396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7640640" y="-33480"/>
            <a:ext cx="925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741D-FF70-44B8-A956-5A033AA87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9"/>
          <p:cNvSpPr/>
          <p:nvPr/>
        </p:nvSpPr>
        <p:spPr>
          <a:xfrm>
            <a:off x="285840" y="1822320"/>
            <a:ext cx="8572320" cy="14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7" descr="13561.png"/>
          <p:cNvPicPr/>
          <p:nvPr/>
        </p:nvPicPr>
        <p:blipFill>
          <a:blip r:embed="rId1"/>
          <a:stretch/>
        </p:blipFill>
        <p:spPr>
          <a:xfrm>
            <a:off x="1714680" y="2214720"/>
            <a:ext cx="4786200" cy="10713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8" descr="13562.png"/>
          <p:cNvPicPr/>
          <p:nvPr/>
        </p:nvPicPr>
        <p:blipFill>
          <a:blip r:embed="rId2"/>
          <a:stretch/>
        </p:blipFill>
        <p:spPr>
          <a:xfrm>
            <a:off x="2643120" y="4143240"/>
            <a:ext cx="3500640" cy="8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1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E0B5D144-785E-4996-970D-0A905BE3C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"/>
          <p:cNvSpPr/>
          <p:nvPr/>
        </p:nvSpPr>
        <p:spPr>
          <a:xfrm>
            <a:off x="0" y="12600"/>
            <a:ext cx="89298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Усреднени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: Micro vs. Mac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3"/>
          <p:cNvSpPr/>
          <p:nvPr/>
        </p:nvSpPr>
        <p:spPr>
          <a:xfrm>
            <a:off x="214200" y="1643040"/>
            <a:ext cx="864396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4"/>
          <p:cNvSpPr/>
          <p:nvPr/>
        </p:nvSpPr>
        <p:spPr>
          <a:xfrm>
            <a:off x="7640640" y="-33480"/>
            <a:ext cx="925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0E8F-FFD1-42C2-92CC-97D0F0E12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9"/>
          <p:cNvSpPr/>
          <p:nvPr/>
        </p:nvSpPr>
        <p:spPr>
          <a:xfrm>
            <a:off x="285840" y="1643040"/>
            <a:ext cx="85723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читали меру оцен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for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one 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агрегировать оцен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многих класс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Arial"/>
              </a:rPr>
              <a:t>Macroaveraging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- макроусред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чита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аждого и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ее арифметическое для этих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Arial"/>
              </a:rPr>
              <a:t>Microaveraging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- микроусред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читат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P, FP, F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аждого из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ировать эти С чисел для каждого показ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чита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уммированны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P, FP, F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9939-8F65-4144-A5B4-0DA63580460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4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705880" cy="6377040"/>
          </a:xfrm>
          <a:prstGeom prst="rect">
            <a:avLst/>
          </a:prstGeom>
          <a:ln w="0">
            <a:noFill/>
          </a:ln>
        </p:spPr>
      </p:pic>
      <p:sp>
        <p:nvSpPr>
          <p:cNvPr id="567" name="TextBox 4"/>
          <p:cNvSpPr/>
          <p:nvPr/>
        </p:nvSpPr>
        <p:spPr>
          <a:xfrm>
            <a:off x="767448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5.2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2556000" y="-7920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ультаты на коллекци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ашняя задача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рубрикации должна классифицировать поток документов по двум рубри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перт отнес к первой рубрике 75 документов, ко второй рубрике – 50 доку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отнес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 первой рубрике 100 документов, из них 50 прави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о второй рубрике 40 документов, из них 30 прави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макро-характеристики качества классификации (точность, полноту, F-меру) - и микро- характеристики (точность,  полноту,  F-мер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ашняя задача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68360" y="1428480"/>
            <a:ext cx="8229600" cy="47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ы документы и их классы С1 и С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D1=(X1,X2, X3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D2=(X1, X2, X4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D3=(X4, X5, X6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ь класс докумен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основе метода наивного Байе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D4 (X1, X4, X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2184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рпоративный портал Банка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66760" y="620640"/>
            <a:ext cx="87152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62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йт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s.yandex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брать 10 разных текстов из рубрики Поли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10 текстов из другой рубрики, например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рт (или друг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ого – 20 текстов в двух рубри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 классификации методом Бай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задать текст и система будет классифицир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ывать полученные веса классов для текущего доку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Методы рубрицирования тексто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762012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чное рубриц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матиче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женерный подход (=методы, основанные на знаниях, экспертные метод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ы машинного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автоматиче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707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Ручное рубриц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1536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окая точность рубриц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ычно процент документов, в которых проставлена явно неправильная рубрика, чрезвычайно ма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если работают специалис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зкая скорость обработки докум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ламентские служб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mart, about.com, ODP, Pub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блиотеки (УД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80629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Автоматическая рубрикация:</a:t>
            </a:r>
            <a:br>
              <a:rPr sz="3600"/>
            </a:b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Инженерный подх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066320"/>
            <a:ext cx="78483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ое предположение: рубрикатор создается осмысленно, содержание рубрики можно выразить ограниченным количеством понятий в виде форму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перты описывают смысл рубрики в виде булевских выражений, правил продук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e system (Hay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ter news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74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брики: 135 тематических рубрик + географ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человеко-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4 % полноты и 84 % точности на 723 текс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06:44:43Z</dcterms:created>
  <dc:creator>boris</dc:creator>
  <dc:description/>
  <dc:language>en-US</dc:language>
  <cp:lastModifiedBy>Наталья Лукашевич</cp:lastModifiedBy>
  <dcterms:modified xsi:type="dcterms:W3CDTF">2019-06-12T11:40:04Z</dcterms:modified>
  <cp:revision>110</cp:revision>
  <dc:subject/>
  <dc:title>Слайд 1</dc:title>
</cp:coreProperties>
</file>