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095B-DBD4-48EB-B454-87C75ACDC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2796-E2E2-4C84-B2DF-B36E1AF8A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667-1728-49D7-931B-4A55E19E8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5023-677F-481F-9251-1E02D96AD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745-E617-4AC8-B149-2051C749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69B-5F49-44FA-A6E5-FE5D05F8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AB5-0D4F-4A15-9E9A-CAC3E1B1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ACB-5B0D-475D-987C-3995F36B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A04-20C3-41CE-B001-31C1313A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6E9-C3EE-4E6A-A924-939AF50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DF0-B9B4-4FB6-BE95-D97CB198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340-0FD3-4D7C-B79D-A0F44513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370-D70C-4034-BB9F-F0C13E08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F92-4CCD-46D0-A2B1-46DC618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BF1-90F2-4850-8984-845CE15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022-964D-4E2C-BAE8-7BF38E34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91C7-96EC-4AB3-A84A-02E345923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из ссы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б как направленный гра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4191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ипотез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иперссылка между страницами дает сигнал авторите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66680" y="5181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ипотез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Текст якоря в гиперссылке на страниц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писывает целевую страниц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838080" y="1676520"/>
            <a:ext cx="6857640" cy="2437920"/>
            <a:chOff x="838080" y="1676520"/>
            <a:chExt cx="6857640" cy="2437920"/>
          </a:xfrm>
        </p:grpSpPr>
        <p:sp>
          <p:nvSpPr>
            <p:cNvPr id="215" name="Line 6"/>
            <p:cNvSpPr/>
            <p:nvPr/>
          </p:nvSpPr>
          <p:spPr>
            <a:xfrm>
              <a:off x="3480480" y="2895480"/>
              <a:ext cx="1761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>
              <a:off x="838080" y="2133720"/>
              <a:ext cx="27050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Pag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3858840" y="2511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3354480" y="3276720"/>
              <a:ext cx="1886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0"/>
            <p:cNvSpPr/>
            <p:nvPr/>
          </p:nvSpPr>
          <p:spPr>
            <a:xfrm flipV="1">
              <a:off x="3228840" y="1752120"/>
              <a:ext cx="943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1"/>
            <p:cNvSpPr/>
            <p:nvPr/>
          </p:nvSpPr>
          <p:spPr>
            <a:xfrm flipV="1">
              <a:off x="4550040" y="3124080"/>
              <a:ext cx="817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 flipV="1">
              <a:off x="4990680" y="3352320"/>
              <a:ext cx="6919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4801680" y="1676520"/>
              <a:ext cx="75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5241960" y="2057400"/>
              <a:ext cx="245376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Page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5"/>
            <p:cNvSpPr/>
            <p:nvPr/>
          </p:nvSpPr>
          <p:spPr>
            <a:xfrm>
              <a:off x="2734200" y="2714760"/>
              <a:ext cx="79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c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потеза 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ритетные сай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6530-16CC-4D2C-A800-F8F28E9E3D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PPT2430.png"/>
          <p:cNvPicPr/>
          <p:nvPr/>
        </p:nvPicPr>
        <p:blipFill>
          <a:blip r:embed="rId1"/>
          <a:stretch/>
        </p:blipFill>
        <p:spPr>
          <a:xfrm>
            <a:off x="1300320" y="1371600"/>
            <a:ext cx="6543360" cy="5486400"/>
          </a:xfrm>
          <a:prstGeom prst="rect">
            <a:avLst/>
          </a:prstGeom>
          <a:ln w="0">
            <a:noFill/>
          </a:ln>
        </p:spPr>
      </p:pic>
      <p:sp>
        <p:nvSpPr>
          <p:cNvPr id="229" name="Oval 4"/>
          <p:cNvSpPr/>
          <p:nvPr/>
        </p:nvSpPr>
        <p:spPr>
          <a:xfrm>
            <a:off x="3124080" y="5334120"/>
            <a:ext cx="685800" cy="304560"/>
          </a:xfrm>
          <a:prstGeom prst="ellipse">
            <a:avLst/>
          </a:prstGeom>
          <a:noFill/>
          <a:ln w="1584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2743200" y="5867280"/>
            <a:ext cx="1752480" cy="304920"/>
          </a:xfrm>
          <a:prstGeom prst="ellipse">
            <a:avLst/>
          </a:prstGeom>
          <a:noFill/>
          <a:ln w="1584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отирование целевой ст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E0E-9096-49A9-A97F-CD5B5C9919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PPT242B.png"/>
          <p:cNvPicPr/>
          <p:nvPr/>
        </p:nvPicPr>
        <p:blipFill>
          <a:blip r:embed="rId1"/>
          <a:stretch/>
        </p:blipFill>
        <p:spPr>
          <a:xfrm>
            <a:off x="304920" y="1371600"/>
            <a:ext cx="5991120" cy="1419120"/>
          </a:xfrm>
          <a:prstGeom prst="rect">
            <a:avLst/>
          </a:prstGeom>
          <a:ln w="0">
            <a:noFill/>
          </a:ln>
        </p:spPr>
      </p:pic>
      <p:sp>
        <p:nvSpPr>
          <p:cNvPr id="234" name="Oval 9"/>
          <p:cNvSpPr/>
          <p:nvPr/>
        </p:nvSpPr>
        <p:spPr>
          <a:xfrm>
            <a:off x="5257800" y="1447920"/>
            <a:ext cx="685800" cy="304560"/>
          </a:xfrm>
          <a:prstGeom prst="ellipse">
            <a:avLst/>
          </a:prstGeom>
          <a:noFill/>
          <a:ln w="1584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642960" y="2895480"/>
            <a:ext cx="7858080" cy="4010040"/>
            <a:chOff x="642960" y="2895480"/>
            <a:chExt cx="7858080" cy="4010040"/>
          </a:xfrm>
        </p:grpSpPr>
        <p:pic>
          <p:nvPicPr>
            <p:cNvPr id="236" name="Picture 8" descr="PPT242E.png"/>
            <p:cNvPicPr/>
            <p:nvPr/>
          </p:nvPicPr>
          <p:blipFill>
            <a:blip r:embed="rId2"/>
            <a:stretch/>
          </p:blipFill>
          <p:spPr>
            <a:xfrm>
              <a:off x="642960" y="3124080"/>
              <a:ext cx="78580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Down Arrow 10"/>
            <p:cNvSpPr/>
            <p:nvPr/>
          </p:nvSpPr>
          <p:spPr>
            <a:xfrm>
              <a:off x="3809880" y="2895480"/>
              <a:ext cx="1218960" cy="1522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a000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кст ссылки (анке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15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к различить межд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 home 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 copyrigh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 spam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809880" y="5029200"/>
            <a:ext cx="182880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ww.ibm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28440" y="4267080"/>
            <a:ext cx="10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b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885120" y="419112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bm.c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6247800" y="411480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BM home page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64832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5638320" y="44956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04920" y="4800600"/>
            <a:ext cx="3124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сылки с текс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b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ют весьма определенный сиг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590920" y="457200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дексирование анк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ндексировании докумен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включить (с некоторым весом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ссылки, указывающий н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981080" y="4724280"/>
            <a:ext cx="15264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4876920" y="3886200"/>
            <a:ext cx="2057400" cy="3049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MS PGothic"/>
              </a:rPr>
              <a:t>www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1252440" y="3078360"/>
            <a:ext cx="329112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Armonk, NY-based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giant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Rockwell"/>
                <a:ea typeface="MS PGothic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 announced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7"/>
          <p:cNvCxnSpPr>
            <a:stCxn id="253" idx="2"/>
            <a:endCxn id="252" idx="1"/>
          </p:cNvCxnSpPr>
          <p:nvPr/>
        </p:nvCxnSpPr>
        <p:spPr>
          <a:xfrm>
            <a:off x="2896200" y="3780000"/>
            <a:ext cx="1980360" cy="25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AutoShape 8"/>
          <p:cNvSpPr/>
          <p:nvPr/>
        </p:nvSpPr>
        <p:spPr>
          <a:xfrm>
            <a:off x="533520" y="5010840"/>
            <a:ext cx="3276360" cy="163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Joe</a:t>
            </a:r>
            <a:r>
              <a:rPr b="0" lang="ja-JP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s computer hardware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Rockwell"/>
                <a:ea typeface="MS PGothic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Rockwell"/>
                <a:ea typeface="MS PGothic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Rockwell"/>
                <a:ea typeface="MS PGothic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1981080" y="4038120"/>
            <a:ext cx="2895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4255560" y="5032440"/>
            <a:ext cx="330480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Rockwell"/>
                <a:ea typeface="MS PGothic"/>
              </a:rPr>
              <a:t>Big Blue</a:t>
            </a:r>
            <a:r>
              <a:rPr b="0" lang="en-US" sz="1800" spc="-1" strike="noStrike">
                <a:solidFill>
                  <a:srgbClr val="3333cc"/>
                </a:solidFill>
                <a:latin typeface="Rockwel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today annou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MS PGothic"/>
              </a:rPr>
              <a:t>record profits for the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5562720" y="4191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дексирование анк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привести к неожиданным эффектам (сп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жно присваивать вес анкеру в зависимости от авторитетности сайта, которому принадлежит страница со ссыл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если мы доверяем сайт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nn.co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yahoo.co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можно присваивать более высокие веса ссылкам из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ем веса ссылкам, идущим извне сай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n-nepotistic sco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 ссылок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с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м, что пользователь случайно бродит по страниц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инает на случайной стра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ждом шагу переходит на следующую по ссылку с равной вероят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еделе каждая страница получит рейтинг посещений – можно использовать как вес стр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го недостаточ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есть много тупиковых страни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орых остановится случайное блужд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ессмысливает рассуждения о рейтинге посещ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3429000" y="4648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V="1">
            <a:off x="2286000" y="5334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286000" y="449568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3372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434340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225400" y="4875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Телепорт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упиковой странице – переход на случайную ст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любой не тупиковой страницы  - с вероятностью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10%,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ереходим на случайную ст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ставшейся вероятность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9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ереход по одной из исходящих ссылок (с равной вероятность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еперь можно говорить о посещаемости страницы как о ее рейти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к можно посчитать такой рейтин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пертекст и с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есть кроме содержания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ссылки между доку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ли ссылки продемонстрировать авторитетность страниц? Полезны ли они для ранжир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5105520" y="495288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7162920" y="441972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6248520" y="541008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6705720" y="624852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305920" y="480060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8534520" y="533412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5486400" y="4648320"/>
            <a:ext cx="1676520" cy="380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629400" y="5029200"/>
            <a:ext cx="167652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7162920" y="5638320"/>
            <a:ext cx="1371600" cy="685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6705720" y="5562720"/>
            <a:ext cx="1828800" cy="75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7620120" y="4648320"/>
            <a:ext cx="761760" cy="304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8610480" y="5257800"/>
            <a:ext cx="152640" cy="152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H="1" flipV="1">
            <a:off x="6552720" y="5790960"/>
            <a:ext cx="30492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5257800" y="510552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4"/>
          <p:cNvSpPr/>
          <p:nvPr/>
        </p:nvSpPr>
        <p:spPr>
          <a:xfrm>
            <a:off x="5410080" y="525780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5"/>
          <p:cNvSpPr/>
          <p:nvPr/>
        </p:nvSpPr>
        <p:spPr>
          <a:xfrm>
            <a:off x="7315200" y="457200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 flipH="1" flipV="1">
            <a:off x="5866920" y="5486040"/>
            <a:ext cx="381240" cy="152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7"/>
          <p:cNvSpPr/>
          <p:nvPr/>
        </p:nvSpPr>
        <p:spPr>
          <a:xfrm>
            <a:off x="5791320" y="5638680"/>
            <a:ext cx="91440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ge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A) = d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-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(T1)/C(T1) +…+PR(Tn)/C(T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(T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ая значимость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(T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сходящих ссылок со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(Tn)/C(T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 страницы равномерно распределяется по исходящим ссылкам и переносится в значимость страницы А по входящим в нее ссыл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0.15 значимость страницы, без входящих ссылок (коэффициент телепор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той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image001"/>
          <p:cNvPicPr/>
          <p:nvPr/>
        </p:nvPicPr>
        <p:blipFill>
          <a:blip r:embed="rId1"/>
          <a:stretch/>
        </p:blipFill>
        <p:spPr>
          <a:xfrm>
            <a:off x="2057400" y="1600200"/>
            <a:ext cx="5514840" cy="13636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страница имеет исходящую ссыл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(A) =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(B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не знаем с чего на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чнем с первой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дположим, что исходная значимость у всех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(..)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елепорт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A)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-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B)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B)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-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(A)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A)= 0.15 + 0.85 * 1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B)= 0.15 + 0.85 * 1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ем другое число, 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(..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A)= 0.15 + 0.85 *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B)= 0.15 + 0.85 * 0.1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27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жа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A)= 0.15 + 0.85 * 0.277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3858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B)= 0.15 + 0.85 * 0.385875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477993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але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A)= 0.15 + 0.85 * 0.47799375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55629468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(B)= 0.15 + 0.85 * 0.5562946875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.6228504843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55520" y="46080"/>
            <a:ext cx="21621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 пусть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()=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(A)= 0.15 + 0.85 * 4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3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(B)= 0.15 + 0.85 * 34.2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9.17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ал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(A)= 0.15 + 0.85 * 29.177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4.9508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(B)= 0.15 + 0.85 * 24.950875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1.35824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 начинает сходиться 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 маленькая иерархия с исходящими ссыл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image004"/>
          <p:cNvPicPr/>
          <p:nvPr/>
        </p:nvPicPr>
        <p:blipFill>
          <a:blip r:embed="rId1"/>
          <a:stretch/>
        </p:blipFill>
        <p:spPr>
          <a:xfrm>
            <a:off x="826920" y="1628640"/>
            <a:ext cx="70581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 для иерарх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image005"/>
          <p:cNvPicPr/>
          <p:nvPr/>
        </p:nvPicPr>
        <p:blipFill>
          <a:blip r:embed="rId1"/>
          <a:stretch/>
        </p:blipFill>
        <p:spPr>
          <a:xfrm>
            <a:off x="468360" y="2060640"/>
            <a:ext cx="7991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ерархия с возвратом сс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image006"/>
          <p:cNvPicPr/>
          <p:nvPr/>
        </p:nvPicPr>
        <p:blipFill>
          <a:blip r:embed="rId1"/>
          <a:stretch/>
        </p:blipFill>
        <p:spPr>
          <a:xfrm>
            <a:off x="179280" y="1413000"/>
            <a:ext cx="8280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взаимосвяз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image011"/>
          <p:cNvPicPr/>
          <p:nvPr/>
        </p:nvPicPr>
        <p:blipFill>
          <a:blip r:embed="rId1"/>
          <a:stretch/>
        </p:blipFill>
        <p:spPr>
          <a:xfrm>
            <a:off x="755640" y="1557360"/>
            <a:ext cx="7056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ще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image013"/>
          <p:cNvPicPr/>
          <p:nvPr/>
        </p:nvPicPr>
        <p:blipFill>
          <a:blip r:embed="rId1"/>
          <a:stretch/>
        </p:blipFill>
        <p:spPr>
          <a:xfrm>
            <a:off x="611280" y="1628640"/>
            <a:ext cx="784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сылки – везд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25360"/>
            <a:ext cx="82296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щные источники информации об авторите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овый сп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очтовые адреса – спамерс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 хос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хосты – «плох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 телефонных зво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277F-1948-4651-BC70-EBB9C7829F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"/>
          <p:cNvGrpSpPr/>
          <p:nvPr/>
        </p:nvGrpSpPr>
        <p:grpSpPr>
          <a:xfrm>
            <a:off x="1305360" y="3870360"/>
            <a:ext cx="6131520" cy="2438280"/>
            <a:chOff x="1305360" y="3870360"/>
            <a:chExt cx="6131520" cy="2438280"/>
          </a:xfrm>
        </p:grpSpPr>
        <p:sp>
          <p:nvSpPr>
            <p:cNvPr id="74" name="Oval 4"/>
            <p:cNvSpPr/>
            <p:nvPr/>
          </p:nvSpPr>
          <p:spPr>
            <a:xfrm>
              <a:off x="2590560" y="4556160"/>
              <a:ext cx="457200" cy="4572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5"/>
            <p:cNvSpPr/>
            <p:nvPr/>
          </p:nvSpPr>
          <p:spPr>
            <a:xfrm>
              <a:off x="4648320" y="40226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"/>
            <p:cNvSpPr/>
            <p:nvPr/>
          </p:nvSpPr>
          <p:spPr>
            <a:xfrm>
              <a:off x="3886200" y="4876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"/>
            <p:cNvSpPr/>
            <p:nvPr/>
          </p:nvSpPr>
          <p:spPr>
            <a:xfrm>
              <a:off x="4191120" y="5851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"/>
            <p:cNvSpPr/>
            <p:nvPr/>
          </p:nvSpPr>
          <p:spPr>
            <a:xfrm>
              <a:off x="6019920" y="38862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9"/>
            <p:cNvSpPr/>
            <p:nvPr/>
          </p:nvSpPr>
          <p:spPr>
            <a:xfrm>
              <a:off x="6019920" y="493704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3"/>
            <p:cNvSpPr/>
            <p:nvPr/>
          </p:nvSpPr>
          <p:spPr>
            <a:xfrm>
              <a:off x="2971800" y="3870360"/>
              <a:ext cx="457200" cy="4572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2895480" y="5318280"/>
              <a:ext cx="457200" cy="4572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5"/>
            <p:cNvSpPr/>
            <p:nvPr/>
          </p:nvSpPr>
          <p:spPr>
            <a:xfrm>
              <a:off x="4800600" y="47847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5"/>
            <p:cNvSpPr/>
            <p:nvPr/>
          </p:nvSpPr>
          <p:spPr>
            <a:xfrm>
              <a:off x="1305360" y="478476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000"/>
                  </a:solidFill>
                  <a:latin typeface="Lucida Sans"/>
                  <a:ea typeface="MS PGothic"/>
                </a:rPr>
                <a:t>G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7"/>
            <p:cNvSpPr/>
            <p:nvPr/>
          </p:nvSpPr>
          <p:spPr>
            <a:xfrm>
              <a:off x="6699960" y="493704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MS PGothic"/>
                </a:rPr>
                <a:t>B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" name="Straight Arrow Connector 29"/>
            <p:cNvCxnSpPr>
              <a:stCxn id="74" idx="0"/>
              <a:endCxn id="80" idx="3"/>
            </p:cNvCxnSpPr>
            <p:nvPr/>
          </p:nvCxnSpPr>
          <p:spPr>
            <a:xfrm flipV="1">
              <a:off x="2819160" y="4260600"/>
              <a:ext cx="219600" cy="29556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86" name="Straight Arrow Connector 32"/>
            <p:cNvCxnSpPr>
              <a:stCxn id="81" idx="0"/>
              <a:endCxn id="80" idx="4"/>
            </p:cNvCxnSpPr>
            <p:nvPr/>
          </p:nvCxnSpPr>
          <p:spPr>
            <a:xfrm flipV="1">
              <a:off x="3123000" y="4326840"/>
              <a:ext cx="76680" cy="99108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87" name="Straight Arrow Connector 35"/>
            <p:cNvCxnSpPr>
              <a:stCxn id="78" idx="4"/>
              <a:endCxn id="79" idx="0"/>
            </p:cNvCxnSpPr>
            <p:nvPr/>
          </p:nvCxnSpPr>
          <p:spPr>
            <a:xfrm flipH="1">
              <a:off x="6248160" y="4343040"/>
              <a:ext cx="2160" cy="59436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88" name="Straight Arrow Connector 39"/>
            <p:cNvCxnSpPr>
              <a:stCxn id="82" idx="6"/>
              <a:endCxn id="79" idx="2"/>
            </p:cNvCxnSpPr>
            <p:nvPr/>
          </p:nvCxnSpPr>
          <p:spPr>
            <a:xfrm>
              <a:off x="5257800" y="5013000"/>
              <a:ext cx="762480" cy="15300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89" name="Straight Arrow Connector 42"/>
            <p:cNvCxnSpPr>
              <a:stCxn id="80" idx="5"/>
              <a:endCxn id="76" idx="0"/>
            </p:cNvCxnSpPr>
            <p:nvPr/>
          </p:nvCxnSpPr>
          <p:spPr>
            <a:xfrm>
              <a:off x="3362040" y="4260240"/>
              <a:ext cx="753120" cy="61668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0" name="Straight Arrow Connector 47"/>
            <p:cNvCxnSpPr>
              <a:stCxn id="75" idx="2"/>
              <a:endCxn id="80" idx="6"/>
            </p:cNvCxnSpPr>
            <p:nvPr/>
          </p:nvCxnSpPr>
          <p:spPr>
            <a:xfrm flipH="1" flipV="1">
              <a:off x="3428640" y="4098240"/>
              <a:ext cx="1219680" cy="15300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1" name="Straight Arrow Connector 52"/>
            <p:cNvCxnSpPr>
              <a:stCxn id="75" idx="6"/>
              <a:endCxn id="78" idx="2"/>
            </p:cNvCxnSpPr>
            <p:nvPr/>
          </p:nvCxnSpPr>
          <p:spPr>
            <a:xfrm flipV="1">
              <a:off x="5105520" y="4114080"/>
              <a:ext cx="915120" cy="13716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2" name="Straight Arrow Connector 55"/>
            <p:cNvCxnSpPr>
              <a:stCxn id="82" idx="2"/>
              <a:endCxn id="76" idx="6"/>
            </p:cNvCxnSpPr>
            <p:nvPr/>
          </p:nvCxnSpPr>
          <p:spPr>
            <a:xfrm flipH="1">
              <a:off x="4343040" y="5012280"/>
              <a:ext cx="457920" cy="9252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3" name="Straight Arrow Connector 58"/>
            <p:cNvCxnSpPr>
              <a:stCxn id="79" idx="4"/>
              <a:endCxn id="77" idx="7"/>
            </p:cNvCxnSpPr>
            <p:nvPr/>
          </p:nvCxnSpPr>
          <p:spPr>
            <a:xfrm flipH="1">
              <a:off x="4581000" y="5393880"/>
              <a:ext cx="1667520" cy="52416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4" name="Straight Arrow Connector 61"/>
            <p:cNvCxnSpPr>
              <a:endCxn id="81" idx="6"/>
            </p:cNvCxnSpPr>
            <p:nvPr/>
          </p:nvCxnSpPr>
          <p:spPr>
            <a:xfrm flipH="1" flipV="1">
              <a:off x="3352320" y="5546160"/>
              <a:ext cx="838800" cy="54972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5" name="Straight Arrow Connector 64"/>
            <p:cNvCxnSpPr>
              <a:stCxn id="81" idx="6"/>
              <a:endCxn id="76" idx="3"/>
            </p:cNvCxnSpPr>
            <p:nvPr/>
          </p:nvCxnSpPr>
          <p:spPr>
            <a:xfrm flipV="1">
              <a:off x="3352320" y="5266800"/>
              <a:ext cx="600840" cy="28008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6" name="Straight Arrow Connector 67"/>
            <p:cNvCxnSpPr>
              <a:stCxn id="76" idx="4"/>
              <a:endCxn id="77" idx="0"/>
            </p:cNvCxnSpPr>
            <p:nvPr/>
          </p:nvCxnSpPr>
          <p:spPr>
            <a:xfrm>
              <a:off x="4114800" y="5333760"/>
              <a:ext cx="305280" cy="51804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97" name="Straight Arrow Connector 70"/>
            <p:cNvCxnSpPr>
              <a:stCxn id="82" idx="0"/>
              <a:endCxn id="75" idx="4"/>
            </p:cNvCxnSpPr>
            <p:nvPr/>
          </p:nvCxnSpPr>
          <p:spPr>
            <a:xfrm flipH="1" flipV="1">
              <a:off x="4876200" y="4479480"/>
              <a:ext cx="153000" cy="305280"/>
            </a:xfrm>
            <a:prstGeom prst="straightConnector1">
              <a:avLst/>
            </a:prstGeom>
            <a:ln w="25560">
              <a:solidFill>
                <a:srgbClr val="bbe0e3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Rank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400px-PageRanks-Example"/>
          <p:cNvPicPr/>
          <p:nvPr/>
        </p:nvPicPr>
        <p:blipFill>
          <a:blip r:embed="rId1"/>
          <a:stretch/>
        </p:blipFill>
        <p:spPr>
          <a:xfrm>
            <a:off x="1403280" y="1916280"/>
            <a:ext cx="64087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дана формула вида (как в исходной статье (Brin, Page, 1998) и соотв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, что правильнее использовать такой вариант (сумма pagerank страниц в сети будет равн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6153120" cy="714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684360" y="4724280"/>
            <a:ext cx="68482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матическая основа Page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ковские це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пь маркова состоит и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оя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ю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 вероятностей переход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 каждом шаге, мы в одном из состоя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,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лемент матриц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чает вероятность перехода 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следующее состояние), при условии, что сейчас состояние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"/>
          <p:cNvSpPr/>
          <p:nvPr/>
        </p:nvSpPr>
        <p:spPr>
          <a:xfrm>
            <a:off x="2971800" y="5867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"/>
          <p:cNvSpPr/>
          <p:nvPr/>
        </p:nvSpPr>
        <p:spPr>
          <a:xfrm>
            <a:off x="4876920" y="5867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AutoShape 6"/>
          <p:cNvCxnSpPr>
            <a:stCxn id="312" idx="6"/>
            <a:endCxn id="313" idx="2"/>
          </p:cNvCxnSpPr>
          <p:nvPr/>
        </p:nvCxnSpPr>
        <p:spPr>
          <a:xfrm>
            <a:off x="3657240" y="621000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Text Box 7"/>
          <p:cNvSpPr/>
          <p:nvPr/>
        </p:nvSpPr>
        <p:spPr>
          <a:xfrm>
            <a:off x="3946320" y="6145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971800" y="4389480"/>
            <a:ext cx="914400" cy="1096920"/>
          </a:xfrm>
          <a:prstGeom prst="upArrowCallout">
            <a:avLst>
              <a:gd name="adj1" fmla="val 25002"/>
              <a:gd name="adj2" fmla="val 25000"/>
              <a:gd name="adj3" fmla="val 19993"/>
              <a:gd name="adj4" fmla="val 66660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200400" y="1523880"/>
                <a:ext cx="1343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ковские цепи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ви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случайное блуждание с «телепортацией» как Марковскую це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2133720" y="51055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4114800" y="51055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7"/>
          <p:cNvSpPr/>
          <p:nvPr/>
        </p:nvSpPr>
        <p:spPr>
          <a:xfrm>
            <a:off x="6095880" y="51055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8"/>
          <p:cNvCxnSpPr>
            <a:stCxn id="321" idx="7"/>
            <a:endCxn id="322" idx="1"/>
          </p:cNvCxnSpPr>
          <p:nvPr/>
        </p:nvCxnSpPr>
        <p:spPr>
          <a:xfrm>
            <a:off x="2914560" y="5238360"/>
            <a:ext cx="1334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9"/>
          <p:cNvCxnSpPr>
            <a:stCxn id="322" idx="3"/>
            <a:endCxn id="321" idx="5"/>
          </p:cNvCxnSpPr>
          <p:nvPr/>
        </p:nvCxnSpPr>
        <p:spPr>
          <a:xfrm flipH="1">
            <a:off x="2914200" y="5886000"/>
            <a:ext cx="1334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10"/>
          <p:cNvCxnSpPr>
            <a:stCxn id="322" idx="6"/>
            <a:endCxn id="323" idx="2"/>
          </p:cNvCxnSpPr>
          <p:nvPr/>
        </p:nvCxnSpPr>
        <p:spPr>
          <a:xfrm>
            <a:off x="5028840" y="556236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11"/>
          <p:cNvCxnSpPr>
            <a:stCxn id="321" idx="0"/>
            <a:endCxn id="323" idx="0"/>
          </p:cNvCxnSpPr>
          <p:nvPr/>
        </p:nvCxnSpPr>
        <p:spPr>
          <a:xfrm flipH="1" rot="16200000">
            <a:off x="4571280" y="3124800"/>
            <a:ext cx="2160" cy="3962880"/>
          </a:xfrm>
          <a:prstGeom prst="curvedConnector5">
            <a:avLst>
              <a:gd name="adj1" fmla="val -14400000"/>
              <a:gd name="adj2" fmla="val 4999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составления матрицы пере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матрицу NxN по количеству 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страницы (строчки) исходящие ссылки обозначить 1 и поставить в соответствующих столбц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изовать в каждой строке единицы, поделив на количество еди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ы умножить на коэффициент сглаживания (= (1-d), где d -  коэффициент телепор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 всем элементам строчки добавить коэффициент телепортации, поделенный на N (т.е. d/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о страницы не было ссылок, то по всем столбцам ставим 1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ргодическая марковская цеп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3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овская цепь называется эргодической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положительное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е, что для любой пары состояни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овской цепи, если она начинается во время 0 в состоян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для все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&gt;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P(i, j)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ебуются ненулевые вероятности перехода из одного состояния в друг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жество состояний не разбивается на изолированные подмно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.е. процесс перехода по сети с телепортациями – это эргодическая марковская цеп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орема об эргодической це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ой эргодической Марковской  цепи, которая задана матрицей переходов P, существует единственный вектор вероятностей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представляет собой левый собственный вектор P такой, что если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i, t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число посещений узла i за t шагов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любая эргодическая марковская цепь имеет периодичность захода в узлы, т.е. наблюдается как бы «рейтинг посещ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оцесс сходится, и не важно, откуда начать и с каким исходным распреде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"/>
              <p:cNvSpPr txBox="1"/>
              <p:nvPr/>
            </p:nvSpPr>
            <p:spPr>
              <a:xfrm>
                <a:off x="2771640" y="3357720"/>
                <a:ext cx="302436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f>
                          <m:num>
                            <m:r>
                              <m:t xml:space="preserve">η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lim/>
                    </m:limLow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ения в векторе вероя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582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ектор вероятностей нахождения в узлах с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данном шаг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он будет на следующем шаг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яд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атрицы вероятностей переходов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оворит нам, куда мы идем из состояния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следующее состояние буд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осчитать, куда это с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ий подсчет вектора стационар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(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ает вектор стационарных вероятност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ша текущая позиция описывается как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тогда и следующая позиция будет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P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постоянное состояние, поэто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лучается матричное уравнение, из которого можно вычислит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.е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– это левый собственный вектор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: </a:t>
            </a:r>
            <a:r>
              <a:rPr b="0" lang="en-US" sz="3600" spc="-1" strike="noStrike">
                <a:solidFill>
                  <a:srgbClr val="01ff15"/>
                </a:solidFill>
                <a:latin typeface="Arial"/>
              </a:rPr>
              <a:t>Goo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32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сылаются на узл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льные комбинации возмо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C859-9FA7-4F90-AEF6-656C2357111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2590920" y="45561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4648320" y="4022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88620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191120" y="5851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019920" y="38862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6019920" y="493704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"/>
          <p:cNvSpPr/>
          <p:nvPr/>
        </p:nvSpPr>
        <p:spPr>
          <a:xfrm>
            <a:off x="2971800" y="38703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4"/>
          <p:cNvSpPr/>
          <p:nvPr/>
        </p:nvSpPr>
        <p:spPr>
          <a:xfrm>
            <a:off x="2895480" y="531828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5"/>
          <p:cNvSpPr/>
          <p:nvPr/>
        </p:nvSpPr>
        <p:spPr>
          <a:xfrm>
            <a:off x="4800600" y="47847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5"/>
          <p:cNvSpPr/>
          <p:nvPr/>
        </p:nvSpPr>
        <p:spPr>
          <a:xfrm>
            <a:off x="1305360" y="478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MS PGothic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6699960" y="493704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29"/>
          <p:cNvCxnSpPr>
            <a:stCxn id="101" idx="0"/>
            <a:endCxn id="107" idx="3"/>
          </p:cNvCxnSpPr>
          <p:nvPr/>
        </p:nvCxnSpPr>
        <p:spPr>
          <a:xfrm flipV="1">
            <a:off x="2819520" y="4260960"/>
            <a:ext cx="219600" cy="295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13" name="Straight Arrow Connector 32"/>
          <p:cNvCxnSpPr>
            <a:stCxn id="108" idx="0"/>
            <a:endCxn id="107" idx="4"/>
          </p:cNvCxnSpPr>
          <p:nvPr/>
        </p:nvCxnSpPr>
        <p:spPr>
          <a:xfrm flipV="1">
            <a:off x="3124080" y="4327200"/>
            <a:ext cx="7668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14" name="Straight Arrow Connector 35"/>
          <p:cNvCxnSpPr>
            <a:stCxn id="105" idx="4"/>
            <a:endCxn id="106" idx="0"/>
          </p:cNvCxnSpPr>
          <p:nvPr/>
        </p:nvCxnSpPr>
        <p:spPr>
          <a:xfrm flipH="1">
            <a:off x="6248160" y="4343040"/>
            <a:ext cx="2160" cy="5943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15" name="Straight Arrow Connector 39"/>
          <p:cNvCxnSpPr>
            <a:stCxn id="109" idx="6"/>
            <a:endCxn id="106" idx="2"/>
          </p:cNvCxnSpPr>
          <p:nvPr/>
        </p:nvCxnSpPr>
        <p:spPr>
          <a:xfrm>
            <a:off x="5257440" y="5013000"/>
            <a:ext cx="7628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16" name="Straight Arrow Connector 42"/>
          <p:cNvCxnSpPr>
            <a:stCxn id="107" idx="5"/>
            <a:endCxn id="103" idx="0"/>
          </p:cNvCxnSpPr>
          <p:nvPr/>
        </p:nvCxnSpPr>
        <p:spPr>
          <a:xfrm>
            <a:off x="3362400" y="4260600"/>
            <a:ext cx="753120" cy="616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17" name="Straight Arrow Connector 47"/>
          <p:cNvCxnSpPr>
            <a:stCxn id="102" idx="2"/>
            <a:endCxn id="107" idx="6"/>
          </p:cNvCxnSpPr>
          <p:nvPr/>
        </p:nvCxnSpPr>
        <p:spPr>
          <a:xfrm flipH="1" flipV="1">
            <a:off x="3428280" y="4098240"/>
            <a:ext cx="12200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18" name="Straight Arrow Connector 52"/>
          <p:cNvCxnSpPr>
            <a:stCxn id="105" idx="2"/>
            <a:endCxn id="102" idx="6"/>
          </p:cNvCxnSpPr>
          <p:nvPr/>
        </p:nvCxnSpPr>
        <p:spPr>
          <a:xfrm flipH="1">
            <a:off x="5105160" y="4113720"/>
            <a:ext cx="915120" cy="137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</a:ln>
        </p:spPr>
      </p:cxnSp>
      <p:cxnSp>
        <p:nvCxnSpPr>
          <p:cNvPr id="119" name="Straight Arrow Connector 55"/>
          <p:cNvCxnSpPr>
            <a:stCxn id="109" idx="2"/>
            <a:endCxn id="103" idx="6"/>
          </p:cNvCxnSpPr>
          <p:nvPr/>
        </p:nvCxnSpPr>
        <p:spPr>
          <a:xfrm flipH="1">
            <a:off x="4343040" y="5013360"/>
            <a:ext cx="457920" cy="928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20" name="Straight Arrow Connector 58"/>
          <p:cNvCxnSpPr>
            <a:stCxn id="106" idx="4"/>
            <a:endCxn id="104" idx="7"/>
          </p:cNvCxnSpPr>
          <p:nvPr/>
        </p:nvCxnSpPr>
        <p:spPr>
          <a:xfrm flipH="1">
            <a:off x="4580640" y="5393880"/>
            <a:ext cx="1667880" cy="524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21" name="Straight Arrow Connector 61"/>
          <p:cNvCxnSpPr>
            <a:endCxn id="108" idx="6"/>
          </p:cNvCxnSpPr>
          <p:nvPr/>
        </p:nvCxnSpPr>
        <p:spPr>
          <a:xfrm flipH="1" flipV="1">
            <a:off x="3351960" y="5546160"/>
            <a:ext cx="839160" cy="5497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22" name="Straight Arrow Connector 64"/>
          <p:cNvCxnSpPr>
            <a:stCxn id="108" idx="6"/>
            <a:endCxn id="103" idx="3"/>
          </p:cNvCxnSpPr>
          <p:nvPr/>
        </p:nvCxnSpPr>
        <p:spPr>
          <a:xfrm flipV="1">
            <a:off x="3352320" y="5266440"/>
            <a:ext cx="600840" cy="280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23" name="Straight Arrow Connector 67"/>
          <p:cNvCxnSpPr>
            <a:stCxn id="103" idx="4"/>
            <a:endCxn id="104" idx="0"/>
          </p:cNvCxnSpPr>
          <p:nvPr/>
        </p:nvCxnSpPr>
        <p:spPr>
          <a:xfrm>
            <a:off x="4113720" y="5333760"/>
            <a:ext cx="305640" cy="5180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24" name="Straight Arrow Connector 70"/>
          <p:cNvCxnSpPr>
            <a:stCxn id="109" idx="0"/>
            <a:endCxn id="102" idx="4"/>
          </p:cNvCxnSpPr>
          <p:nvPr/>
        </p:nvCxnSpPr>
        <p:spPr>
          <a:xfrm flipH="1" flipV="1">
            <a:off x="4876200" y="4479120"/>
            <a:ext cx="153000" cy="3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еративный метод подсчета Page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лучайный вектор начальных со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читываем матрицу P (матрица переходов с телепортаци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выполнить умножение 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xP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точно быстро достигается с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истории интернет-поисков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1998: поиск по ключевым сло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avista, Excite, Infoseek, Inktomi, Ly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+: Goog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ускает ранжирование с учетом ссылок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теснил с рынка практически все ранние поисковые ма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5911-EFFF-401E-8E93-FFE624EB22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2160" y="2812680"/>
            <a:ext cx="777240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из ссыло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H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F78-F8E6-4239-965A-1472FE2068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perlink-Induced Topic Search (H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твет на запрос вместо упорядоченного множества страни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м два множества взаимосвязанных страни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b page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хорошие списки ссылок по те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o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 list of cancer-related link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hority p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асто упоминаются на страницах ха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 работает на широких тематических запро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бы и Авторит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ая хаб-страница (посредник) для какой-то темы указывает на многие авторитетные страницы для этой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Хорошая авторитетная страницы по теме указывается большим количеством хороших хабом по этой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й страницы рекурсивно вычисляется ее значимость как посредника и как авторитета (авт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1657440" y="1741320"/>
          <a:ext cx="5829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741320"/>
                    <a:ext cx="5829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4"/>
          <p:cNvSpPr/>
          <p:nvPr/>
        </p:nvSpPr>
        <p:spPr>
          <a:xfrm>
            <a:off x="2356200" y="609660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би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230040" y="3198960"/>
            <a:ext cx="1420200" cy="460080"/>
          </a:xfrm>
          <a:prstGeom prst="rightArrowCallout">
            <a:avLst>
              <a:gd name="adj1" fmla="val 25002"/>
              <a:gd name="adj2" fmla="val 25000"/>
              <a:gd name="adj3" fmla="val 51448"/>
              <a:gd name="adj4" fmla="val 66667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6307200" y="2817720"/>
            <a:ext cx="2794320" cy="460080"/>
          </a:xfrm>
          <a:prstGeom prst="leftArrowCallout">
            <a:avLst>
              <a:gd name="adj1" fmla="val 25002"/>
              <a:gd name="adj2" fmla="val 25000"/>
              <a:gd name="adj3" fmla="val 101226"/>
              <a:gd name="adj4" fmla="val 6667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ая сх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лечь исходное множест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набор) потенциально хороших хабов или авторит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их формируем небольшой топ-лист хабов или авторит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ератив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зовый набор стра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 текстовый запрос (например,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раузе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, получаем страницы, содержащие слово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раузер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евой на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ани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Добавляем любую страницу, котор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ывает на страницу из корневого набора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торую есть ссылка со страницы корневого множе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аб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невой и базовый набор стра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220px-Sets"/>
          <p:cNvPicPr/>
          <p:nvPr/>
        </p:nvPicPr>
        <p:blipFill>
          <a:blip r:embed="rId1"/>
          <a:stretch/>
        </p:blipFill>
        <p:spPr>
          <a:xfrm>
            <a:off x="2124000" y="2421000"/>
            <a:ext cx="489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деление хабов и авторит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м для каждой страницы в базовом набо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b sc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thority sc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Инициализация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всех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x, h(x)</a:t>
            </a:r>
            <a:r>
              <a:rPr b="0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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1; a(x) </a:t>
            </a:r>
            <a:r>
              <a:rPr b="0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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еративно пересчитыва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x), a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результате ите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ать страницы с наивысши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оп-ха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аивысши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ore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оп-авт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тая итеративная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 не указывают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странице есть ссылка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данная страница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сылка от </a:t>
            </a: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– узел </a:t>
            </a: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3885-BB18-4484-ADD9-3382338B88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2590920" y="45561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4648320" y="40226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88620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191120" y="5851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6019920" y="38862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6019920" y="493704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3"/>
          <p:cNvSpPr/>
          <p:nvPr/>
        </p:nvSpPr>
        <p:spPr>
          <a:xfrm>
            <a:off x="2971800" y="38703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4"/>
          <p:cNvSpPr/>
          <p:nvPr/>
        </p:nvSpPr>
        <p:spPr>
          <a:xfrm>
            <a:off x="2895480" y="531828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5"/>
          <p:cNvSpPr/>
          <p:nvPr/>
        </p:nvSpPr>
        <p:spPr>
          <a:xfrm>
            <a:off x="4800600" y="47847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305360" y="478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MS PGothic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7"/>
          <p:cNvSpPr/>
          <p:nvPr/>
        </p:nvSpPr>
        <p:spPr>
          <a:xfrm>
            <a:off x="6699960" y="493704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9"/>
          <p:cNvCxnSpPr>
            <a:stCxn id="128" idx="0"/>
            <a:endCxn id="134" idx="3"/>
          </p:cNvCxnSpPr>
          <p:nvPr/>
        </p:nvCxnSpPr>
        <p:spPr>
          <a:xfrm flipV="1">
            <a:off x="2819520" y="4260960"/>
            <a:ext cx="219600" cy="295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0" name="Straight Arrow Connector 32"/>
          <p:cNvCxnSpPr>
            <a:stCxn id="135" idx="0"/>
            <a:endCxn id="134" idx="4"/>
          </p:cNvCxnSpPr>
          <p:nvPr/>
        </p:nvCxnSpPr>
        <p:spPr>
          <a:xfrm flipV="1">
            <a:off x="3124080" y="4327200"/>
            <a:ext cx="7668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1" name="Straight Arrow Connector 35"/>
          <p:cNvCxnSpPr>
            <a:stCxn id="132" idx="4"/>
            <a:endCxn id="133" idx="0"/>
          </p:cNvCxnSpPr>
          <p:nvPr/>
        </p:nvCxnSpPr>
        <p:spPr>
          <a:xfrm flipH="1">
            <a:off x="6248160" y="4343040"/>
            <a:ext cx="2160" cy="5943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2" name="Straight Arrow Connector 39"/>
          <p:cNvCxnSpPr>
            <a:stCxn id="136" idx="6"/>
            <a:endCxn id="133" idx="2"/>
          </p:cNvCxnSpPr>
          <p:nvPr/>
        </p:nvCxnSpPr>
        <p:spPr>
          <a:xfrm>
            <a:off x="5257440" y="5013000"/>
            <a:ext cx="7628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3" name="Straight Arrow Connector 42"/>
          <p:cNvCxnSpPr>
            <a:stCxn id="134" idx="5"/>
            <a:endCxn id="130" idx="0"/>
          </p:cNvCxnSpPr>
          <p:nvPr/>
        </p:nvCxnSpPr>
        <p:spPr>
          <a:xfrm>
            <a:off x="3362400" y="4260600"/>
            <a:ext cx="753120" cy="616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4" name="Straight Arrow Connector 47"/>
          <p:cNvCxnSpPr>
            <a:stCxn id="129" idx="2"/>
            <a:endCxn id="134" idx="6"/>
          </p:cNvCxnSpPr>
          <p:nvPr/>
        </p:nvCxnSpPr>
        <p:spPr>
          <a:xfrm flipH="1" flipV="1">
            <a:off x="3428280" y="4098240"/>
            <a:ext cx="12200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5" name="Straight Arrow Connector 52"/>
          <p:cNvCxnSpPr>
            <a:stCxn id="132" idx="2"/>
            <a:endCxn id="129" idx="6"/>
          </p:cNvCxnSpPr>
          <p:nvPr/>
        </p:nvCxnSpPr>
        <p:spPr>
          <a:xfrm flipH="1">
            <a:off x="5105160" y="4113720"/>
            <a:ext cx="915120" cy="137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</a:ln>
        </p:spPr>
      </p:cxnSp>
      <p:cxnSp>
        <p:nvCxnSpPr>
          <p:cNvPr id="146" name="Straight Arrow Connector 55"/>
          <p:cNvCxnSpPr>
            <a:stCxn id="136" idx="2"/>
            <a:endCxn id="130" idx="6"/>
          </p:cNvCxnSpPr>
          <p:nvPr/>
        </p:nvCxnSpPr>
        <p:spPr>
          <a:xfrm flipH="1">
            <a:off x="4343040" y="5013360"/>
            <a:ext cx="457920" cy="928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7" name="Straight Arrow Connector 58"/>
          <p:cNvCxnSpPr>
            <a:stCxn id="133" idx="4"/>
            <a:endCxn id="131" idx="7"/>
          </p:cNvCxnSpPr>
          <p:nvPr/>
        </p:nvCxnSpPr>
        <p:spPr>
          <a:xfrm flipH="1">
            <a:off x="4580640" y="5393880"/>
            <a:ext cx="1667880" cy="524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8" name="Straight Arrow Connector 61"/>
          <p:cNvCxnSpPr>
            <a:endCxn id="135" idx="6"/>
          </p:cNvCxnSpPr>
          <p:nvPr/>
        </p:nvCxnSpPr>
        <p:spPr>
          <a:xfrm flipH="1" flipV="1">
            <a:off x="3351960" y="5546160"/>
            <a:ext cx="839160" cy="5497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9" name="Straight Arrow Connector 64"/>
          <p:cNvCxnSpPr>
            <a:stCxn id="135" idx="6"/>
            <a:endCxn id="130" idx="3"/>
          </p:cNvCxnSpPr>
          <p:nvPr/>
        </p:nvCxnSpPr>
        <p:spPr>
          <a:xfrm flipV="1">
            <a:off x="3352320" y="5266440"/>
            <a:ext cx="600840" cy="280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50" name="Straight Arrow Connector 67"/>
          <p:cNvCxnSpPr>
            <a:stCxn id="130" idx="4"/>
            <a:endCxn id="131" idx="0"/>
          </p:cNvCxnSpPr>
          <p:nvPr/>
        </p:nvCxnSpPr>
        <p:spPr>
          <a:xfrm>
            <a:off x="4113720" y="5333760"/>
            <a:ext cx="305640" cy="5180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51" name="Straight Arrow Connector 70"/>
          <p:cNvCxnSpPr>
            <a:stCxn id="136" idx="0"/>
            <a:endCxn id="129" idx="4"/>
          </p:cNvCxnSpPr>
          <p:nvPr/>
        </p:nvCxnSpPr>
        <p:spPr>
          <a:xfrm flipH="1" flipV="1">
            <a:off x="4876200" y="4479120"/>
            <a:ext cx="153000" cy="3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ративный перес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яем следующий пересчет для всех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1828800" y="3124080"/>
                <a:ext cx="3016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1828800" y="4724280"/>
                <a:ext cx="3016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Oval 6"/>
          <p:cNvSpPr/>
          <p:nvPr/>
        </p:nvSpPr>
        <p:spPr>
          <a:xfrm>
            <a:off x="6095880" y="3352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7"/>
          <p:cNvSpPr/>
          <p:nvPr/>
        </p:nvSpPr>
        <p:spPr>
          <a:xfrm>
            <a:off x="6858000" y="28954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6858000" y="38098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9"/>
          <p:cNvSpPr/>
          <p:nvPr/>
        </p:nvSpPr>
        <p:spPr>
          <a:xfrm>
            <a:off x="7162920" y="3352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10"/>
          <p:cNvCxnSpPr>
            <a:stCxn id="378" idx="7"/>
            <a:endCxn id="379" idx="2"/>
          </p:cNvCxnSpPr>
          <p:nvPr/>
        </p:nvCxnSpPr>
        <p:spPr>
          <a:xfrm flipV="1">
            <a:off x="6420960" y="3085560"/>
            <a:ext cx="4374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AutoShape 11"/>
          <p:cNvCxnSpPr>
            <a:stCxn id="378" idx="6"/>
            <a:endCxn id="381" idx="2"/>
          </p:cNvCxnSpPr>
          <p:nvPr/>
        </p:nvCxnSpPr>
        <p:spPr>
          <a:xfrm>
            <a:off x="6476760" y="35431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AutoShape 12"/>
          <p:cNvCxnSpPr>
            <a:stCxn id="378" idx="5"/>
            <a:endCxn id="380" idx="2"/>
          </p:cNvCxnSpPr>
          <p:nvPr/>
        </p:nvCxnSpPr>
        <p:spPr>
          <a:xfrm>
            <a:off x="6420960" y="3678120"/>
            <a:ext cx="4374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5" name="Group 13"/>
          <p:cNvGrpSpPr/>
          <p:nvPr/>
        </p:nvGrpSpPr>
        <p:grpSpPr>
          <a:xfrm>
            <a:off x="6095880" y="4419720"/>
            <a:ext cx="1447920" cy="1447560"/>
            <a:chOff x="6095880" y="4419720"/>
            <a:chExt cx="1447920" cy="1447560"/>
          </a:xfrm>
        </p:grpSpPr>
        <p:sp>
          <p:nvSpPr>
            <p:cNvPr id="386" name="Oval 14"/>
            <p:cNvSpPr/>
            <p:nvPr/>
          </p:nvSpPr>
          <p:spPr>
            <a:xfrm>
              <a:off x="6324480" y="5486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6095880" y="49528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6324480" y="44197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7162920" y="4952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AutoShape 18"/>
            <p:cNvCxnSpPr>
              <a:stCxn id="388" idx="6"/>
              <a:endCxn id="389" idx="1"/>
            </p:cNvCxnSpPr>
            <p:nvPr/>
          </p:nvCxnSpPr>
          <p:spPr>
            <a:xfrm>
              <a:off x="6705720" y="4609800"/>
              <a:ext cx="51336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AutoShape 19"/>
            <p:cNvCxnSpPr>
              <a:stCxn id="387" idx="6"/>
              <a:endCxn id="389" idx="2"/>
            </p:cNvCxnSpPr>
            <p:nvPr/>
          </p:nvCxnSpPr>
          <p:spPr>
            <a:xfrm>
              <a:off x="6476760" y="5143320"/>
              <a:ext cx="686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AutoShape 20"/>
            <p:cNvCxnSpPr>
              <a:stCxn id="386" idx="6"/>
              <a:endCxn id="389" idx="3"/>
            </p:cNvCxnSpPr>
            <p:nvPr/>
          </p:nvCxnSpPr>
          <p:spPr>
            <a:xfrm flipV="1">
              <a:off x="6705720" y="5277600"/>
              <a:ext cx="51336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3" name="TextBox 21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ративный перес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авторитетности страницы вычисляется как сумма значений оценок посреднических страниц, которые указывают на эту страни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редническая оценка страницы вычисляется как сумма значений оценок авторитетности страниц, на которых она ссыл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значений авторитетности и посредника – необходима нормализа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, полученные в результате этого процесса, в конечном итоге сходя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требуется около 5 ите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I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Page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HITS вычисляет не только ранг каждого узла, но также дает посредническую оц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PageRank содержит свободный параметр α, который обычно не включен в алгоритм H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ритетом, в результате работы алгоритма PageRank, пользуются, как правило, более старые ресурсы, в то время как HITS алгоритм имеет меньший уклон в этом отнош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PageRank может находить единственное уникально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достатк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виг тем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dri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елевантные документы могут вызвать сдвиг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леватные страницы на первых позициях вы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ят к ошибочным результа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усиление страни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ылающихся друг на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овая оптимиз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здание искусственного множества с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1"/>
          <a:stretch/>
        </p:blipFill>
        <p:spPr>
          <a:xfrm>
            <a:off x="1476360" y="1189080"/>
            <a:ext cx="5327640" cy="28684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411840" y="4311720"/>
            <a:ext cx="813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веб-граф, составить матрицу пере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елепортации = 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матрицу переходов и вычис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rank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злов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й вектор состояний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с равными вероятностями для кажд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тая итеративная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 не указывают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странице есть ссылка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данная страница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сылка от </a:t>
            </a: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– узел </a:t>
            </a: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B0F8-4425-4644-9DCF-AFD9C08907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2590920" y="45561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4648320" y="402264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886200" y="487692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4191120" y="585144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6019920" y="38862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019920" y="493704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3"/>
          <p:cNvSpPr/>
          <p:nvPr/>
        </p:nvSpPr>
        <p:spPr>
          <a:xfrm>
            <a:off x="2971800" y="38703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4"/>
          <p:cNvSpPr/>
          <p:nvPr/>
        </p:nvSpPr>
        <p:spPr>
          <a:xfrm>
            <a:off x="2895480" y="531828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5"/>
          <p:cNvSpPr/>
          <p:nvPr/>
        </p:nvSpPr>
        <p:spPr>
          <a:xfrm>
            <a:off x="4800600" y="47847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5"/>
          <p:cNvSpPr/>
          <p:nvPr/>
        </p:nvSpPr>
        <p:spPr>
          <a:xfrm>
            <a:off x="1305360" y="478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MS PGothic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7"/>
          <p:cNvSpPr/>
          <p:nvPr/>
        </p:nvSpPr>
        <p:spPr>
          <a:xfrm>
            <a:off x="6699960" y="493704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9"/>
          <p:cNvCxnSpPr>
            <a:stCxn id="155" idx="0"/>
            <a:endCxn id="161" idx="3"/>
          </p:cNvCxnSpPr>
          <p:nvPr/>
        </p:nvCxnSpPr>
        <p:spPr>
          <a:xfrm flipV="1">
            <a:off x="2819520" y="4260960"/>
            <a:ext cx="219600" cy="295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67" name="Straight Arrow Connector 32"/>
          <p:cNvCxnSpPr>
            <a:stCxn id="162" idx="0"/>
            <a:endCxn id="161" idx="4"/>
          </p:cNvCxnSpPr>
          <p:nvPr/>
        </p:nvCxnSpPr>
        <p:spPr>
          <a:xfrm flipV="1">
            <a:off x="3124080" y="4327200"/>
            <a:ext cx="7668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68" name="Straight Arrow Connector 35"/>
          <p:cNvCxnSpPr>
            <a:stCxn id="159" idx="4"/>
            <a:endCxn id="160" idx="0"/>
          </p:cNvCxnSpPr>
          <p:nvPr/>
        </p:nvCxnSpPr>
        <p:spPr>
          <a:xfrm flipH="1">
            <a:off x="6248160" y="4343040"/>
            <a:ext cx="2160" cy="5943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69" name="Straight Arrow Connector 39"/>
          <p:cNvCxnSpPr>
            <a:stCxn id="163" idx="6"/>
            <a:endCxn id="160" idx="2"/>
          </p:cNvCxnSpPr>
          <p:nvPr/>
        </p:nvCxnSpPr>
        <p:spPr>
          <a:xfrm>
            <a:off x="5257440" y="5013000"/>
            <a:ext cx="7628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0" name="Straight Arrow Connector 42"/>
          <p:cNvCxnSpPr>
            <a:stCxn id="161" idx="5"/>
            <a:endCxn id="157" idx="0"/>
          </p:cNvCxnSpPr>
          <p:nvPr/>
        </p:nvCxnSpPr>
        <p:spPr>
          <a:xfrm>
            <a:off x="3362400" y="4260600"/>
            <a:ext cx="753120" cy="616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1" name="Straight Arrow Connector 47"/>
          <p:cNvCxnSpPr>
            <a:stCxn id="156" idx="2"/>
            <a:endCxn id="161" idx="6"/>
          </p:cNvCxnSpPr>
          <p:nvPr/>
        </p:nvCxnSpPr>
        <p:spPr>
          <a:xfrm flipH="1" flipV="1">
            <a:off x="3428280" y="4098240"/>
            <a:ext cx="12200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2" name="Straight Arrow Connector 52"/>
          <p:cNvCxnSpPr>
            <a:stCxn id="159" idx="2"/>
            <a:endCxn id="156" idx="6"/>
          </p:cNvCxnSpPr>
          <p:nvPr/>
        </p:nvCxnSpPr>
        <p:spPr>
          <a:xfrm flipH="1">
            <a:off x="5105160" y="4113720"/>
            <a:ext cx="915120" cy="137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</a:ln>
        </p:spPr>
      </p:cxnSp>
      <p:cxnSp>
        <p:nvCxnSpPr>
          <p:cNvPr id="173" name="Straight Arrow Connector 55"/>
          <p:cNvCxnSpPr>
            <a:stCxn id="163" idx="2"/>
            <a:endCxn id="157" idx="6"/>
          </p:cNvCxnSpPr>
          <p:nvPr/>
        </p:nvCxnSpPr>
        <p:spPr>
          <a:xfrm flipH="1">
            <a:off x="4343040" y="5013360"/>
            <a:ext cx="457920" cy="928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4" name="Straight Arrow Connector 58"/>
          <p:cNvCxnSpPr>
            <a:stCxn id="160" idx="4"/>
            <a:endCxn id="158" idx="7"/>
          </p:cNvCxnSpPr>
          <p:nvPr/>
        </p:nvCxnSpPr>
        <p:spPr>
          <a:xfrm flipH="1">
            <a:off x="4580640" y="5393880"/>
            <a:ext cx="1667880" cy="524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5" name="Straight Arrow Connector 61"/>
          <p:cNvCxnSpPr>
            <a:endCxn id="162" idx="6"/>
          </p:cNvCxnSpPr>
          <p:nvPr/>
        </p:nvCxnSpPr>
        <p:spPr>
          <a:xfrm flipH="1" flipV="1">
            <a:off x="3351960" y="5546160"/>
            <a:ext cx="839160" cy="5497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6" name="Straight Arrow Connector 64"/>
          <p:cNvCxnSpPr>
            <a:stCxn id="162" idx="6"/>
            <a:endCxn id="157" idx="3"/>
          </p:cNvCxnSpPr>
          <p:nvPr/>
        </p:nvCxnSpPr>
        <p:spPr>
          <a:xfrm flipV="1">
            <a:off x="3352320" y="5266440"/>
            <a:ext cx="600840" cy="280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7" name="Straight Arrow Connector 67"/>
          <p:cNvCxnSpPr>
            <a:stCxn id="157" idx="4"/>
            <a:endCxn id="158" idx="0"/>
          </p:cNvCxnSpPr>
          <p:nvPr/>
        </p:nvCxnSpPr>
        <p:spPr>
          <a:xfrm>
            <a:off x="4113720" y="5333760"/>
            <a:ext cx="305640" cy="5180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78" name="Straight Arrow Connector 70"/>
          <p:cNvCxnSpPr>
            <a:stCxn id="163" idx="0"/>
            <a:endCxn id="156" idx="4"/>
          </p:cNvCxnSpPr>
          <p:nvPr/>
        </p:nvCxnSpPr>
        <p:spPr>
          <a:xfrm flipH="1" flipV="1">
            <a:off x="4876200" y="4479120"/>
            <a:ext cx="153000" cy="3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стая итеративная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97000"/>
            <a:ext cx="82296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 не указывают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странице есть ссылка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данная страница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сылка от </a:t>
            </a: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– узел </a:t>
            </a:r>
            <a:r>
              <a:rPr b="0" lang="en-US" sz="2800" spc="-1" strike="noStrike">
                <a:solidFill>
                  <a:srgbClr val="00a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2B0E-F9A4-44D9-AF66-6F2108BB0E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2590920" y="45561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4648320" y="402264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3886200" y="487692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4191120" y="585144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6019920" y="38862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6019920" y="493704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3"/>
          <p:cNvSpPr/>
          <p:nvPr/>
        </p:nvSpPr>
        <p:spPr>
          <a:xfrm>
            <a:off x="2971800" y="387036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2895480" y="5318280"/>
            <a:ext cx="457200" cy="45720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5"/>
          <p:cNvSpPr/>
          <p:nvPr/>
        </p:nvSpPr>
        <p:spPr>
          <a:xfrm>
            <a:off x="4800600" y="478476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5"/>
          <p:cNvSpPr/>
          <p:nvPr/>
        </p:nvSpPr>
        <p:spPr>
          <a:xfrm>
            <a:off x="1305360" y="478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MS PGothic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7"/>
          <p:cNvSpPr/>
          <p:nvPr/>
        </p:nvSpPr>
        <p:spPr>
          <a:xfrm>
            <a:off x="6699960" y="493704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29"/>
          <p:cNvCxnSpPr>
            <a:stCxn id="182" idx="0"/>
            <a:endCxn id="188" idx="3"/>
          </p:cNvCxnSpPr>
          <p:nvPr/>
        </p:nvCxnSpPr>
        <p:spPr>
          <a:xfrm flipV="1">
            <a:off x="2819520" y="4260960"/>
            <a:ext cx="219600" cy="295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4" name="Straight Arrow Connector 32"/>
          <p:cNvCxnSpPr>
            <a:stCxn id="189" idx="0"/>
            <a:endCxn id="188" idx="4"/>
          </p:cNvCxnSpPr>
          <p:nvPr/>
        </p:nvCxnSpPr>
        <p:spPr>
          <a:xfrm flipV="1">
            <a:off x="3124080" y="4327200"/>
            <a:ext cx="7668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5" name="Straight Arrow Connector 35"/>
          <p:cNvCxnSpPr>
            <a:stCxn id="186" idx="4"/>
            <a:endCxn id="187" idx="0"/>
          </p:cNvCxnSpPr>
          <p:nvPr/>
        </p:nvCxnSpPr>
        <p:spPr>
          <a:xfrm flipH="1">
            <a:off x="6248160" y="4343040"/>
            <a:ext cx="2160" cy="5943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6" name="Straight Arrow Connector 39"/>
          <p:cNvCxnSpPr>
            <a:stCxn id="190" idx="6"/>
            <a:endCxn id="187" idx="2"/>
          </p:cNvCxnSpPr>
          <p:nvPr/>
        </p:nvCxnSpPr>
        <p:spPr>
          <a:xfrm>
            <a:off x="5257440" y="5013000"/>
            <a:ext cx="7628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7" name="Straight Arrow Connector 42"/>
          <p:cNvCxnSpPr>
            <a:stCxn id="188" idx="5"/>
            <a:endCxn id="184" idx="0"/>
          </p:cNvCxnSpPr>
          <p:nvPr/>
        </p:nvCxnSpPr>
        <p:spPr>
          <a:xfrm>
            <a:off x="3362400" y="4260600"/>
            <a:ext cx="753120" cy="616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8" name="Straight Arrow Connector 47"/>
          <p:cNvCxnSpPr>
            <a:stCxn id="183" idx="2"/>
            <a:endCxn id="188" idx="6"/>
          </p:cNvCxnSpPr>
          <p:nvPr/>
        </p:nvCxnSpPr>
        <p:spPr>
          <a:xfrm flipH="1" flipV="1">
            <a:off x="3428280" y="4098240"/>
            <a:ext cx="1220040" cy="153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9" name="Straight Arrow Connector 52"/>
          <p:cNvCxnSpPr>
            <a:stCxn id="186" idx="2"/>
            <a:endCxn id="183" idx="6"/>
          </p:cNvCxnSpPr>
          <p:nvPr/>
        </p:nvCxnSpPr>
        <p:spPr>
          <a:xfrm flipH="1">
            <a:off x="5105160" y="4113720"/>
            <a:ext cx="915120" cy="137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</a:ln>
        </p:spPr>
      </p:cxnSp>
      <p:cxnSp>
        <p:nvCxnSpPr>
          <p:cNvPr id="200" name="Straight Arrow Connector 55"/>
          <p:cNvCxnSpPr>
            <a:stCxn id="190" idx="2"/>
            <a:endCxn id="184" idx="6"/>
          </p:cNvCxnSpPr>
          <p:nvPr/>
        </p:nvCxnSpPr>
        <p:spPr>
          <a:xfrm flipH="1">
            <a:off x="4343040" y="5013360"/>
            <a:ext cx="457920" cy="928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01" name="Straight Arrow Connector 58"/>
          <p:cNvCxnSpPr>
            <a:stCxn id="187" idx="4"/>
            <a:endCxn id="185" idx="7"/>
          </p:cNvCxnSpPr>
          <p:nvPr/>
        </p:nvCxnSpPr>
        <p:spPr>
          <a:xfrm flipH="1">
            <a:off x="4580640" y="5393880"/>
            <a:ext cx="1667880" cy="524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02" name="Straight Arrow Connector 61"/>
          <p:cNvCxnSpPr>
            <a:endCxn id="189" idx="6"/>
          </p:cNvCxnSpPr>
          <p:nvPr/>
        </p:nvCxnSpPr>
        <p:spPr>
          <a:xfrm flipH="1" flipV="1">
            <a:off x="3351960" y="5546160"/>
            <a:ext cx="839160" cy="5497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03" name="Straight Arrow Connector 64"/>
          <p:cNvCxnSpPr>
            <a:stCxn id="189" idx="6"/>
            <a:endCxn id="184" idx="3"/>
          </p:cNvCxnSpPr>
          <p:nvPr/>
        </p:nvCxnSpPr>
        <p:spPr>
          <a:xfrm flipV="1">
            <a:off x="3352320" y="5266440"/>
            <a:ext cx="600840" cy="280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04" name="Straight Arrow Connector 67"/>
          <p:cNvCxnSpPr>
            <a:stCxn id="184" idx="4"/>
            <a:endCxn id="185" idx="0"/>
          </p:cNvCxnSpPr>
          <p:nvPr/>
        </p:nvCxnSpPr>
        <p:spPr>
          <a:xfrm>
            <a:off x="4113720" y="5333760"/>
            <a:ext cx="305640" cy="5180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05" name="Straight Arrow Connector 70"/>
          <p:cNvCxnSpPr>
            <a:stCxn id="190" idx="0"/>
            <a:endCxn id="183" idx="4"/>
          </p:cNvCxnSpPr>
          <p:nvPr/>
        </p:nvCxnSpPr>
        <p:spPr>
          <a:xfrm flipH="1" flipV="1">
            <a:off x="4876200" y="4479120"/>
            <a:ext cx="153000" cy="3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206" name="TextBox 28"/>
          <p:cNvSpPr/>
          <p:nvPr/>
        </p:nvSpPr>
        <p:spPr>
          <a:xfrm>
            <a:off x="380880" y="6396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о других видов учета сс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ообщества шопоголиков»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oel+Goldstein 20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ители, друзья которых много покупают, также много покуп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ение групп и лидеров групп в социальных се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сылки в информационном пои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ение веса и ранж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изация, основанная на ссыл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ылки как признаки в класс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и друг на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и на други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у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7:40:11Z</dcterms:created>
  <dc:creator>boris</dc:creator>
  <dc:description/>
  <dc:language>en-US</dc:language>
  <cp:lastModifiedBy>louk</cp:lastModifiedBy>
  <dcterms:modified xsi:type="dcterms:W3CDTF">2018-10-22T16:54:32Z</dcterms:modified>
  <cp:revision>66</cp:revision>
  <dc:subject/>
  <dc:title>Анализ ссылок. PageRank</dc:title>
</cp:coreProperties>
</file>