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2659-61FA-4BAB-991B-A69952C19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59B8-0298-4A3A-BE0D-ADB5143B3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EFFB-4DF9-434F-AB32-B5EAC9065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D00C-2AAF-4324-AD5A-6047637145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6FC6-7758-45A9-B9CA-3EFB45F19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8FCA-DBA8-4667-8E4B-F7E14470F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AD0D-AF9C-4498-9F58-599B78670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2302-5F91-46FB-9ED6-9CCF518A0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CAC-025F-442B-BC64-CE870F9D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6DC-ADAE-4A5F-8CD2-89998B7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194-88F2-4C63-BDE8-246AD99A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DF0-E885-43C7-B4A7-42A3B0F2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DE2-DA13-4B3A-A304-00E3D6B3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3E2-9C3E-4C0E-B563-DD2D61F2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8B9-9D04-48B3-B1BC-D5B4271A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5E6-DFF4-48B6-9D7F-ED1DE7FE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358-6E93-43C6-8822-F93AB80D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BD9-C426-4FC1-AAE8-D1D7AB2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BC0-9699-45EC-8078-B47CE4D3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38B-306A-4AAE-905A-BCFA6C2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EBA5-417A-4D3C-BDC4-7C0A1AD21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оятностные модели информационного по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оятностная мод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PMingLiU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052640"/>
            <a:ext cx="7778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P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вероя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сло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утствует в документе из случайно выбранного документа в множестве релевантных документ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вероятность т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сутствует в документе, случайно выборанного из множества релевантных доку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1444680" y="3429000"/>
                <a:ext cx="1211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оятностная мод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PMingLiU"/>
              </a:rPr>
              <a:t> 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1116000" y="1341360"/>
                <a:ext cx="67993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187280" y="2781360"/>
                <a:ext cx="35560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900000" y="5661000"/>
                <a:ext cx="69771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SV</m:t>
                    </m:r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TextBox 5"/>
          <p:cNvSpPr/>
          <p:nvPr/>
        </p:nvSpPr>
        <p:spPr>
          <a:xfrm>
            <a:off x="250920" y="3500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ую группу сомножителей (для слов, которых нет в документе) домнож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акие же сомножители, которые есть в документе, и для с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 делим на такие же сомножители, относя их к перво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ая группа сомножителей может быть убрана, поскольку теперь не зависит от конкретного документа. Получаем из первой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и вероятности на прак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ые множества релевантных и нерелевантных документов неизвест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оцен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ерелевантных документов (второе слагаем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ерелевантные документы аппроксимировать целой коллекцией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встречаемость слова в нерелевантных документах для запро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(1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(N– df)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N/d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ID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840" y="104400"/>
            <a:ext cx="82234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и вероятности на прак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38240" y="1052640"/>
            <a:ext cx="850572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истика релевантных документ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т быть оценена различным образ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Calibri"/>
              <a:buChar char="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статистику слов в известных релевантных документах  - это основа для вероятностных подходов к relevanc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70000"/>
              <a:buFont typeface="Calibri"/>
              <a:buChar char="❷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ь как констант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оложим, что вероятность нахождения слова запроса в релевантном докумен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PMingLiU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первое выражение сокращ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ая оценка, но не противоречит предполож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ся, что ранжирование документов получено просто суммированием  вес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ротких документов  (заголовков или абстрактов) работает неплох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F00C-B79F-43E9-AD80-8E3E43135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60280"/>
            <a:ext cx="8223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оятностные мо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8240" y="1197000"/>
            <a:ext cx="850572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старых формальных моделей информационного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on &amp; Kuhns, 1960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поисковая система не может предсказать с уверенностью релевантность документа, то мы должны иметь дело с вероят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ения в модели B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евское представление документов, запросов и релев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сть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не входящие в запрос, не влияют на по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евантность документов не зависит друг от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2F8-AE6C-4D35-BDE3-EE6F2BF4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840" y="104400"/>
            <a:ext cx="822348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ие между векторными моделями и вероятностными не очень вели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38240" y="1916280"/>
            <a:ext cx="850572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оих случаях поисковая система строится похожи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роятностном информационном поиске сходство между запросов и документом считается не косинусной мерой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f-id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кторном пространстве, а несколько другой формулой, мотивированной теорией вероя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F621-E3D2-4BB8-B619-513AA9AA1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840" y="104400"/>
            <a:ext cx="82234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ari BM25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инар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8240" y="1268280"/>
            <a:ext cx="850572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ная мод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изначально создана для поиска по записям в коротких каталогах сопоставимой длины – и работала прилично в эт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временного полнотекстового поиска, модель должна учитывать частоту термина в документе и длину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Match25 (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BM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kap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витие моде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M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ет эти велич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9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их дн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M2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одна из наиболее распространенных и устойчивых моделей информационного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06F0-2916-4BB0-AFF7-4D4538E51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104760"/>
            <a:ext cx="822348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M25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инар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38240" y="981000"/>
            <a:ext cx="8826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ейшая форма веса для документа d – это просто суммировани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f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ов запроса, которые присутствуют в этом докумен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формула «исправляется» учетом частоты слова в документа и длины документ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f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 t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ота слова в докумен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ина докум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няя длина документа в коллекции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аметр, контролирующий учет частоты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аметр, контролирующий учет длины доку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74E4-B9D8-4CA0-84EB-B94768324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130.png"/>
          <p:cNvPicPr/>
          <p:nvPr/>
        </p:nvPicPr>
        <p:blipFill>
          <a:blip r:embed="rId1"/>
          <a:stretch/>
        </p:blipFill>
        <p:spPr>
          <a:xfrm>
            <a:off x="3132000" y="1844640"/>
            <a:ext cx="2135160" cy="72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1302.png"/>
          <p:cNvPicPr/>
          <p:nvPr/>
        </p:nvPicPr>
        <p:blipFill>
          <a:blip r:embed="rId2"/>
          <a:stretch/>
        </p:blipFill>
        <p:spPr>
          <a:xfrm>
            <a:off x="1643040" y="3643200"/>
            <a:ext cx="62625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840" y="104400"/>
            <a:ext cx="8223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M25: A Nonbina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38240" y="981000"/>
            <a:ext cx="8681760" cy="64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запрос длинный, то можно учитывать похожее взвешивание для слов за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f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слова в запро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, контролирующий частоту термина в запро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нормализации запроса по дл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кольку поиск делается для фиксированного запро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ы нужно настраивать на 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птимизация не выполнялась, то в экспериментах получено, что величи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ы иметь знач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межутке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254-352C-4546-85F4-E0E5DEB0C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1131.png"/>
          <p:cNvPicPr/>
          <p:nvPr/>
        </p:nvPicPr>
        <p:blipFill>
          <a:blip r:embed="rId1"/>
          <a:stretch/>
        </p:blipFill>
        <p:spPr>
          <a:xfrm>
            <a:off x="611280" y="1989000"/>
            <a:ext cx="802476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овые модели в информационном поис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торная модель – выглядит как эв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а найти математическое об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модель BIM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Independence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M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овая модель информационного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й поиск, основанный на языковой модел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Language Model (LM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0" y="1981080"/>
            <a:ext cx="1752480" cy="3505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352680" y="3429000"/>
            <a:ext cx="914400" cy="609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7848720" y="2209680"/>
            <a:ext cx="609480" cy="6858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7848720" y="3124080"/>
            <a:ext cx="609480" cy="68580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  <a:ea typeface="굴림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7848720" y="4572000"/>
            <a:ext cx="609480" cy="6858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988400" y="3962520"/>
            <a:ext cx="54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j0382404"/>
          <p:cNvPicPr/>
          <p:nvPr/>
        </p:nvPicPr>
        <p:blipFill>
          <a:blip r:embed="rId1"/>
          <a:stretch/>
        </p:blipFill>
        <p:spPr>
          <a:xfrm>
            <a:off x="1523880" y="3048120"/>
            <a:ext cx="1371600" cy="12826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380880" y="1905120"/>
            <a:ext cx="2362320" cy="914400"/>
          </a:xfrm>
          <a:prstGeom prst="cloudCallout">
            <a:avLst>
              <a:gd name="adj1" fmla="val 1208"/>
              <a:gd name="adj2" fmla="val 8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. потре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248520" y="55627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лекция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4876920" y="2971800"/>
            <a:ext cx="160020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  <a:ea typeface="굴림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5129280" y="2495520"/>
                <a:ext cx="1247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AutoShape 15"/>
          <p:cNvSpPr/>
          <p:nvPr/>
        </p:nvSpPr>
        <p:spPr>
          <a:xfrm>
            <a:off x="7010280" y="2209680"/>
            <a:ext cx="685800" cy="685800"/>
          </a:xfrm>
          <a:prstGeom prst="cube">
            <a:avLst>
              <a:gd name="adj" fmla="val 11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7086600" y="2362320"/>
                <a:ext cx="5335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AutoShape 17"/>
          <p:cNvSpPr/>
          <p:nvPr/>
        </p:nvSpPr>
        <p:spPr>
          <a:xfrm>
            <a:off x="7010280" y="3124080"/>
            <a:ext cx="685800" cy="685800"/>
          </a:xfrm>
          <a:prstGeom prst="cube">
            <a:avLst>
              <a:gd name="adj" fmla="val 11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8"/>
              <p:cNvSpPr txBox="1"/>
              <p:nvPr/>
            </p:nvSpPr>
            <p:spPr>
              <a:xfrm>
                <a:off x="7086600" y="3276720"/>
                <a:ext cx="5572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AutoShape 19"/>
          <p:cNvSpPr/>
          <p:nvPr/>
        </p:nvSpPr>
        <p:spPr>
          <a:xfrm>
            <a:off x="7010280" y="4572000"/>
            <a:ext cx="685800" cy="685800"/>
          </a:xfrm>
          <a:prstGeom prst="cube">
            <a:avLst>
              <a:gd name="adj" fmla="val 11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226280" y="3962520"/>
            <a:ext cx="54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7062840" y="4724280"/>
                <a:ext cx="557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Line 22"/>
          <p:cNvSpPr/>
          <p:nvPr/>
        </p:nvSpPr>
        <p:spPr>
          <a:xfrm>
            <a:off x="7620120" y="2590920"/>
            <a:ext cx="22860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7620120" y="3429000"/>
            <a:ext cx="22860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620120" y="4952880"/>
            <a:ext cx="22860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5"/>
          <p:cNvSpPr/>
          <p:nvPr/>
        </p:nvSpPr>
        <p:spPr>
          <a:xfrm>
            <a:off x="2438280" y="1790640"/>
            <a:ext cx="5410440" cy="140976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2976" h="888">
                <a:moveTo>
                  <a:pt x="0" y="168"/>
                </a:moveTo>
                <a:cubicBezTo>
                  <a:pt x="664" y="84"/>
                  <a:pt x="1328" y="0"/>
                  <a:pt x="1824" y="120"/>
                </a:cubicBezTo>
                <a:cubicBezTo>
                  <a:pt x="2320" y="240"/>
                  <a:pt x="2960" y="864"/>
                  <a:pt x="2976" y="888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45716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ая эвристика при поиске: мы задаем в запросе слова, которые предполагаем увидеть в документе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a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a000"/>
                </a:solidFill>
                <a:latin typeface="Arial"/>
              </a:rPr>
              <a:t>Подход на основе языковых моделей впрямую использует эту иде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7"/>
          <p:cNvSpPr/>
          <p:nvPr/>
        </p:nvSpPr>
        <p:spPr>
          <a:xfrm>
            <a:off x="4267080" y="3505320"/>
            <a:ext cx="2590920" cy="380880"/>
          </a:xfrm>
          <a:prstGeom prst="leftArrow">
            <a:avLst>
              <a:gd name="adj1" fmla="val 50000"/>
              <a:gd name="adj2" fmla="val 1700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88280" cy="1440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3840" y="4743360"/>
            <a:ext cx="79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считать такую вероятность? – языковая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овые модел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ие модели: определение вероятности предложений, последовательностей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ероятна каждая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(w1, w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3,.. 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w5| w1, w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3, w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овая модель – математическая модель, которая вычисляется вероятность последовательности слов или условную вероятность следования слова в кон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овые вероятност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ая модель порождения текста определяет вероятности строк для д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848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ческие языков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руют вероятность порождения строк в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3505320"/>
            <a:ext cx="2438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5053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4197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25780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32448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708660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3581280" y="4191120"/>
            <a:ext cx="4191120" cy="0"/>
            <a:chOff x="3581280" y="4191120"/>
            <a:chExt cx="4191120" cy="0"/>
          </a:xfrm>
        </p:grpSpPr>
        <p:sp>
          <p:nvSpPr>
            <p:cNvPr id="163" name="Line 11"/>
            <p:cNvSpPr/>
            <p:nvPr/>
          </p:nvSpPr>
          <p:spPr>
            <a:xfrm>
              <a:off x="3581280" y="41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4495680" y="41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5410080" y="41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6324480" y="41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7315200" y="41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6"/>
          <p:cNvSpPr/>
          <p:nvPr/>
        </p:nvSpPr>
        <p:spPr>
          <a:xfrm>
            <a:off x="350532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4419720" y="4419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2578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6324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70866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1"/>
          <p:cNvGrpSpPr/>
          <p:nvPr/>
        </p:nvGrpSpPr>
        <p:grpSpPr>
          <a:xfrm>
            <a:off x="3733920" y="4952880"/>
            <a:ext cx="4190760" cy="916920"/>
            <a:chOff x="3733920" y="4952880"/>
            <a:chExt cx="4190760" cy="916920"/>
          </a:xfrm>
        </p:grpSpPr>
        <p:sp>
          <p:nvSpPr>
            <p:cNvPr id="174" name="Freeform 22"/>
            <p:cNvSpPr/>
            <p:nvPr/>
          </p:nvSpPr>
          <p:spPr>
            <a:xfrm>
              <a:off x="3733920" y="4952880"/>
              <a:ext cx="4190760" cy="54612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640" h="344">
                  <a:moveTo>
                    <a:pt x="0" y="48"/>
                  </a:moveTo>
                  <a:cubicBezTo>
                    <a:pt x="452" y="196"/>
                    <a:pt x="904" y="344"/>
                    <a:pt x="1344" y="336"/>
                  </a:cubicBezTo>
                  <a:cubicBezTo>
                    <a:pt x="1784" y="328"/>
                    <a:pt x="2424" y="56"/>
                    <a:pt x="2640" y="0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5790960" y="5410080"/>
              <a:ext cx="137124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multip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24"/>
          <p:cNvSpPr/>
          <p:nvPr/>
        </p:nvSpPr>
        <p:spPr>
          <a:xfrm>
            <a:off x="6094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791320" y="59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s | M) = 0.00000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3133440" y="292428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граммная мод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языковых моделей в информационном пои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ктуем каждый запрос как случай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х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читывает языковые модели для каждого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им вероятность порождения запроса на основе модели каждого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жируем документы в соответствии с этими вероят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используются уни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ь порождения запро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жирующая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 порождения запроса на основе языковой модели докумен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M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828800" y="3657600"/>
                <a:ext cx="335268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f</m:t>
                                    </m:r>
                                  </m:e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d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l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AutoShape 5"/>
          <p:cNvSpPr/>
          <p:nvPr/>
        </p:nvSpPr>
        <p:spPr>
          <a:xfrm>
            <a:off x="4876920" y="4221000"/>
            <a:ext cx="4038480" cy="1036800"/>
          </a:xfrm>
          <a:prstGeom prst="borderCallout2">
            <a:avLst>
              <a:gd name="adj1" fmla="val 18750"/>
              <a:gd name="adj2" fmla="val -8333"/>
              <a:gd name="adj3" fmla="val 11027"/>
              <a:gd name="adj4" fmla="val -1888"/>
              <a:gd name="adj5" fmla="val -3675"/>
              <a:gd name="adj6" fmla="val -26259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положение об униграммах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условии определенной языковой модели, слова запроса встречаются независи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900000" y="5516640"/>
            <a:ext cx="7129080" cy="1194840"/>
            <a:chOff x="900000" y="5516640"/>
            <a:chExt cx="7129080" cy="1194840"/>
          </a:xfrm>
        </p:grpSpPr>
        <mc:AlternateContent>
          <mc:Choice xmlns:a14="http://schemas.microsoft.com/office/drawing/2010/main" Requires="a14">
            <p:sp>
              <p:nvSpPr>
                <p:cNvPr id="186" name="Object 7"/>
                <p:cNvSpPr txBox="1"/>
                <p:nvPr/>
              </p:nvSpPr>
              <p:spPr>
                <a:xfrm>
                  <a:off x="999000" y="5901840"/>
                  <a:ext cx="686520" cy="42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f</m:t>
                          </m:r>
                        </m:e>
                        <m: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Object 8"/>
                <p:cNvSpPr txBox="1"/>
                <p:nvPr/>
              </p:nvSpPr>
              <p:spPr>
                <a:xfrm>
                  <a:off x="1098000" y="6307560"/>
                  <a:ext cx="494640" cy="40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l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Text Box 9"/>
            <p:cNvSpPr/>
            <p:nvPr/>
          </p:nvSpPr>
          <p:spPr>
            <a:xfrm>
              <a:off x="900000" y="5516640"/>
              <a:ext cx="712908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  </a:t>
              </a:r>
              <a:r>
                <a:rPr b="0" lang="ko-KR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: </a:t>
              </a: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Языковая модель документа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  </a:t>
              </a:r>
              <a:r>
                <a:rPr b="0" lang="ko-KR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: </a:t>
              </a: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количество упоминаний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tf </a:t>
              </a: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терма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t </a:t>
              </a: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в документе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: </a:t>
              </a: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общее число слов в документе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Object 10"/>
                <p:cNvSpPr txBox="1"/>
                <p:nvPr/>
              </p:nvSpPr>
              <p:spPr>
                <a:xfrm>
                  <a:off x="1077480" y="5528520"/>
                  <a:ext cx="548640" cy="40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2050920" y="1628640"/>
                <a:ext cx="367344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хватка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евая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не должна приписывать нулевую вероятность запросу, который содержит слово, отсутствующее в документ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гла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подход в информационном по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тречавшееся в документе слово возможно, но не должно быть более вероятно, чем случайно встреченное в кол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вхождений слова в колле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слов в кол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2340000" y="4292640"/>
                <a:ext cx="1079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5867280" y="1268280"/>
                <a:ext cx="2017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5508720" y="4076640"/>
                <a:ext cx="25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глаж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уйти от нулевых вероятност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и сгла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использовать: добавить 1, 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 частотам упоми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: смешивание статистики от документа и колл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шанн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w|d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|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(1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|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яет вероятность слова в документе и вероятность в коллекции цел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корректный подб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зна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bd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т поиск более похожий на булевский (требуется упоминание всех слов в запросе), больше подходит для коротких за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е значение – больше подходит для длинных за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страи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тимизации качества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0" y="1981080"/>
            <a:ext cx="1219320" cy="3505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ый информационный по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3381480" y="3429000"/>
            <a:ext cx="914400" cy="609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7162920" y="2209680"/>
            <a:ext cx="609480" cy="6858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7162920" y="3124080"/>
            <a:ext cx="609480" cy="6858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162920" y="4572000"/>
            <a:ext cx="609480" cy="6858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302600" y="3962520"/>
            <a:ext cx="546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j0382404"/>
          <p:cNvPicPr/>
          <p:nvPr/>
        </p:nvPicPr>
        <p:blipFill>
          <a:blip r:embed="rId1"/>
          <a:stretch/>
        </p:blipFill>
        <p:spPr>
          <a:xfrm>
            <a:off x="1523880" y="3048120"/>
            <a:ext cx="1371600" cy="12826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0"/>
          <p:cNvSpPr/>
          <p:nvPr/>
        </p:nvSpPr>
        <p:spPr>
          <a:xfrm>
            <a:off x="380880" y="1905120"/>
            <a:ext cx="2362320" cy="914400"/>
          </a:xfrm>
          <a:prstGeom prst="cloudCallout">
            <a:avLst>
              <a:gd name="adj1" fmla="val 1208"/>
              <a:gd name="adj2" fmla="val 8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. потре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29242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095880" y="5576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лекция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4800600" y="2895480"/>
            <a:ext cx="160020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4343400" y="3505320"/>
            <a:ext cx="2514600" cy="380880"/>
          </a:xfrm>
          <a:prstGeom prst="leftRightArrow">
            <a:avLst>
              <a:gd name="adj1" fmla="val 50000"/>
              <a:gd name="adj2" fmla="val 131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5"/>
              <p:cNvSpPr txBox="1"/>
              <p:nvPr/>
            </p:nvSpPr>
            <p:spPr>
              <a:xfrm>
                <a:off x="5029200" y="2443320"/>
                <a:ext cx="12952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оговая смешанн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формулировка языковой модели дл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ого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 имеет документ в уме и порождает запрос из этого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выражает вероятность, что документ, который имел в виду пользователь именно эт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409760" y="2219400"/>
                <a:ext cx="586584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λ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AutoShape 5"/>
          <p:cNvSpPr/>
          <p:nvPr/>
        </p:nvSpPr>
        <p:spPr>
          <a:xfrm>
            <a:off x="2050920" y="3200400"/>
            <a:ext cx="290196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06726"/>
              <a:gd name="adj5" fmla="val -102499"/>
              <a:gd name="adj6" fmla="val 102958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ель колл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3581280" y="3657600"/>
            <a:ext cx="33210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02296"/>
              <a:gd name="adj5" fmla="val -227083"/>
              <a:gd name="adj6" fmla="val 102296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ая модель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4358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лекция – 2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Xerox reports a profit but revenue i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ucent narrows quarter loss but revenue decreases fur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L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униграммам из докумен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enue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Q|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[(1/8 + 2/16)/2] x [(1/8 + 1/16)/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/8 x 3/32 = 3/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Q|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[(1/8 + 2/16)/2] x [(0 + 1/16)/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/8 x 1/32 = 1/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жиро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еримент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nte&amp;Crof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199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589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C 202-250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и 2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осы на естествен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пи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1-100 (диск 3 с использованием указанных концеп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хороших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924360" y="3789360"/>
            <a:ext cx="5219640" cy="314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  <a:ea typeface="굴림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num&gt;Number: 0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&lt;dom&gt;Domain: International Econo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&lt;title&gt;Topic: Satellite Launch Contr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&lt;desc&gt;Descrip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&lt;/des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&lt;con&gt;Concept(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Contract,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Launch vehicle, rocket, payload,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Launch service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  &lt;/c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recision/reca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топи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02-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rcRect l="0" t="0" r="0" b="16721"/>
          <a:stretch/>
        </p:blipFill>
        <p:spPr>
          <a:xfrm>
            <a:off x="1042920" y="907920"/>
            <a:ext cx="7129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recision/reca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топики 51-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0" t="0" r="0" b="14391"/>
          <a:stretch/>
        </p:blipFill>
        <p:spPr>
          <a:xfrm>
            <a:off x="755640" y="836640"/>
            <a:ext cx="7488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е различие состоит в том, фигурирует ли понятие релевантности эксплицитно в модели или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, основанный на языковой модели, пытается избежать моделирования релев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ход, основанный на языковых моделях предполагает, что документы и запросы представляются собой сущности од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ысокая вычислительная сложность, интуитивно пон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овые моде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vs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ые модели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базового подхода на основе языковых 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ростая языковая 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интегрировать пользовательскую разметку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elevance feedba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пользовательские предпочтения,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т легко интегрировать фразы, абзацы, булевские опе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ущие исследования посвящены вопросам оптимальной интеграции дополнитель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овые моде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vs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ые модели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авнение с векторной модел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ся сходство с традиционны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.id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я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слова непосредственно присутствует в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и нормализуют по длине частоты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 смешанной модели похож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f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, редкие в коллекции, но частые в документе имеют большое воздействие на ранж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 с векторной моделью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од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а слов базируются на часто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трактуются как независи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обратная частота по коллекции или документам 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некоторая форма нормализации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вается на вероятности, а не сходстве; аналогии скорее вероятностные, чем геомет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али использования длины документа, частот слова  в докумен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екции раз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2500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ос к поисковой системе состоит из двух слов: 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ллекции имеются следующи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b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 b b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х документов в коллекции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е языковую модель к этой колл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лямбда=0.5 и лямбда=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порядочатся документы при этих значениях лямб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ый инф. поиск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ид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8137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ашнее задание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языковую модель информационного поиска для поиска предложений в Вики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ь NDCG языковой модели по вашим трем запросам и сравнить с предыдущими мод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ый инф. поиск: основная ид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678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жена Робертсоном и Спарк Джонс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Binary independence retriev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ная модель пытается оценить вероятность, что пользователь оценит докуме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евантный посредством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P(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relevant to q)/P(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nonrelevant to 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ая модель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еса слов - бинар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е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{0,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множество документов, про которые известно, что они релевантны запрос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тавшиеся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вероятность, что докуме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евантен запро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ероятность, что докуме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левантен запрос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2411280" y="3716280"/>
                <a:ext cx="28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1258920" y="4221000"/>
                <a:ext cx="1211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187280" y="5157720"/>
                <a:ext cx="12830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ая модель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ходст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im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,q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кумент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запросо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q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яется как 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правило Бай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P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роятность случайно выбрать релевантный документ в кол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ероятность случайно выбрать докумен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левантных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3322800" y="2286000"/>
                <a:ext cx="24904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3068640" y="3500280"/>
                <a:ext cx="328284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6"/>
              <p:cNvSpPr txBox="1"/>
              <p:nvPr/>
            </p:nvSpPr>
            <p:spPr>
              <a:xfrm>
                <a:off x="1258920" y="5229360"/>
                <a:ext cx="1066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ная модель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5404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я независимость слов и имея запрос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=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, …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PMingLiU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681200" y="3274920"/>
                <a:ext cx="520524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1246320" y="1523880"/>
                <a:ext cx="53067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acc>
                            <m:r>
                              <m:t xml:space="preserve">|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32080" y="4724280"/>
                <a:ext cx="37195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acc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08:46:07Z</dcterms:created>
  <dc:creator>boris</dc:creator>
  <dc:description/>
  <dc:language>en-US</dc:language>
  <cp:lastModifiedBy>boris</cp:lastModifiedBy>
  <dcterms:modified xsi:type="dcterms:W3CDTF">2018-12-05T09:38:45Z</dcterms:modified>
  <cp:revision>78</cp:revision>
  <dc:subject/>
  <dc:title>Вероятностные модели информационного поиска</dc:title>
</cp:coreProperties>
</file>