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751F-6E15-4F1E-A781-464203D32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38D2-8A55-440B-8D69-792B16FDE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94BE2003-CA4A-441C-981A-D7C68298288E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MART: Cornell (Salton) IR system of 1970s to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2881-1CC3-4013-AA2B-C509E54DCE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D7EC9641-9927-4513-AF3B-EF708D96555F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Just as we modified the query in the vector space model, we can also modify it here. I’m not aware of work that uses language model based Ir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AD08-DA6F-4FF2-A3A3-3F3EEBF3D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C5FB45D2-3788-4694-86EF-5F3960E239A2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t’s harder for user to give negative feedback (absence of evidence is not evidence of absence). It’s also harder to use since relevant documents can often  form tight cluster, but non-relevant documents rarely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BD7C-CF31-494A-8451-F870C3D11A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A58B2289-F735-4197-B1CB-B2508FEEB4F1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804-100F-4674-B750-D69C87E9C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1ABB0FC8-4A6C-4619-B07E-32216A44CCBF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16AD-3A9E-4029-8E01-0037CD5E0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D707268F-BF02-43F2-ACEC-7C10DAA24EDE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FDAF-27AD-44AB-871E-734DC27B3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0D4E5C91-53A4-4067-9F5D-1DEE2734E574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long vector space query is like a disjunction: you have to consider documents with any of the words, and sum partial cosine similarities over the various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B581-E01F-48C9-8078-3A4BF8CDE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496F845B-E72A-47C8-8FD3-ADF57D4D4606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94A-CC4C-490B-91A4-7A016F7B5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B444AADC-1DF3-48AE-B0C3-CF73DFD8650D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боте с этим источником не определена левая граница, поэто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тся использовать статистические методы вычленения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осоче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B4B-8DED-436A-A086-71C48A0290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37E0-958C-4064-8210-52616E9D3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BDC32E2B-7B31-4EF2-ACCB-24049D231D1C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со словарями и любыми энциклопедиями в чрезмер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адемичности, и все же они часто содержат множество высокото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онимов, но стараются исключать оценочные и просторечные пере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76BB-BB57-489D-BDBA-B8D8392FAD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CA07-84B2-4E85-AF1C-AF527EA9A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D8FAC57D-4AA3-49C2-8F07-E9D1F2A09C09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09FF-213C-4BE2-A058-18C39A6EF0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00D7533B-480F-4CE2-B571-66170773A7F2}" type="slidenum">
              <a:rPr b="0" lang="zh-CN" sz="1100" spc="-1" strike="noStrike">
                <a:solidFill>
                  <a:srgbClr val="000000"/>
                </a:solidFill>
                <a:latin typeface="Lucida Sans"/>
                <a:ea typeface="宋体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B75-71E4-4A6B-A74B-9BF590AB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2DA-6F6F-409C-821E-F3DF29B9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B9E-E2FF-4E06-95E0-1B1C4521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3F2-84A1-499A-A786-3E6F5289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2EA-2936-4D80-81BB-BDA93389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512-4972-40C4-9DF7-910B64F7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8C9-97DA-42BF-87A9-9999128F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F9F-BB17-47C0-BC95-F858C10A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975-400B-498A-B051-F846569E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01EB-F839-48EF-8FD2-BADF0C6E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75A5-6C88-458C-B17F-AF2DD39D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3C3-9BD3-4AFE-89FF-58C7281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C680-970D-4BAC-ADF5-33349C6DF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ordnet.ru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labinform.ru/pub/ruthes/index.htm" TargetMode="External"/><Relationship Id="rId2" Type="http://schemas.openxmlformats.org/officeDocument/2006/relationships/hyperlink" Target="http://www.labinform.ru/pub/ruwordnet/index.htm" TargetMode="External"/><Relationship Id="rId3" Type="http://schemas.openxmlformats.org/officeDocument/2006/relationships/hyperlink" Target="file:///ruwordnet.ru" TargetMode="External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Расширение запроса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 при поис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ннинг и др. Введение в информационный поиск, гл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3" descr="canine2.gif"/>
          <p:cNvPicPr/>
          <p:nvPr/>
        </p:nvPicPr>
        <p:blipFill>
          <a:blip r:embed="rId1"/>
          <a:stretch/>
        </p:blipFill>
        <p:spPr>
          <a:xfrm>
            <a:off x="966960" y="1752480"/>
            <a:ext cx="7210080" cy="4876920"/>
          </a:xfrm>
          <a:prstGeom prst="rect">
            <a:avLst/>
          </a:prstGeom>
          <a:ln w="0">
            <a:noFill/>
          </a:ln>
        </p:spPr>
      </p:pic>
      <p:sp>
        <p:nvSpPr>
          <p:cNvPr id="73" name="Title 1"/>
          <p:cNvSpPr/>
          <p:nvPr/>
        </p:nvSpPr>
        <p:spPr>
          <a:xfrm>
            <a:off x="685800" y="304920"/>
            <a:ext cx="80773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ыдача по запросу </a:t>
            </a:r>
            <a:r>
              <a:rPr b="0" i="1" lang="en-US" sz="3200" spc="-1" strike="noStrike">
                <a:solidFill>
                  <a:srgbClr val="800080"/>
                </a:solidFill>
                <a:latin typeface="Arial"/>
              </a:rPr>
              <a:t>canine</a:t>
            </a:r>
            <a:r>
              <a:rPr b="0" i="1" lang="ru-RU" sz="3200" spc="-1" strike="noStrike">
                <a:solidFill>
                  <a:srgbClr val="800080"/>
                </a:solidFill>
                <a:latin typeface="Arial"/>
              </a:rPr>
              <a:t>-2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source: Fernando Diaz</a:t>
            </a:r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ользователь выбирает релевантное</a:t>
            </a:r>
            <a:r>
              <a:rPr b="0" lang="ru-RU" sz="4000" spc="-1" strike="noStrike">
                <a:solidFill>
                  <a:srgbClr val="80008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ource: Fernando Di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ontent Placeholder 3" descr="canine3.gif"/>
          <p:cNvPicPr/>
          <p:nvPr/>
        </p:nvPicPr>
        <p:blipFill>
          <a:blip r:embed="rId1"/>
          <a:stretch/>
        </p:blipFill>
        <p:spPr>
          <a:xfrm>
            <a:off x="927000" y="1752480"/>
            <a:ext cx="7290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езультаты (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relevance feedback)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source: Fernando Di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3" descr="canine4.gif"/>
          <p:cNvPicPr/>
          <p:nvPr/>
        </p:nvPicPr>
        <p:blipFill>
          <a:blip r:embed="rId1"/>
          <a:stretch/>
        </p:blipFill>
        <p:spPr>
          <a:xfrm>
            <a:off x="992160" y="1752480"/>
            <a:ext cx="715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ачальный запрос и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052280"/>
            <a:ext cx="8713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 space satellit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0.539, 08/13/91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ASA Hasn’t Scrapped Imaging Spectr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0.533, 07/09/91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ASA Scratches Environment Gear From Satellit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0.528, 04/04/90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cience Panel Backs NASA Satellite Plan, But Urges Launches of Smaller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0.526, 09/09/91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NASA Satellite Project Accomplishes Incredible Feat: Staying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0.525, 07/24/90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cientist Who Exposed Global Warming Proposes Satellites for Climat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0.524, 08/22/90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port Provides Support for the Critics Of Using Big Satellites to Study 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0.516, 04/13/87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ianespace Receives Satellite Launch Pact  From Telesat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0.509, 12/02/87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elecommunications Tale of Two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ьзователь отмечает релевантные результаты отметк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+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690120" y="1976400"/>
            <a:ext cx="354600" cy="3536280"/>
            <a:chOff x="690120" y="1976400"/>
            <a:chExt cx="354600" cy="3536280"/>
          </a:xfrm>
        </p:grpSpPr>
        <p:sp>
          <p:nvSpPr>
            <p:cNvPr id="81" name="TextBox 3"/>
            <p:cNvSpPr/>
            <p:nvPr/>
          </p:nvSpPr>
          <p:spPr>
            <a:xfrm>
              <a:off x="690120" y="1976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000"/>
                  </a:solidFill>
                  <a:latin typeface="Lucida Sans"/>
                  <a:ea typeface="Arial Unicode MS"/>
                </a:rPr>
                <a:t>+</a:t>
              </a:r>
              <a:endParaRPr b="0" lang="en-US" sz="24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82" name="TextBox 4"/>
            <p:cNvSpPr/>
            <p:nvPr/>
          </p:nvSpPr>
          <p:spPr>
            <a:xfrm>
              <a:off x="690120" y="2258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000"/>
                  </a:solidFill>
                  <a:latin typeface="Lucida Sans"/>
                  <a:ea typeface="Arial Unicode MS"/>
                </a:rPr>
                <a:t>+</a:t>
              </a:r>
              <a:endParaRPr b="0" lang="en-US" sz="24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83" name="TextBox 5"/>
            <p:cNvSpPr/>
            <p:nvPr/>
          </p:nvSpPr>
          <p:spPr>
            <a:xfrm>
              <a:off x="690120" y="5052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000"/>
                  </a:solidFill>
                  <a:latin typeface="Lucida Sans"/>
                  <a:ea typeface="Arial Unicode MS"/>
                </a:rPr>
                <a:t>+</a:t>
              </a:r>
              <a:endParaRPr b="0" lang="en-US" sz="24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84" name="TextBox 8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асширенные запрос после </a:t>
            </a:r>
            <a:br>
              <a:rPr sz="3200"/>
            </a:b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relevanc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2.07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15.10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30.8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elli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5.6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5.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a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5.19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4.19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un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3.9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3.5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ru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3.4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ian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3.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ndesp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2.80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2.7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cke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2.05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2.00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oadc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1.1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0.8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i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0.6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лючевое понятие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нтро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оид – это центр масс совокупности т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Документы – это точки в многомерном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о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множество докум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3348000" y="4221000"/>
                <a:ext cx="29876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C</m:t>
                        </m:r>
                        <m:r>
                          <m:t xml:space="preserve">|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d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TextBox 5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Алгоритм Роккьо (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Rocchio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836280"/>
            <a:ext cx="878544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cchi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 векторное пространства найти наилучший запрос на основе пользовательской раз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occhio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ищет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апрос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c00000"/>
                </a:solidFill>
                <a:latin typeface="Arial"/>
              </a:rPr>
              <a:t>opt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 который максимизиру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ытается отделить релевантные и нерелевант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облема: мы не знаем все релевантн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4"/>
          <p:cNvCxnSpPr/>
          <p:nvPr/>
        </p:nvCxnSpPr>
        <p:spPr>
          <a:xfrm>
            <a:off x="4495320" y="2666520"/>
            <a:ext cx="229320" cy="2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826920" y="3213000"/>
                <a:ext cx="66535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lim>
                    </m:limLow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2340000" y="4797360"/>
                <a:ext cx="48672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∉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TextBox 7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2"/>
          <p:cNvSpPr/>
          <p:nvPr/>
        </p:nvSpPr>
        <p:spPr>
          <a:xfrm>
            <a:off x="928800" y="1616040"/>
            <a:ext cx="6234120" cy="4430880"/>
          </a:xfrm>
          <a:custGeom>
            <a:avLst/>
            <a:gdLst>
              <a:gd name="textAreaLeft" fmla="*/ 0 w 6234120"/>
              <a:gd name="textAreaRight" fmla="*/ 6234480 w 6234120"/>
              <a:gd name="textAreaTop" fmla="*/ 0 h 4430880"/>
              <a:gd name="textAreaBottom" fmla="*/ 4431240 h 4430880"/>
            </a:gdLst>
            <a:ahLst/>
            <a:rect l="textAreaLeft" t="textAreaTop" r="textAreaRight" b="textAreaBottom"/>
            <a:pathLst>
              <a:path w="3927" h="2791">
                <a:moveTo>
                  <a:pt x="329" y="2491"/>
                </a:moveTo>
                <a:cubicBezTo>
                  <a:pt x="284" y="2395"/>
                  <a:pt x="261" y="2289"/>
                  <a:pt x="221" y="2190"/>
                </a:cubicBezTo>
                <a:cubicBezTo>
                  <a:pt x="206" y="2113"/>
                  <a:pt x="189" y="2026"/>
                  <a:pt x="154" y="1956"/>
                </a:cubicBezTo>
                <a:cubicBezTo>
                  <a:pt x="135" y="1782"/>
                  <a:pt x="156" y="1989"/>
                  <a:pt x="137" y="1673"/>
                </a:cubicBezTo>
                <a:cubicBezTo>
                  <a:pt x="132" y="1591"/>
                  <a:pt x="111" y="1510"/>
                  <a:pt x="96" y="1430"/>
                </a:cubicBezTo>
                <a:cubicBezTo>
                  <a:pt x="101" y="1355"/>
                  <a:pt x="112" y="1280"/>
                  <a:pt x="112" y="1205"/>
                </a:cubicBezTo>
                <a:cubicBezTo>
                  <a:pt x="112" y="1191"/>
                  <a:pt x="68" y="1097"/>
                  <a:pt x="62" y="1080"/>
                </a:cubicBezTo>
                <a:cubicBezTo>
                  <a:pt x="54" y="1031"/>
                  <a:pt x="38" y="987"/>
                  <a:pt x="29" y="938"/>
                </a:cubicBezTo>
                <a:cubicBezTo>
                  <a:pt x="19" y="822"/>
                  <a:pt x="0" y="650"/>
                  <a:pt x="71" y="546"/>
                </a:cubicBezTo>
                <a:cubicBezTo>
                  <a:pt x="94" y="474"/>
                  <a:pt x="52" y="591"/>
                  <a:pt x="129" y="479"/>
                </a:cubicBezTo>
                <a:cubicBezTo>
                  <a:pt x="137" y="467"/>
                  <a:pt x="132" y="450"/>
                  <a:pt x="137" y="437"/>
                </a:cubicBezTo>
                <a:cubicBezTo>
                  <a:pt x="154" y="396"/>
                  <a:pt x="195" y="348"/>
                  <a:pt x="229" y="320"/>
                </a:cubicBezTo>
                <a:cubicBezTo>
                  <a:pt x="282" y="277"/>
                  <a:pt x="347" y="254"/>
                  <a:pt x="405" y="220"/>
                </a:cubicBezTo>
                <a:cubicBezTo>
                  <a:pt x="466" y="185"/>
                  <a:pt x="524" y="143"/>
                  <a:pt x="588" y="112"/>
                </a:cubicBezTo>
                <a:cubicBezTo>
                  <a:pt x="739" y="38"/>
                  <a:pt x="934" y="27"/>
                  <a:pt x="1097" y="20"/>
                </a:cubicBezTo>
                <a:cubicBezTo>
                  <a:pt x="1304" y="0"/>
                  <a:pt x="1509" y="22"/>
                  <a:pt x="1715" y="36"/>
                </a:cubicBezTo>
                <a:cubicBezTo>
                  <a:pt x="1863" y="63"/>
                  <a:pt x="2009" y="30"/>
                  <a:pt x="2158" y="20"/>
                </a:cubicBezTo>
                <a:cubicBezTo>
                  <a:pt x="2355" y="27"/>
                  <a:pt x="2546" y="49"/>
                  <a:pt x="2742" y="61"/>
                </a:cubicBezTo>
                <a:cubicBezTo>
                  <a:pt x="2883" y="91"/>
                  <a:pt x="2709" y="57"/>
                  <a:pt x="3059" y="78"/>
                </a:cubicBezTo>
                <a:cubicBezTo>
                  <a:pt x="3186" y="86"/>
                  <a:pt x="3308" y="119"/>
                  <a:pt x="3435" y="128"/>
                </a:cubicBezTo>
                <a:cubicBezTo>
                  <a:pt x="3504" y="147"/>
                  <a:pt x="3574" y="165"/>
                  <a:pt x="3644" y="178"/>
                </a:cubicBezTo>
                <a:cubicBezTo>
                  <a:pt x="3679" y="202"/>
                  <a:pt x="3713" y="224"/>
                  <a:pt x="3735" y="262"/>
                </a:cubicBezTo>
                <a:cubicBezTo>
                  <a:pt x="3748" y="284"/>
                  <a:pt x="3769" y="329"/>
                  <a:pt x="3769" y="329"/>
                </a:cubicBezTo>
                <a:cubicBezTo>
                  <a:pt x="3781" y="379"/>
                  <a:pt x="3799" y="411"/>
                  <a:pt x="3827" y="454"/>
                </a:cubicBezTo>
                <a:cubicBezTo>
                  <a:pt x="3855" y="564"/>
                  <a:pt x="3893" y="664"/>
                  <a:pt x="3927" y="771"/>
                </a:cubicBezTo>
                <a:cubicBezTo>
                  <a:pt x="3924" y="852"/>
                  <a:pt x="3924" y="932"/>
                  <a:pt x="3919" y="1013"/>
                </a:cubicBezTo>
                <a:cubicBezTo>
                  <a:pt x="3917" y="1050"/>
                  <a:pt x="3900" y="1085"/>
                  <a:pt x="3894" y="1122"/>
                </a:cubicBezTo>
                <a:cubicBezTo>
                  <a:pt x="3875" y="1240"/>
                  <a:pt x="3857" y="1367"/>
                  <a:pt x="3819" y="1481"/>
                </a:cubicBezTo>
                <a:cubicBezTo>
                  <a:pt x="3813" y="1520"/>
                  <a:pt x="3808" y="1558"/>
                  <a:pt x="3802" y="1597"/>
                </a:cubicBezTo>
                <a:cubicBezTo>
                  <a:pt x="3794" y="1647"/>
                  <a:pt x="3784" y="1698"/>
                  <a:pt x="3777" y="1748"/>
                </a:cubicBezTo>
                <a:cubicBezTo>
                  <a:pt x="3753" y="1909"/>
                  <a:pt x="3768" y="2005"/>
                  <a:pt x="3585" y="2040"/>
                </a:cubicBezTo>
                <a:cubicBezTo>
                  <a:pt x="3546" y="2066"/>
                  <a:pt x="3513" y="2093"/>
                  <a:pt x="3468" y="2107"/>
                </a:cubicBezTo>
                <a:cubicBezTo>
                  <a:pt x="3446" y="2114"/>
                  <a:pt x="3401" y="2123"/>
                  <a:pt x="3401" y="2123"/>
                </a:cubicBezTo>
                <a:cubicBezTo>
                  <a:pt x="3355" y="2154"/>
                  <a:pt x="3317" y="2150"/>
                  <a:pt x="3260" y="2157"/>
                </a:cubicBezTo>
                <a:cubicBezTo>
                  <a:pt x="3151" y="2170"/>
                  <a:pt x="3043" y="2186"/>
                  <a:pt x="2934" y="2198"/>
                </a:cubicBezTo>
                <a:cubicBezTo>
                  <a:pt x="2874" y="2184"/>
                  <a:pt x="2820" y="2172"/>
                  <a:pt x="2759" y="2165"/>
                </a:cubicBezTo>
                <a:cubicBezTo>
                  <a:pt x="2712" y="2168"/>
                  <a:pt x="2664" y="2168"/>
                  <a:pt x="2617" y="2173"/>
                </a:cubicBezTo>
                <a:cubicBezTo>
                  <a:pt x="2596" y="2175"/>
                  <a:pt x="2563" y="2200"/>
                  <a:pt x="2550" y="2207"/>
                </a:cubicBezTo>
                <a:cubicBezTo>
                  <a:pt x="2506" y="2229"/>
                  <a:pt x="2455" y="2236"/>
                  <a:pt x="2408" y="2249"/>
                </a:cubicBezTo>
                <a:cubicBezTo>
                  <a:pt x="2339" y="2293"/>
                  <a:pt x="2253" y="2286"/>
                  <a:pt x="2183" y="2324"/>
                </a:cubicBezTo>
                <a:cubicBezTo>
                  <a:pt x="2053" y="2394"/>
                  <a:pt x="2185" y="2342"/>
                  <a:pt x="2016" y="2399"/>
                </a:cubicBezTo>
                <a:cubicBezTo>
                  <a:pt x="2001" y="2404"/>
                  <a:pt x="1990" y="2420"/>
                  <a:pt x="1974" y="2424"/>
                </a:cubicBezTo>
                <a:cubicBezTo>
                  <a:pt x="1809" y="2464"/>
                  <a:pt x="1637" y="2472"/>
                  <a:pt x="1473" y="2516"/>
                </a:cubicBezTo>
                <a:cubicBezTo>
                  <a:pt x="1390" y="2538"/>
                  <a:pt x="1327" y="2582"/>
                  <a:pt x="1248" y="2608"/>
                </a:cubicBezTo>
                <a:cubicBezTo>
                  <a:pt x="1149" y="2641"/>
                  <a:pt x="1053" y="2676"/>
                  <a:pt x="956" y="2716"/>
                </a:cubicBezTo>
                <a:cubicBezTo>
                  <a:pt x="912" y="2760"/>
                  <a:pt x="951" y="2731"/>
                  <a:pt x="872" y="2749"/>
                </a:cubicBezTo>
                <a:cubicBezTo>
                  <a:pt x="797" y="2766"/>
                  <a:pt x="734" y="2783"/>
                  <a:pt x="655" y="2791"/>
                </a:cubicBezTo>
                <a:cubicBezTo>
                  <a:pt x="636" y="2785"/>
                  <a:pt x="615" y="2782"/>
                  <a:pt x="597" y="2774"/>
                </a:cubicBezTo>
                <a:cubicBezTo>
                  <a:pt x="584" y="2768"/>
                  <a:pt x="575" y="2756"/>
                  <a:pt x="563" y="2749"/>
                </a:cubicBezTo>
                <a:cubicBezTo>
                  <a:pt x="555" y="2745"/>
                  <a:pt x="546" y="2744"/>
                  <a:pt x="538" y="2741"/>
                </a:cubicBezTo>
                <a:cubicBezTo>
                  <a:pt x="521" y="2724"/>
                  <a:pt x="501" y="2710"/>
                  <a:pt x="488" y="2691"/>
                </a:cubicBezTo>
                <a:cubicBezTo>
                  <a:pt x="482" y="2683"/>
                  <a:pt x="478" y="2674"/>
                  <a:pt x="471" y="2666"/>
                </a:cubicBezTo>
                <a:cubicBezTo>
                  <a:pt x="455" y="2648"/>
                  <a:pt x="421" y="2616"/>
                  <a:pt x="421" y="2616"/>
                </a:cubicBezTo>
                <a:cubicBezTo>
                  <a:pt x="418" y="2608"/>
                  <a:pt x="418" y="2598"/>
                  <a:pt x="413" y="2591"/>
                </a:cubicBezTo>
                <a:cubicBezTo>
                  <a:pt x="407" y="2583"/>
                  <a:pt x="392" y="2583"/>
                  <a:pt x="388" y="2574"/>
                </a:cubicBezTo>
                <a:cubicBezTo>
                  <a:pt x="375" y="2548"/>
                  <a:pt x="389" y="2459"/>
                  <a:pt x="329" y="24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Лучший запро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47960" y="3292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205160" y="2835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510080" y="3597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376360" y="4206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367080" y="3978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833560" y="4206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5280" y="580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a000"/>
                </a:solidFill>
                <a:latin typeface="Arial"/>
                <a:ea typeface="Arial Unicode MS"/>
              </a:rPr>
              <a:t>Оптимальн. запрос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 flipV="1">
            <a:off x="1371600" y="4495680"/>
            <a:ext cx="152280" cy="1387440"/>
          </a:xfrm>
          <a:prstGeom prst="line">
            <a:avLst/>
          </a:prstGeom>
          <a:ln w="9360">
            <a:solidFill>
              <a:srgbClr val="00a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029200" y="5638680"/>
            <a:ext cx="35812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нерелевант. документы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релевантные документы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259092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8480" y="2530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2833560" y="3444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3124080" y="2133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281480" y="1996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57150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5272200" y="2911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572000" y="2590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5576760" y="19209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9" name="Text Box 23"/>
          <p:cNvSpPr/>
          <p:nvPr/>
        </p:nvSpPr>
        <p:spPr>
          <a:xfrm>
            <a:off x="4876920" y="2971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5105520" y="2133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3747960" y="46641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2" name="Text Box 26"/>
          <p:cNvSpPr/>
          <p:nvPr/>
        </p:nvSpPr>
        <p:spPr>
          <a:xfrm>
            <a:off x="49528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186600" y="32925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5043600" y="4359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5" name="Group 29"/>
          <p:cNvGrpSpPr/>
          <p:nvPr/>
        </p:nvGrpSpPr>
        <p:grpSpPr>
          <a:xfrm>
            <a:off x="1371600" y="4191120"/>
            <a:ext cx="457200" cy="398880"/>
            <a:chOff x="1371600" y="4191120"/>
            <a:chExt cx="457200" cy="398880"/>
          </a:xfrm>
        </p:grpSpPr>
        <p:sp>
          <p:nvSpPr>
            <p:cNvPr id="126" name="Text Box 30"/>
            <p:cNvSpPr/>
            <p:nvPr/>
          </p:nvSpPr>
          <p:spPr>
            <a:xfrm>
              <a:off x="137160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endParaRPr b="0" lang="en-US" sz="20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1484280" y="4338360"/>
              <a:ext cx="114480" cy="1378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2" h="87">
                  <a:moveTo>
                    <a:pt x="0" y="87"/>
                  </a:moveTo>
                  <a:lnTo>
                    <a:pt x="37" y="0"/>
                  </a:lnTo>
                  <a:lnTo>
                    <a:pt x="72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a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128" name="Text Box 32"/>
          <p:cNvSpPr/>
          <p:nvPr/>
        </p:nvSpPr>
        <p:spPr>
          <a:xfrm>
            <a:off x="6033960" y="3978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6491160" y="25304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0" name="TextBox 3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2"/>
          <p:cNvSpPr/>
          <p:nvPr/>
        </p:nvSpPr>
        <p:spPr>
          <a:xfrm>
            <a:off x="928800" y="1616040"/>
            <a:ext cx="6234120" cy="4430880"/>
          </a:xfrm>
          <a:custGeom>
            <a:avLst/>
            <a:gdLst>
              <a:gd name="textAreaLeft" fmla="*/ 0 w 6234120"/>
              <a:gd name="textAreaRight" fmla="*/ 6234480 w 6234120"/>
              <a:gd name="textAreaTop" fmla="*/ 0 h 4430880"/>
              <a:gd name="textAreaBottom" fmla="*/ 4431240 h 4430880"/>
            </a:gdLst>
            <a:ahLst/>
            <a:rect l="textAreaLeft" t="textAreaTop" r="textAreaRight" b="textAreaBottom"/>
            <a:pathLst>
              <a:path w="3927" h="2791">
                <a:moveTo>
                  <a:pt x="329" y="2491"/>
                </a:moveTo>
                <a:cubicBezTo>
                  <a:pt x="284" y="2395"/>
                  <a:pt x="261" y="2289"/>
                  <a:pt x="221" y="2190"/>
                </a:cubicBezTo>
                <a:cubicBezTo>
                  <a:pt x="206" y="2113"/>
                  <a:pt x="189" y="2026"/>
                  <a:pt x="154" y="1956"/>
                </a:cubicBezTo>
                <a:cubicBezTo>
                  <a:pt x="135" y="1782"/>
                  <a:pt x="156" y="1989"/>
                  <a:pt x="137" y="1673"/>
                </a:cubicBezTo>
                <a:cubicBezTo>
                  <a:pt x="132" y="1591"/>
                  <a:pt x="111" y="1510"/>
                  <a:pt x="96" y="1430"/>
                </a:cubicBezTo>
                <a:cubicBezTo>
                  <a:pt x="101" y="1355"/>
                  <a:pt x="112" y="1280"/>
                  <a:pt x="112" y="1205"/>
                </a:cubicBezTo>
                <a:cubicBezTo>
                  <a:pt x="112" y="1191"/>
                  <a:pt x="68" y="1097"/>
                  <a:pt x="62" y="1080"/>
                </a:cubicBezTo>
                <a:cubicBezTo>
                  <a:pt x="54" y="1031"/>
                  <a:pt x="38" y="987"/>
                  <a:pt x="29" y="938"/>
                </a:cubicBezTo>
                <a:cubicBezTo>
                  <a:pt x="19" y="822"/>
                  <a:pt x="0" y="650"/>
                  <a:pt x="71" y="546"/>
                </a:cubicBezTo>
                <a:cubicBezTo>
                  <a:pt x="94" y="474"/>
                  <a:pt x="52" y="591"/>
                  <a:pt x="129" y="479"/>
                </a:cubicBezTo>
                <a:cubicBezTo>
                  <a:pt x="137" y="467"/>
                  <a:pt x="132" y="450"/>
                  <a:pt x="137" y="437"/>
                </a:cubicBezTo>
                <a:cubicBezTo>
                  <a:pt x="154" y="396"/>
                  <a:pt x="195" y="348"/>
                  <a:pt x="229" y="320"/>
                </a:cubicBezTo>
                <a:cubicBezTo>
                  <a:pt x="282" y="277"/>
                  <a:pt x="347" y="254"/>
                  <a:pt x="405" y="220"/>
                </a:cubicBezTo>
                <a:cubicBezTo>
                  <a:pt x="466" y="185"/>
                  <a:pt x="524" y="143"/>
                  <a:pt x="588" y="112"/>
                </a:cubicBezTo>
                <a:cubicBezTo>
                  <a:pt x="739" y="38"/>
                  <a:pt x="934" y="27"/>
                  <a:pt x="1097" y="20"/>
                </a:cubicBezTo>
                <a:cubicBezTo>
                  <a:pt x="1304" y="0"/>
                  <a:pt x="1509" y="22"/>
                  <a:pt x="1715" y="36"/>
                </a:cubicBezTo>
                <a:cubicBezTo>
                  <a:pt x="1863" y="63"/>
                  <a:pt x="2009" y="30"/>
                  <a:pt x="2158" y="20"/>
                </a:cubicBezTo>
                <a:cubicBezTo>
                  <a:pt x="2355" y="27"/>
                  <a:pt x="2546" y="49"/>
                  <a:pt x="2742" y="61"/>
                </a:cubicBezTo>
                <a:cubicBezTo>
                  <a:pt x="2883" y="91"/>
                  <a:pt x="2709" y="57"/>
                  <a:pt x="3059" y="78"/>
                </a:cubicBezTo>
                <a:cubicBezTo>
                  <a:pt x="3186" y="86"/>
                  <a:pt x="3308" y="119"/>
                  <a:pt x="3435" y="128"/>
                </a:cubicBezTo>
                <a:cubicBezTo>
                  <a:pt x="3504" y="147"/>
                  <a:pt x="3574" y="165"/>
                  <a:pt x="3644" y="178"/>
                </a:cubicBezTo>
                <a:cubicBezTo>
                  <a:pt x="3679" y="202"/>
                  <a:pt x="3713" y="224"/>
                  <a:pt x="3735" y="262"/>
                </a:cubicBezTo>
                <a:cubicBezTo>
                  <a:pt x="3748" y="284"/>
                  <a:pt x="3769" y="329"/>
                  <a:pt x="3769" y="329"/>
                </a:cubicBezTo>
                <a:cubicBezTo>
                  <a:pt x="3781" y="379"/>
                  <a:pt x="3799" y="411"/>
                  <a:pt x="3827" y="454"/>
                </a:cubicBezTo>
                <a:cubicBezTo>
                  <a:pt x="3855" y="564"/>
                  <a:pt x="3893" y="664"/>
                  <a:pt x="3927" y="771"/>
                </a:cubicBezTo>
                <a:cubicBezTo>
                  <a:pt x="3924" y="852"/>
                  <a:pt x="3924" y="932"/>
                  <a:pt x="3919" y="1013"/>
                </a:cubicBezTo>
                <a:cubicBezTo>
                  <a:pt x="3917" y="1050"/>
                  <a:pt x="3900" y="1085"/>
                  <a:pt x="3894" y="1122"/>
                </a:cubicBezTo>
                <a:cubicBezTo>
                  <a:pt x="3875" y="1240"/>
                  <a:pt x="3857" y="1367"/>
                  <a:pt x="3819" y="1481"/>
                </a:cubicBezTo>
                <a:cubicBezTo>
                  <a:pt x="3813" y="1520"/>
                  <a:pt x="3808" y="1558"/>
                  <a:pt x="3802" y="1597"/>
                </a:cubicBezTo>
                <a:cubicBezTo>
                  <a:pt x="3794" y="1647"/>
                  <a:pt x="3784" y="1698"/>
                  <a:pt x="3777" y="1748"/>
                </a:cubicBezTo>
                <a:cubicBezTo>
                  <a:pt x="3753" y="1909"/>
                  <a:pt x="3768" y="2005"/>
                  <a:pt x="3585" y="2040"/>
                </a:cubicBezTo>
                <a:cubicBezTo>
                  <a:pt x="3546" y="2066"/>
                  <a:pt x="3513" y="2093"/>
                  <a:pt x="3468" y="2107"/>
                </a:cubicBezTo>
                <a:cubicBezTo>
                  <a:pt x="3446" y="2114"/>
                  <a:pt x="3401" y="2123"/>
                  <a:pt x="3401" y="2123"/>
                </a:cubicBezTo>
                <a:cubicBezTo>
                  <a:pt x="3355" y="2154"/>
                  <a:pt x="3317" y="2150"/>
                  <a:pt x="3260" y="2157"/>
                </a:cubicBezTo>
                <a:cubicBezTo>
                  <a:pt x="3151" y="2170"/>
                  <a:pt x="3043" y="2186"/>
                  <a:pt x="2934" y="2198"/>
                </a:cubicBezTo>
                <a:cubicBezTo>
                  <a:pt x="2874" y="2184"/>
                  <a:pt x="2820" y="2172"/>
                  <a:pt x="2759" y="2165"/>
                </a:cubicBezTo>
                <a:cubicBezTo>
                  <a:pt x="2712" y="2168"/>
                  <a:pt x="2664" y="2168"/>
                  <a:pt x="2617" y="2173"/>
                </a:cubicBezTo>
                <a:cubicBezTo>
                  <a:pt x="2596" y="2175"/>
                  <a:pt x="2563" y="2200"/>
                  <a:pt x="2550" y="2207"/>
                </a:cubicBezTo>
                <a:cubicBezTo>
                  <a:pt x="2506" y="2229"/>
                  <a:pt x="2455" y="2236"/>
                  <a:pt x="2408" y="2249"/>
                </a:cubicBezTo>
                <a:cubicBezTo>
                  <a:pt x="2339" y="2293"/>
                  <a:pt x="2253" y="2286"/>
                  <a:pt x="2183" y="2324"/>
                </a:cubicBezTo>
                <a:cubicBezTo>
                  <a:pt x="2053" y="2394"/>
                  <a:pt x="2185" y="2342"/>
                  <a:pt x="2016" y="2399"/>
                </a:cubicBezTo>
                <a:cubicBezTo>
                  <a:pt x="2001" y="2404"/>
                  <a:pt x="1990" y="2420"/>
                  <a:pt x="1974" y="2424"/>
                </a:cubicBezTo>
                <a:cubicBezTo>
                  <a:pt x="1809" y="2464"/>
                  <a:pt x="1637" y="2472"/>
                  <a:pt x="1473" y="2516"/>
                </a:cubicBezTo>
                <a:cubicBezTo>
                  <a:pt x="1390" y="2538"/>
                  <a:pt x="1327" y="2582"/>
                  <a:pt x="1248" y="2608"/>
                </a:cubicBezTo>
                <a:cubicBezTo>
                  <a:pt x="1149" y="2641"/>
                  <a:pt x="1053" y="2676"/>
                  <a:pt x="956" y="2716"/>
                </a:cubicBezTo>
                <a:cubicBezTo>
                  <a:pt x="912" y="2760"/>
                  <a:pt x="951" y="2731"/>
                  <a:pt x="872" y="2749"/>
                </a:cubicBezTo>
                <a:cubicBezTo>
                  <a:pt x="797" y="2766"/>
                  <a:pt x="734" y="2783"/>
                  <a:pt x="655" y="2791"/>
                </a:cubicBezTo>
                <a:cubicBezTo>
                  <a:pt x="636" y="2785"/>
                  <a:pt x="615" y="2782"/>
                  <a:pt x="597" y="2774"/>
                </a:cubicBezTo>
                <a:cubicBezTo>
                  <a:pt x="584" y="2768"/>
                  <a:pt x="575" y="2756"/>
                  <a:pt x="563" y="2749"/>
                </a:cubicBezTo>
                <a:cubicBezTo>
                  <a:pt x="555" y="2745"/>
                  <a:pt x="546" y="2744"/>
                  <a:pt x="538" y="2741"/>
                </a:cubicBezTo>
                <a:cubicBezTo>
                  <a:pt x="521" y="2724"/>
                  <a:pt x="501" y="2710"/>
                  <a:pt x="488" y="2691"/>
                </a:cubicBezTo>
                <a:cubicBezTo>
                  <a:pt x="482" y="2683"/>
                  <a:pt x="478" y="2674"/>
                  <a:pt x="471" y="2666"/>
                </a:cubicBezTo>
                <a:cubicBezTo>
                  <a:pt x="455" y="2648"/>
                  <a:pt x="421" y="2616"/>
                  <a:pt x="421" y="2616"/>
                </a:cubicBezTo>
                <a:cubicBezTo>
                  <a:pt x="418" y="2608"/>
                  <a:pt x="418" y="2598"/>
                  <a:pt x="413" y="2591"/>
                </a:cubicBezTo>
                <a:cubicBezTo>
                  <a:pt x="407" y="2583"/>
                  <a:pt x="392" y="2583"/>
                  <a:pt x="388" y="2574"/>
                </a:cubicBezTo>
                <a:cubicBezTo>
                  <a:pt x="375" y="2548"/>
                  <a:pt x="389" y="2459"/>
                  <a:pt x="329" y="249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Relevance feedback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о исходному запрос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747960" y="32925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205160" y="2835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510080" y="3597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843200" y="3825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376360" y="4206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3367080" y="3978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2833560" y="4206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95280" y="580716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000"/>
                </a:solidFill>
                <a:latin typeface="Times New Roman"/>
                <a:ea typeface="Arial Unicode MS"/>
              </a:rPr>
              <a:t>Модиф. запрос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 flipV="1">
            <a:off x="1371600" y="4191120"/>
            <a:ext cx="1447920" cy="1676160"/>
          </a:xfrm>
          <a:prstGeom prst="line">
            <a:avLst/>
          </a:prstGeom>
          <a:ln w="9360">
            <a:solidFill>
              <a:srgbClr val="00a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114800" y="5638680"/>
            <a:ext cx="4495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Известные нерелевантн. док-ты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Известные релевантные док-ты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2604960" y="37497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3138480" y="2530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2833560" y="3444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o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335268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4281480" y="1996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1919160" y="30639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272200" y="2911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1461960" y="222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5576760" y="19209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1461960" y="50450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157400" y="39783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3747960" y="46641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757600" y="4740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6186600" y="329256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5043600" y="43592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58" name="Group 29"/>
          <p:cNvGrpSpPr/>
          <p:nvPr/>
        </p:nvGrpSpPr>
        <p:grpSpPr>
          <a:xfrm>
            <a:off x="2819520" y="3809880"/>
            <a:ext cx="457200" cy="398880"/>
            <a:chOff x="2819520" y="3809880"/>
            <a:chExt cx="457200" cy="398880"/>
          </a:xfrm>
        </p:grpSpPr>
        <p:sp>
          <p:nvSpPr>
            <p:cNvPr id="159" name="Text Box 30"/>
            <p:cNvSpPr/>
            <p:nvPr/>
          </p:nvSpPr>
          <p:spPr>
            <a:xfrm>
              <a:off x="2819520" y="3809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endParaRPr b="0" lang="en-US" sz="20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60" name="Freeform 31"/>
            <p:cNvSpPr/>
            <p:nvPr/>
          </p:nvSpPr>
          <p:spPr>
            <a:xfrm>
              <a:off x="2932200" y="3957480"/>
              <a:ext cx="114480" cy="13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72" h="87">
                  <a:moveTo>
                    <a:pt x="0" y="87"/>
                  </a:moveTo>
                  <a:lnTo>
                    <a:pt x="37" y="0"/>
                  </a:lnTo>
                  <a:lnTo>
                    <a:pt x="72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a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161" name="Text Box 32"/>
          <p:cNvSpPr/>
          <p:nvPr/>
        </p:nvSpPr>
        <p:spPr>
          <a:xfrm>
            <a:off x="6033960" y="39783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6491160" y="25304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x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3" name="Text Box 34"/>
          <p:cNvSpPr/>
          <p:nvPr/>
        </p:nvSpPr>
        <p:spPr>
          <a:xfrm>
            <a:off x="166680" y="1768320"/>
            <a:ext cx="13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40508"/>
                </a:solidFill>
                <a:latin typeface="Times New Roman"/>
                <a:ea typeface="Arial Unicode MS"/>
              </a:rPr>
              <a:t>Исх. запрос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4" name="Line 35"/>
          <p:cNvSpPr/>
          <p:nvPr/>
        </p:nvSpPr>
        <p:spPr>
          <a:xfrm>
            <a:off x="1004760" y="2225520"/>
            <a:ext cx="198144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65" name="Group 36"/>
          <p:cNvGrpSpPr/>
          <p:nvPr/>
        </p:nvGrpSpPr>
        <p:grpSpPr>
          <a:xfrm>
            <a:off x="2909880" y="2987640"/>
            <a:ext cx="457200" cy="398880"/>
            <a:chOff x="2909880" y="2987640"/>
            <a:chExt cx="457200" cy="398880"/>
          </a:xfrm>
        </p:grpSpPr>
        <p:sp>
          <p:nvSpPr>
            <p:cNvPr id="166" name="Text Box 37"/>
            <p:cNvSpPr/>
            <p:nvPr/>
          </p:nvSpPr>
          <p:spPr>
            <a:xfrm>
              <a:off x="2909880" y="2987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endParaRPr b="0" lang="en-US" sz="20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67" name="Freeform 38"/>
            <p:cNvSpPr/>
            <p:nvPr/>
          </p:nvSpPr>
          <p:spPr>
            <a:xfrm>
              <a:off x="3022560" y="3135240"/>
              <a:ext cx="114480" cy="13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72" h="87">
                  <a:moveTo>
                    <a:pt x="0" y="87"/>
                  </a:moveTo>
                  <a:lnTo>
                    <a:pt x="37" y="0"/>
                  </a:lnTo>
                  <a:lnTo>
                    <a:pt x="72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168" name="TextBox 39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59920"/>
            <a:ext cx="80769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Rocchio 1971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алгоритм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 (SM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актике используе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D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Arial"/>
                <a:ea typeface="宋体"/>
              </a:rPr>
              <a:t>r 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=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ножество известных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елевантных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doc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D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Arial"/>
                <a:ea typeface="宋体"/>
              </a:rPr>
              <a:t>nr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 =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ножество известных нерелевантных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 doc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личны о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Arial"/>
                <a:ea typeface="宋体"/>
              </a:rPr>
              <a:t>m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 =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дифицированный вектор запроса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;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q</a:t>
            </a:r>
            <a:r>
              <a:rPr b="0" i="1" lang="en-US" sz="2400" spc="-1" strike="noStrike" baseline="-25000">
                <a:solidFill>
                  <a:srgbClr val="c00000"/>
                </a:solidFill>
                <a:latin typeface="Arial"/>
                <a:ea typeface="宋体"/>
              </a:rPr>
              <a:t>0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 =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исходный вектор запроса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; </a:t>
            </a:r>
            <a:r>
              <a:rPr b="0" i="1" lang="el-GR" sz="2400" spc="-1" strike="noStrike">
                <a:solidFill>
                  <a:srgbClr val="c00000"/>
                </a:solidFill>
                <a:latin typeface="Arial"/>
                <a:ea typeface="Arial"/>
              </a:rPr>
              <a:t>α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,</a:t>
            </a:r>
            <a:r>
              <a:rPr b="0" i="1" lang="el-GR" sz="2400" spc="-1" strike="noStrike">
                <a:solidFill>
                  <a:srgbClr val="c00000"/>
                </a:solidFill>
                <a:latin typeface="Arial"/>
                <a:ea typeface="Arial"/>
              </a:rPr>
              <a:t>β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,</a:t>
            </a:r>
            <a:r>
              <a:rPr b="0" i="1" lang="el-GR" sz="2400" spc="-1" strike="noStrike">
                <a:solidFill>
                  <a:srgbClr val="c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й запрос «сдвигается» по направлению к релевантным документам и «уходит» от нерелевант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1042920" y="1628640"/>
                <a:ext cx="710568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γ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r</m:t>
                                </m:r>
                              </m:sub>
                            </m:sSub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r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2" name="Flowchart: Extract 7"/>
          <p:cNvSpPr/>
          <p:nvPr/>
        </p:nvSpPr>
        <p:spPr>
          <a:xfrm>
            <a:off x="4932360" y="4149720"/>
            <a:ext cx="576360" cy="358920"/>
          </a:xfrm>
          <a:prstGeom prst="flowChartExtra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  <a:ea typeface="Arial Unicode MS"/>
              </a:rPr>
              <a:t>!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Методы расширения за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впадение слова запрос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лет – ла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расширения запрос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баль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ные тезау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 порождаемый тезау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Локальные методы (по конкретному запрос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Relevance feedback (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обратная связь по релевант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Pseudo Relevance feedback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(обратная связь по псевдорелев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Особенности параме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25000"/>
            <a:ext cx="822960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нош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vs.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у нас много оцененных документов, то лучше более высок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веса в модифицированном векторе запроса становятся отрицате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ицательные веса слов игнорируются (устанавливаются равны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Relevance Feedback 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 векторных пространст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4373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модифицировать запрос на основе разметки пользователя и применить стандартную векторную мод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Используются только документы, которые размечены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levance feedback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улучшить и полноту и то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Relevance feedback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наиболее полезен в увеличении полноты в тех ситуациях, когда полнота важ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и должны просматривать и размечать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ит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озитивный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 vs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егативный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11240"/>
            <a:ext cx="80773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итивн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eedback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ценен, чем негатив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feedback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ыч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0.25,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= 0.7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ие системы позволяют только позитивн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eedback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Relevance Feedback: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ед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80773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1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имеет достаточно знаний для исходного за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2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отипы релевантных/нерелевантных доку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т себя хорош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аспределение слов в релевантных документах схо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аспределение слов в нерелевантных документах отлично от распределения слов в релевантных докумен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Все релевантные документы похожи на один протот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Имеется несколько прототипов, но у них значительное пересечение по соста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одство между релевантными и нерелевантными документами относительно небольш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3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Нарушение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  <a:ea typeface="宋体"/>
              </a:rPr>
              <a:t> A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80773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ользователя нет достаточного начального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авильное написание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ittany Sp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языковой информационный поис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(hígad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оответствие словаря пользователя и словаря колл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smonaut/astrona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3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Нарушение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 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125000"/>
            <a:ext cx="80773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ся несколько прот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меры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ейчас: Украина – две точки з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более общего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3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Relevance Feedback: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0769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ные запросы – неэффективны для типичной поисковой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е ожидание для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стоимость для поиск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ное реш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олько слов с наиболее высоким ве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х по в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ользователи часто не хотят размечать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понять, почему данный документ был выдан пос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relev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  <a:ea typeface="宋体"/>
              </a:rPr>
              <a:t>Relevance Feedback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80773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которые поисковые машины предлагают возможность просмотра похожих страни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ивиальная форм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relevance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oogle (link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lta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nford Web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Arial"/>
              </a:rPr>
              <a:t>Но результаты трудно объяснить среднему пользовател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Exci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оди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стоящ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relevance feedback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тем убрал – никто не пользовал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6324480" y="2590920"/>
            <a:ext cx="1752840" cy="838080"/>
          </a:xfrm>
          <a:prstGeom prst="leftArrow">
            <a:avLst>
              <a:gd name="adj1" fmla="val 50000"/>
              <a:gd name="adj2" fmla="val 5228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Lucida Sans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/</a:t>
            </a:r>
            <a:r>
              <a:rPr b="0" lang="el-GR" sz="2400" spc="-1" strike="noStrike">
                <a:solidFill>
                  <a:srgbClr val="000000"/>
                </a:solidFill>
                <a:latin typeface="Lucida Sans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/</a:t>
            </a:r>
            <a:r>
              <a:rPr b="0" lang="el-GR" sz="2400" spc="-1" strike="noStrike">
                <a:solidFill>
                  <a:srgbClr val="000000"/>
                </a:solidFill>
                <a:latin typeface="Lucida Sans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  <a:ea typeface="宋体"/>
              </a:rPr>
              <a:t> ??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4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seudo relevanc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0560" y="1052280"/>
            <a:ext cx="85690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-relevance feedback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зирует «ручную» часть реальн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-relevanc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ит поисковую выдачу по запр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перв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ов - релевант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lev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еднем хорошо работ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может получить очень плохие результаты для некоторых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колько итераций могут вызвать «искажение запрос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6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Методы расширения за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впадение слова запрос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лет – ла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расширения запрос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баль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Ручные тезау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 порождаемый тезау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ь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ce feedback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ая связь по релевант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 Relevance feedba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ратная связь по псевдорелев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Тезау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е в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рь с формализованными связями между сло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wordnet-fig1"/>
          <p:cNvPicPr/>
          <p:nvPr/>
        </p:nvPicPr>
        <p:blipFill>
          <a:blip r:embed="rId1"/>
          <a:stretch/>
        </p:blipFill>
        <p:spPr>
          <a:xfrm>
            <a:off x="395280" y="2708280"/>
            <a:ext cx="3889440" cy="381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788000" y="2708280"/>
            <a:ext cx="34192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учные тезаур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заурус – словарь, в ко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ы соответствуют близким по смыслу словам (понятия, дескрипторы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единицами установлены формализованные 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тезау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поисковые тезау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заурусы типа Word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нформационно-поисковые тезаур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000080"/>
            <a:ext cx="8391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о-поисковый тезаурус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й словарь терминов предметной области, создаваемый для улучшения качества информационного поиска в данной предмет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тивные ключев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иональные и международны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в ряде международных организаций и парламентский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опейский парламент – EUROV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Н – UNBIS Thesa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696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ли и исполь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4391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 языка авторов на нормативный язык, используемый для индексации и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последовательности в присваивании индексных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ение отношений между терм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егчение информационного по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 популярны в 60-80х годах 20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интереса в последнее время за счет роста интереса к предметно-ориентированному и корпоративному по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имеры тезау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заурус ОО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UNB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заурус Европейского сою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V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заурус Исследовательской службы Конгресса СШ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вой тезау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макин «Технический тезауру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7093080" y="3573360"/>
            <a:ext cx="180000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радиционные информационно-поисковые тезаурусы для ручного индексирования: струк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4582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нятия ПО – дескрип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ные синонимы – аскриптор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я эквивален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криптор – дескрип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я между дескрипторам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Отношения в ИП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980640"/>
            <a:ext cx="800100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овидовые отношения (выше – ниж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(broader term) – NT (narrower te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шение ассоци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(related ter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порт – путеше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рология – нервная систе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летные работы - кни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–целое: части должны всегда относиться к своему целом (рекомендация стандар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39.19)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 тела,  географические объекты, дисциплины, иерархические структуры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к – батальон – р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нформационно-поисковые тезаурусы: использование для индекс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дура индексирования по тезауру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ексатор читает документ, формулирует его основ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ему нужно подобрать наиболее подходящий набор дескрипторов для описания содержания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 используются для уточнения набора дескрип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екст ис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0-80е годы – в информационных системах не было полны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библиотечной обработки в парламентах, международных организ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Дескрипторы в предмет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057400" y="2133720"/>
            <a:ext cx="5638680" cy="3200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967480" y="33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648320" y="281952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4572000" y="3809880"/>
            <a:ext cx="24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240960" y="3121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193080" y="4608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961680" y="4194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5229720" y="4816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72388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6193080" y="251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4218480" y="4486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708660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5448600" y="2414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3424680" y="402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6363000" y="3925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5169240" y="3425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3645360" y="279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761400" y="5681520"/>
            <a:ext cx="83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Дескрипторы похожи на теги (ключевые слова), но тщательно 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тобраны  профессионалами  для обеспечения равномерного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крытия предметной области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395280" y="395280"/>
            <a:ext cx="8504280" cy="64627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424720" cy="93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80"/>
                </a:solidFill>
                <a:latin typeface="Arial"/>
              </a:rPr>
              <a:t>Тезаурус исследовательской службы Конгресса США (</a:t>
            </a:r>
            <a:r>
              <a:rPr b="0" lang="en-US" sz="2600" spc="-1" strike="noStrike">
                <a:solidFill>
                  <a:srgbClr val="800080"/>
                </a:solidFill>
                <a:latin typeface="Arial"/>
              </a:rPr>
              <a:t>LIV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5"/>
          <p:cNvSpPr/>
          <p:nvPr/>
        </p:nvSpPr>
        <p:spPr>
          <a:xfrm>
            <a:off x="3336840" y="-34920"/>
            <a:ext cx="336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843280" y="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езаурус 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EuroVoc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88218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Исторические этапы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 расширении запр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8000" y="1125360"/>
            <a:ext cx="8856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евский поиск: короткие тексты (19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поисковые тезаурусы, ручное индекс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торные модели (1991-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кальное расширение запросов: relev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тезауруса WordNet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бинирование с векторными мод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 порождаемые тезаурусы (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oogle, Ya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значимости поведенческих факторов (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заурусов в предметно-ориентированных систем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радиционные ИПТ: </a:t>
            </a:r>
            <a:br>
              <a:rPr sz="3200"/>
            </a:b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автоматическое расширение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м информационно-поисковых тезаурусов относительно небольш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слова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спользовать описанные отношения для автоматического расширения запро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полнота поиска увеличивается (находим больше релевантных документо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точность поиска резко падает (появляется много нерелевантных документ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реднем качество поиска па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ъем относительно небольшой, нет большого количество нужных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ширение запроса по отношениям иногда сильно в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0948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Тезаурус Word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http://wordnetweb.princeton.edu/perl/web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4380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Тезаурус 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Word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748720" cy="594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ляционное описание лексики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ерархическая сеть понят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y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слово относится к одном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нескольким понят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дельная иерархическая сеть для различных частей речи – психолингвистическое об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eorge Mill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0-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ы статья «Магическое число 7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сия 1.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5 тысяч понятий, около 130 тысяч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сия 3.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7 тыс. синсетов, около 155 тысяч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х слов и словосочетаний, 200 тысяч отношений слово-синс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0" y="-165240"/>
            <a:ext cx="8893080" cy="7023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3"/>
          <p:cNvSpPr/>
          <p:nvPr/>
        </p:nvSpPr>
        <p:spPr>
          <a:xfrm>
            <a:off x="6015240" y="1413000"/>
            <a:ext cx="167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Синсеты и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значения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68277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5946480" y="549360"/>
            <a:ext cx="22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отношения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80"/>
                </a:solidFill>
                <a:latin typeface="Arial"/>
              </a:rPr>
              <a:t>WordNet (Miller et al. 1990; Fellbaum, 1998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egnaposto data 3"/>
          <p:cNvSpPr/>
          <p:nvPr/>
        </p:nvSpPr>
        <p:spPr>
          <a:xfrm>
            <a:off x="6676920" y="6148440"/>
            <a:ext cx="11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C5A8-92D1-4402-B756-93D92B85D97C}" type="datetime">
              <a:rPr b="0" lang="it-IT" sz="1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28/07/26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5" name="Segnaposto numero diapositiva 4"/>
          <p:cNvSpPr/>
          <p:nvPr/>
        </p:nvSpPr>
        <p:spPr>
          <a:xfrm>
            <a:off x="6553080" y="6148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D8CA-E0B2-4415-A6F9-912DE94B79FB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56" name="Segnaposto piè di pagina 5"/>
          <p:cNvSpPr/>
          <p:nvPr/>
        </p:nvSpPr>
        <p:spPr>
          <a:xfrm>
            <a:off x="1219320" y="6148440"/>
            <a:ext cx="557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on’t Take Shortcuts! Computational Lexical Semantics and the Turing Test</a:t>
            </a:r>
            <a:endParaRPr b="0" lang="en-US" sz="11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oberto Navigli</a:t>
            </a:r>
            <a:endParaRPr b="0" lang="en-US" sz="11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1476360" y="1557360"/>
          <a:ext cx="575964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57360"/>
                    <a:ext cx="575964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250920" y="225360"/>
            <a:ext cx="850716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Using WordNet for Text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n M. Vorhees (SIGIR - 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ешение многозначности в запросе и текс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d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сть в сет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Net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де слово однозначно – наибольший подграф, включающи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инсет для одного из значений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не включащий  другие синсеты 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Расширение за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Расширение запроса с ручным разрешением многозна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асширение запроса с автоматическим разрешением многозна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0 Запросов из конферен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TRE</a:t>
            </a: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</a:t>
            </a:r>
            <a:r>
              <a:rPr b="0" lang="en-US" sz="3600" spc="-1" strike="noStrike">
                <a:solidFill>
                  <a:srgbClr val="990099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пример за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  Science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pi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Aftermath of Chernob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ocument cites measures taken by Europ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ountries  to record and contain the resul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of the Chernobyl acc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r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   a document will cite an action undertak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by a European government such as tes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food supplies, testing water, measur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fallout, banning new reactor construct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hernobyl, nuclear accident, radiation,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nsequences, evacuation, health fears,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anning foodstuffs, propaganda campaign, testing so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Обратная связь по релева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678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 оценивает документы в поисковой выд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задает относительно простой, короткий за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ользователь размечает часть результатов как релевантные и нерелеван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числяет улучшает соответствие документов запросу на основе пользовательской разм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 может выполняться итера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сновная идея: сформулировать хороший запрос трудно, если пользователь не знаком с коллекцией, поэтому – итеративное построение за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7656480" y="-331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Автоматическое расширение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6518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ос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C: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ишком частотные слова в коллекции не расширяю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req&lt;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стальных берутся все понятия-соседи (шаг 1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есть пересечение синсетов от разных слов запроса, то элементы синсета добавляются к запр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вали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5%, 10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е веса на расширение 0.3, 0.5, 0.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улучшение 0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результат не является статистически значим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Основная проблема при разрешении многозначности в контексте информационн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358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ы в рабо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hees (199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просе происходит такой выбор значения, которого нет нигде в текс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ос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 anxiety in infants  and preschool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й сло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о 8 релевантных документов, но находится тольк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ability to automatically resolve word senses prevente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improvements from being realiz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604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асширение запроса, основанное на тезаурусных зн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тер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запросе происходит расшир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онимичными словами или близкими по смыслу (связанными отношениями с исходным словом) – из тезау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宋体"/>
              </a:rPr>
              <a:t>feline → feline 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асширя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добавлять в вектор запро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более низкими весами и в зависимости от типа отношения к слову запро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вставлять в булевское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Arial"/>
                <a:ea typeface="宋体"/>
              </a:rPr>
              <a:t>Налог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  <a:ea typeface="宋体"/>
              </a:rPr>
              <a:t> →</a:t>
            </a:r>
            <a:r>
              <a:rPr b="0" lang="ru-RU" sz="2000" spc="-1" strike="noStrike">
                <a:solidFill>
                  <a:srgbClr val="800080"/>
                </a:solidFill>
                <a:latin typeface="Arial"/>
                <a:ea typeface="宋体"/>
              </a:rPr>
              <a:t>( НАЛОГ или НАЛОГОВ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в предметно-ориентированных систем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тезаурусы, встроенные в ПО поисковые системы, могут иметь другие формы, чем описано в стандартах, например, только список синонимов и вариа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2.2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4250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асширение запроса, основанное на тезаурусных знаниях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  <a:ea typeface="宋体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величивает полноту пои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ычно снижает точность поиска, обычно для многозначных сл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rest rate”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“interest rate fascinate evalua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водить в тезаурус многословные терми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宋体"/>
              </a:rPr>
              <a:t>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rest ra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宋体"/>
              </a:rPr>
              <a:t>»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запросы все равно разнообразн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ожность создания и обновления тезауру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этому в интернет-пои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говое время не было расширения за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стали расширять на однокорен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йчас для расширения запроса используются статистически насчитанные «синони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2.2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езаурусные отношения при автоматич. расширении запр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он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работает для однозначных слов (выражен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овидовые отношения (выше-ниж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работает, если запрос совпадает с термином тезау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линном запросе может приводить к снижению то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 Сибири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 столица Сиби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Методы расширения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овпадение слова запрос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лет – ла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расширения запрос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баль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-поисковый тезау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Автоматически порождаемый тезаур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каль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ce feedback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ая связь по релевант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 Relevance feedba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ратная связь по псевдорелева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916280"/>
            <a:ext cx="777384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айды докла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ширение поисковых запр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Сокир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. Соловьев (Яндек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romip.ru/russir2010/slides/yandex_lecture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синонимов для расширения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оответствиями между внутренними элемен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образование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ск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с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ий; компиляция - компи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ббревиатуры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Г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ковск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дарственны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верс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литы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уг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тно – раздельно: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атер-по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атерпо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фоварианты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lou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з поддержки внутренних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ы (стол – 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онимы: бегемот – гипопо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ды: фильм - биоп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горитм составления б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ение списка гипо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ное 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сечение результатов – отсекается первый миллион и объявляется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ловар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трелка вниз 3"/>
          <p:cNvSpPr/>
          <p:nvPr/>
        </p:nvSpPr>
        <p:spPr>
          <a:xfrm>
            <a:off x="2987640" y="1989000"/>
            <a:ext cx="432000" cy="108108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3486600" y="263196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~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200 миллионов гипотез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8" name="Стрелка вниз 5"/>
          <p:cNvSpPr/>
          <p:nvPr/>
        </p:nvSpPr>
        <p:spPr>
          <a:xfrm>
            <a:off x="2987640" y="3789360"/>
            <a:ext cx="432000" cy="107964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3523320" y="436104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~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 150 миллионов гипотез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и синонимов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бочное напис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бочное напис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набор n-gram, которые встречаются с текстах рунета в контексте скоб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овский государственный университет (МГУ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имир Путин (Vladimir Put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езультаты для начального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beforefeedback"/>
          <p:cNvPicPr/>
          <p:nvPr/>
        </p:nvPicPr>
        <p:blipFill>
          <a:blip r:embed="rId1"/>
          <a:stretch/>
        </p:blipFill>
        <p:spPr>
          <a:xfrm>
            <a:off x="228600" y="1685880"/>
            <a:ext cx="8686800" cy="4870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ки синонимов: Открытые слова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ая Википедия содержит около миллиона жестких перенаправлений, ти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 сибирский     ---        Даурс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ачинская бухта        ---       Авачинская гу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лечение синонимов для автоматического расширения запр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85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 для извлечения синони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встречаемость в одном документе (страни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встречаемость в тексте ссылки (анк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речаемость в документе и в тексте ссыл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часто пользователь в запросах заменяет одно на друг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ики пользователя на страницу, содержащу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запросе, содержащ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ство контекстов употребл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просы, документы)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а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Оценка пары синонимов без кон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Оценка пары синонимов в контексте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Оценка качества поисковой вы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ет слов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гвистически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ze-&gt;memo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ошибочных образований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– s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бщенные мо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ze-&gt;memorization (e-&gt;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e-&gt;induction (e-&gt;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 -&gt; publication (sh-&gt;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р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19144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ческие расширения с использованием автоматического тезаур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 же проблемы, что и в ручн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значность запроса или расшир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ы с расширением устойчивых словосочет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ияние контекста запроса и/или док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1356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 расширен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кабрь 2010 – февраль 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748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прос                             –                докуме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чное судно                      –    морское су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ной порт                        –    морской порт (Наход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суждение имущества –    передача им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дяная горка                    –    холодная 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ширение отверстия    –    расширение канала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                                           (сети интер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овор поручительства –    договор пор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варийное отключение    –    знак аварийной остан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ая граница            –    закрыть гра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244440" y="0"/>
            <a:ext cx="8899560" cy="6937200"/>
          </a:xfrm>
          <a:prstGeom prst="rect">
            <a:avLst/>
          </a:prstGeom>
          <a:ln w="0">
            <a:noFill/>
          </a:ln>
        </p:spPr>
      </p:pic>
      <p:sp>
        <p:nvSpPr>
          <p:cNvPr id="308" name="Line 4"/>
          <p:cNvSpPr/>
          <p:nvPr/>
        </p:nvSpPr>
        <p:spPr>
          <a:xfrm>
            <a:off x="2627280" y="242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6643080" y="133200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2011 год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532720" cy="6651720"/>
          </a:xfrm>
          <a:prstGeom prst="rect">
            <a:avLst/>
          </a:prstGeom>
          <a:ln w="0">
            <a:noFill/>
          </a:ln>
        </p:spPr>
      </p:pic>
      <p:sp>
        <p:nvSpPr>
          <p:cNvPr id="311" name="Line 4"/>
          <p:cNvSpPr/>
          <p:nvPr/>
        </p:nvSpPr>
        <p:spPr>
          <a:xfrm>
            <a:off x="2916360" y="2421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6859440" y="1255680"/>
            <a:ext cx="11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2011г</a:t>
            </a: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532720" cy="6651720"/>
          </a:xfrm>
          <a:prstGeom prst="rect">
            <a:avLst/>
          </a:prstGeom>
          <a:ln w="0">
            <a:noFill/>
          </a:ln>
        </p:spPr>
      </p:pic>
      <p:sp>
        <p:nvSpPr>
          <p:cNvPr id="314" name="Line 3"/>
          <p:cNvSpPr/>
          <p:nvPr/>
        </p:nvSpPr>
        <p:spPr>
          <a:xfrm>
            <a:off x="3851280" y="5157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азметка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feedback"/>
          <p:cNvPicPr/>
          <p:nvPr/>
        </p:nvPicPr>
        <p:blipFill>
          <a:blip r:embed="rId1"/>
          <a:stretch/>
        </p:blipFill>
        <p:spPr>
          <a:xfrm>
            <a:off x="228600" y="1643040"/>
            <a:ext cx="8686800" cy="4917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5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826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5056920" y="39528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2015 год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 настояще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оиск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 порождаемые тезаур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т поведенчески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гащение представления содержания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йронные сети для создания векторных представ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в предметн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по крайней мере списки синони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вая облас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г на добавленную стоимость – НД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ичный лист- медицинский бюллетень – листок нетруд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84692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Тезаурусы типа 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WordNet (</a:t>
            </a: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ворднеты)</a:t>
            </a: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800080"/>
                </a:solidFill>
                <a:latin typeface="Arial"/>
              </a:rPr>
              <a:t>Тезаурус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орднеты в различных язы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611280" y="1200240"/>
            <a:ext cx="79930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усские тезаурусы типа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3840" y="907560"/>
            <a:ext cx="8605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ое порождение переводом с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kova et al.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е проекта неизвес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ordnet.ru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fenbeyn et al., 200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 без ручного редак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емые «с ну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Net (Azarowa, 200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семантических групп слов студентами в виде курсовы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N – Yet Another RussNet (201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удсорсинг+Wik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 наивного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зах, казахста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ъекция, приви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http://cdn.img.ria.ua/photos/ria/news_common/14/1441/144182/144182m.jpg"/>
          <p:cNvPicPr/>
          <p:nvPr/>
        </p:nvPicPr>
        <p:blipFill>
          <a:blip r:embed="rId2"/>
          <a:stretch/>
        </p:blipFill>
        <p:spPr>
          <a:xfrm>
            <a:off x="6993000" y="5424480"/>
            <a:ext cx="21510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380F-8718-4B9F-B2EE-5F6C6945ACDB}" type="slidenum">
              <a:rPr b="0" lang="ru-RU" sz="14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788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Тезаурус русского языка РуТез (НИВЦ МГ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13840" y="907560"/>
            <a:ext cx="892980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фицированное предст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лов разных часте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лов и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ьных слов и словосочет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ы с различны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рганиза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ично опубликован в 2013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ть 56 тысяч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4 тысяч слов и выра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6 тысяч с учетом многозначн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этой же модели сде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заурус по компьютер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заурус по естественным наукам и технолог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34196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75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Использование тезауруса типа РуТез </a:t>
            </a:r>
            <a:br>
              <a:rPr sz="2800"/>
            </a:b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в информационных систе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208720" cy="52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имер выдачи информационно-аналитической системы: инфор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ips-71"/>
          <p:cNvPicPr/>
          <p:nvPr/>
        </p:nvPicPr>
        <p:blipFill>
          <a:blip r:embed="rId1"/>
          <a:stretch/>
        </p:blipFill>
        <p:spPr>
          <a:xfrm>
            <a:off x="539640" y="1268280"/>
            <a:ext cx="7848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Порождение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RuWord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Th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l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.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сяч слов и вы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ение на сети, соответствующие отдельным частям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ированный морфологический разбор текстовых входов тезауруса РуТез для получения морфосинтаксического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ение на три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инонимы  - только в рамках ча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отношений, принятых в ресурсах типа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Результаты после разм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afterfeedback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5037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7668720" y="-33120"/>
            <a:ext cx="10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cff"/>
                </a:solidFill>
                <a:latin typeface="Lucida Sans"/>
                <a:ea typeface="Arial Unicode MS"/>
              </a:rPr>
              <a:t>Sec. 9.1.1</a:t>
            </a:r>
            <a:endParaRPr b="0" lang="en-US" sz="1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uwordnet.ru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осад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569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Доступ к тезаурусам РуТез  и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uWord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abinform.ru/pub/ruthes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RuWord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abinform.ru/pub/ruwordnet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word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ы могут быть получены для некоммерческого при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k_nat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на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ос: отбор кандид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отметил релевантными два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дидат отобрать претенд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бор выбрать претенд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коллекции – 1 млн.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бор 70000, кандидат – 700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тендент - 30000, отобрать – 50000, выбрать 7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зменится запрос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lpha=0.7 (коэффициент учета запрос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ta=0.3 (коэффициент учета релевантных документов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ос представляется как вектор част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 представляется как нормализованный вектор tf.i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ние на 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6840" y="98100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росы по Википе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ждого запроса сделать идеальную разметку, т.е. разметить предложения, насколько они релевантны запро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трехбалльную шкалу {2,1, 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ь качество выдачи, используя ND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ить отчет по поч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альное расположение предложений с оцен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ет NDCG для каждого запроса и варианта вы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среднее для метода с idf и без i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Выдача по запросу </a:t>
            </a:r>
            <a:r>
              <a:rPr b="0" i="1" lang="en-US" sz="3200" spc="-1" strike="noStrike">
                <a:solidFill>
                  <a:srgbClr val="800080"/>
                </a:solidFill>
                <a:latin typeface="Arial"/>
              </a:rPr>
              <a:t>canine</a:t>
            </a:r>
            <a:br>
              <a:rPr sz="4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ernando Di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Content Placeholder 3" descr="canine1.gif"/>
          <p:cNvPicPr/>
          <p:nvPr/>
        </p:nvPicPr>
        <p:blipFill>
          <a:blip r:embed="rId1"/>
          <a:stretch/>
        </p:blipFill>
        <p:spPr>
          <a:xfrm>
            <a:off x="1004760" y="1752480"/>
            <a:ext cx="7134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7:32:12Z</dcterms:created>
  <dc:creator>boris</dc:creator>
  <dc:description/>
  <dc:language>en-US</dc:language>
  <cp:lastModifiedBy>louk</cp:lastModifiedBy>
  <dcterms:modified xsi:type="dcterms:W3CDTF">2018-10-09T11:08:23Z</dcterms:modified>
  <cp:revision>114</cp:revision>
  <dc:subject/>
  <dc:title>06-03. Расширение запроса при поиске</dc:title>
</cp:coreProperties>
</file>