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6.png" ContentType="image/png"/>
  <Override PartName="/ppt/media/image29.png" ContentType="image/png"/>
  <Override PartName="/ppt/media/image1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A04-8ACA-4EF0-A30D-09B19B5B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73F-5E2F-4D2A-87ED-B944C1AE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B22-BFF9-4DBC-83D6-B08CDE48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27D-EC0F-42F7-A2D7-57A578E1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6D8-3430-4070-AD2B-9EC8F524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1F8-01EB-4CA5-ADFA-2D4A419F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A06-27CB-44FC-B75C-D87E107A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B07-FD57-4B6A-A35C-DE55D8C3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D774-C6B7-46A2-89B7-A182021B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DFA-A368-4DC2-BE6F-7B84D426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DE9-262A-4609-9E95-87EE0ABA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056-D8D1-4DA1-A51D-3B40A06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4B24-9771-49B5-A4AA-A5A522D7E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ка качества информационного по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you can’t meas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can’t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d 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54A4-726B-4514-84FC-93966BE392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а неранжированного по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точность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я релевантных документов в выданных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relevant|retrie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полнот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я выданных документов среди релевантных докумен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(retrieved|relev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ion P = tp/(tp + f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     R = tp/(tp + f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19280" y="3573360"/>
          <a:ext cx="6985080" cy="1728720"/>
        </p:xfrm>
        <a:graphic>
          <a:graphicData uri="http://schemas.openxmlformats.org/drawingml/2006/table">
            <a:tbl>
              <a:tblPr/>
              <a:tblGrid>
                <a:gridCol w="2328840"/>
                <a:gridCol w="2327400"/>
                <a:gridCol w="23288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lev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nrelev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triev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t Retriev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8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609480" y="-747720"/>
            <a:ext cx="9753480" cy="7605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428472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но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получить 100% полноту, но очень низкую точность, если выдать все документы кол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о точность падает, чем больше документов выдано (в хороших систем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бинированная мера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ее гармоническое между полнотой и точ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сбалансированн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1  ил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4356000" y="1700280"/>
                <a:ext cx="38163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9"/>
              <p:cNvSpPr txBox="1"/>
              <p:nvPr/>
            </p:nvSpPr>
            <p:spPr>
              <a:xfrm>
                <a:off x="4859280" y="4221000"/>
                <a:ext cx="30974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4EA7-1DDC-4F91-A731-349C1922D4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другие сред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1085760" y="1714680"/>
          <a:ext cx="698652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1714680"/>
                    <a:ext cx="698652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8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а ранжирован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ые системы выдают упорядо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ача может быть достаточно боль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левантные документы должны выдаваться раньше нерелеван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измерять точность на каждом уровне пол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332000" y="-316080"/>
            <a:ext cx="10972800" cy="85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реднение по запрос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вая полнота-точность для одного запроса не очень интер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построить кривую полнота-точность для совокупности запр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Кривая – это совокупность т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терполир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60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1E64-AEE7-4235-A8B6-37057D3FCE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вая полнота-то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2"/>
          <p:cNvGraphicFramePr/>
          <p:nvPr/>
        </p:nvGraphicFramePr>
        <p:xfrm>
          <a:off x="1066680" y="1770120"/>
          <a:ext cx="7086600" cy="48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70120"/>
                    <a:ext cx="70866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8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ра качества информационного по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влетворенность пользователя –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hap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ость ответа важна – легко измер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змерить кач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нинг и др. Введение в информационный поиск – гл.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инки из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s in Information Retrieval Evaluation” – RUSSIR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B3F7-A6F6-4B02-8C26-75C128F063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полированная то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: Если локально точность возросла с увеличением полноты, то засчитаем ее максиму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. берем максимум точности справа на граф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6250" t="21049" r="8926" b="22231"/>
          <a:stretch/>
        </p:blipFill>
        <p:spPr>
          <a:xfrm>
            <a:off x="380880" y="3200400"/>
            <a:ext cx="8077320" cy="32306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8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полированная то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3164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полноты от 0 до 1 с шагом 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поляция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       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300720" y="2276640"/>
            <a:ext cx="1297080" cy="31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1297080" cy="32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1297080" cy="309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3456000" cy="44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5"/>
          <a:stretch/>
        </p:blipFill>
        <p:spPr>
          <a:xfrm>
            <a:off x="457200" y="2460600"/>
            <a:ext cx="4038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-1549440" y="-963720"/>
            <a:ext cx="10972800" cy="85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523880" y="-1324080"/>
            <a:ext cx="10972800" cy="85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езультаты дорожки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омип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2008 Legal adhoc, pd35</a:t>
            </a: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6906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152280" y="1143000"/>
          <a:ext cx="8686800" cy="57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6868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ение оценки качеств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виде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сть в первы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ах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sion@1, Precision@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интернет-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хо усредн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полированная средняя то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ся 11 значений точности на разных уровнях полн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 интерполя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взять сред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полированная средняя точность- среднее арифметическое 11 значений полн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6906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52280" y="1143000"/>
          <a:ext cx="8686800" cy="57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6868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n Average Precision (M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чет точности  в тот момент, когда в выдаче релевантный док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ирование и усредн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verage prec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интерпол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ее усреднение по всем запро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an Average Preci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-1405080" y="-1035000"/>
            <a:ext cx="10972800" cy="855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4588920" y="5589720"/>
            <a:ext cx="41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!) в знаменател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евантных документов, найд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ние коллекций для тес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рение удовлетвор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лижение: релева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изме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лекция докумен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лекция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и релевант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левантен или более подробная 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549440" y="-1035000"/>
            <a:ext cx="10972800" cy="85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-252360" y="-1179360"/>
            <a:ext cx="10364760" cy="80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-1549440" y="-1179360"/>
            <a:ext cx="10972800" cy="87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-757080" y="-892080"/>
            <a:ext cx="10364760" cy="80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-684360" y="-1035000"/>
            <a:ext cx="10364760" cy="82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Trec-2018 tr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E Trac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new track for 2018, which will run in parallel (with somewhat different emphases) in CLEF 2018, NTCIR-14, and TREC 2018. The overall goal of the track is to develop and tune a reproducibility evaluation protocol for 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ident Streams Trac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new track for TREC 2018. The Incident Streams track is designe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utomatically process social media streams during emergency situations with the aim of categorizing information and aid requests made on social media for emergency service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sion Medicine Trac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track is a specialization of the Clinical Decision Support track of previous TRECs. It will focus on building systems that use data (e.g., a patient's past medical history and genomic information) to link oncology patients to clinical trials for new treatments as well as evidence-based literature to identify the most effective existing treatment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669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6443640" y="1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14836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. Dumais (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74080" cy="6453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514836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. Dumais (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8759880" cy="61023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6300720" y="39830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. Dumais (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568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523880" y="-1324080"/>
            <a:ext cx="10972800" cy="85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8966160" cy="6669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5724360" y="33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линг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ждого за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результаты систем участников глубин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из полученных результат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ить дубли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авить оценки релева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цененные документы считать нерелевант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ь весь ответ системы (с глубиной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-252360" y="620640"/>
            <a:ext cx="9756720" cy="76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-396720" y="-272880"/>
            <a:ext cx="914868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ности, связанные с пулинг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е усиление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оценка систем, не участвовавших в оце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емая оценка – оценка сни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: участники относительно в рав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TREC и других тестир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980640"/>
            <a:ext cx="8578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. Du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и, фонды и т.п. «ищут под фонарем», т.е. используют имеющиеся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егда ясно, что представляют собой используемая выборка документов и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идет задержка относительно существующих потребностей индустрии и пра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ица между официальными метриками и экспериментами в реальном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итика запросо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шл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презента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днозначные запросы не вклю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-100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осы со слишком малым или слишком большим количеством запросов не вклю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стоящ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осы из реальных л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ей част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 тысяч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ерименты по оценке качества по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нфилдские 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nfield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ы (19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REtrieval Conferenc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(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я основ оценки на баз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E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998-2001-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II Test Collection for IR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(NTCIR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 Language Evaluations Forum (CLEF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йский семинар по оценке Методов Информационного Поиска (РОМИП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ческа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Cranfield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оцедура оце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м список запросов и ограничим коллекцию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пары запр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 выставим экспертную оценку «релевант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м рассматривать ответ системы не как последовательность документов, а как множество/последовательность оценок релев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лученной последова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е оценок релевантности построим мет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1549440" y="-1035000"/>
            <a:ext cx="10972800" cy="85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ценка релевантности вы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ая потребность выражается запро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левантность оценивается по отношению к информационной потребности, а не к словам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. все слова запроса могут присутствовать в документе, а документ не релевант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ка булевского по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евский поиск – не имеет ранжирования (упорядоч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овая система разделяет коллекцию на два мно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ано ответ на запрос – не выд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ы: релевантен – нерелеван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ы каче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1:33:45Z</dcterms:created>
  <dc:creator>boris</dc:creator>
  <dc:description/>
  <dc:language>en-US</dc:language>
  <cp:lastModifiedBy>boris</cp:lastModifiedBy>
  <dcterms:modified xsi:type="dcterms:W3CDTF">2018-10-27T08:31:21Z</dcterms:modified>
  <cp:revision>68</cp:revision>
  <dc:subject/>
  <dc:title>6-1. Оценка качества информационного поиска</dc:title>
</cp:coreProperties>
</file>