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2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5.png" ContentType="image/png"/>
  <Override PartName="/ppt/media/image9.png" ContentType="image/png"/>
  <Override PartName="/ppt/media/image8.png" ContentType="image/png"/>
  <Override PartName="/ppt/media/image16.wmf" ContentType="image/x-wmf"/>
  <Override PartName="/ppt/media/image12.png" ContentType="image/png"/>
  <Override PartName="/ppt/media/image7.png" ContentType="image/png"/>
  <Override PartName="/ppt/media/image19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4.png" ContentType="image/png"/>
  <Override PartName="/ppt/media/image4.png" ContentType="image/png"/>
  <Override PartName="/ppt/media/image10.png" ContentType="image/png"/>
  <Override PartName="/ppt/media/image6.png" ContentType="image/png"/>
  <Override PartName="/ppt/media/image11.png" ContentType="image/png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AF77B-68B5-4764-8120-2D2EC92BC2F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617D0-762C-455F-88F3-717E8595ADD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FF1B8-AA55-4A95-A131-372A1396F27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77859-D7D6-4B89-98B3-83C67481598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6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A2FDB-DD22-4D8F-88EE-20813A8BE3C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6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C20E1-49FD-4D4D-98D5-93B60272FE4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69F6C-826E-491F-8C7A-ED26EC578C4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4DA7E-93F3-499D-898A-7483D8F96AF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58D38-31E5-42B7-A385-5A44B067F4A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6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DD87B-A3B2-4174-B1D2-8D19A6EA81E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A96E3-A437-4BE3-B5EE-3D086422A18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6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05297-A652-45C4-8F96-4B7D6DA6A00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Text Box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C8A4D-253E-48AA-906F-85D9CF9E044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67320" cy="3426120"/>
          </a:xfrm>
          <a:prstGeom prst="rect">
            <a:avLst/>
          </a:prstGeom>
          <a:ln w="0">
            <a:noFill/>
          </a:ln>
        </p:spPr>
      </p:sp>
      <p:sp>
        <p:nvSpPr>
          <p:cNvPr id="6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01B7F-19E3-4B3A-8D8B-5356FAB2426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F3331-693A-4B4B-8362-A5A1E468DE3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67320" cy="3426120"/>
          </a:xfrm>
          <a:prstGeom prst="rect">
            <a:avLst/>
          </a:prstGeom>
          <a:ln w="0">
            <a:noFill/>
          </a:ln>
        </p:spPr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AF43B-C047-40FA-B4FA-B8ECB53BC14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Text Box 2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AB07EE1-6DA0-484D-B22B-60C2FE95D2C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6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70608-B96E-4E42-9541-5DD52421E60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Text Box 2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D2EBD6F-6793-458E-8A60-6EAB3099C13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6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D8AD5-DF53-45F6-904F-5E8EEDACAB6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91CC6-FE9D-46EC-BD3B-984CF8A7086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67320" cy="3426120"/>
          </a:xfrm>
          <a:prstGeom prst="rect">
            <a:avLst/>
          </a:prstGeom>
          <a:ln w="0">
            <a:noFill/>
          </a:ln>
        </p:spPr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DFA43-8047-4EE9-9ED8-B377CAA1996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A53F1-791A-4818-BE39-25C8C408746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67320" cy="3426120"/>
          </a:xfrm>
          <a:prstGeom prst="rect">
            <a:avLst/>
          </a:prstGeom>
          <a:ln w="0">
            <a:noFill/>
          </a:ln>
        </p:spPr>
      </p:sp>
      <p:sp>
        <p:nvSpPr>
          <p:cNvPr id="7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D1C1B-300B-408E-B626-C27E3EC198B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511EC-46DD-4D4E-82E1-47782A60FFC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67320" cy="3426120"/>
          </a:xfrm>
          <a:prstGeom prst="rect">
            <a:avLst/>
          </a:prstGeom>
          <a:ln w="0">
            <a:noFill/>
          </a:ln>
        </p:spPr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66476-D814-4C7A-93FF-D5EA9BFC26E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43A32-EC52-460E-A263-B2AA3738F5D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67320" cy="3426120"/>
          </a:xfrm>
          <a:prstGeom prst="rect">
            <a:avLst/>
          </a:prstGeom>
          <a:ln w="0">
            <a:noFill/>
          </a:ln>
        </p:spPr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A5CCE-E376-4897-A785-FC95AAF7F2A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0FA2F-3509-4931-9F38-78389121038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67320" cy="3426120"/>
          </a:xfrm>
          <a:prstGeom prst="rect">
            <a:avLst/>
          </a:prstGeom>
          <a:ln w="0">
            <a:noFill/>
          </a:ln>
        </p:spPr>
      </p:sp>
      <p:sp>
        <p:nvSpPr>
          <p:cNvPr id="7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0887F-9479-44E9-9472-50BEABD5CB1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62F6D-1CFD-4D46-B08C-51FD276F7D2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738FD-660A-4F14-9D84-63DDDC7DCFF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Text Box 2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1AEB8C2-C969-4F08-A619-CF824F1C79D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67320" cy="3426120"/>
          </a:xfrm>
          <a:prstGeom prst="rect">
            <a:avLst/>
          </a:prstGeom>
          <a:ln w="0">
            <a:noFill/>
          </a:ln>
        </p:spPr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208DE-39E9-48C5-B475-27B84779E9C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D4295-60DD-4182-A882-F380CD79EAA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B5D17-229F-4207-872C-7EAFC551DB3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Text Box 2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97329CF-02F3-4EE7-81CE-4CB0D2104E0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67320" cy="3426120"/>
          </a:xfrm>
          <a:prstGeom prst="rect">
            <a:avLst/>
          </a:prstGeom>
          <a:ln w="0">
            <a:noFill/>
          </a:ln>
        </p:spPr>
      </p:sp>
      <p:sp>
        <p:nvSpPr>
          <p:cNvPr id="7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E6770-7E6F-42C5-8A90-85452E1933B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2520" cy="3444840"/>
          </a:xfrm>
          <a:prstGeom prst="rect">
            <a:avLst/>
          </a:prstGeom>
          <a:ln w="0">
            <a:noFill/>
          </a:ln>
        </p:spPr>
      </p:sp>
      <p:sp>
        <p:nvSpPr>
          <p:cNvPr id="7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566F0-46DB-441F-84CB-1B1624464C4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Text Box 2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4FAC695-10EC-4821-AB1B-C8EFCA68761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67320" cy="3426120"/>
          </a:xfrm>
          <a:prstGeom prst="rect">
            <a:avLst/>
          </a:prstGeom>
          <a:ln w="0">
            <a:noFill/>
          </a:ln>
        </p:spPr>
      </p:sp>
      <p:sp>
        <p:nvSpPr>
          <p:cNvPr id="7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C8309-B50F-410C-A7A6-CA1932C0925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67320" cy="3426120"/>
          </a:xfrm>
          <a:prstGeom prst="rect">
            <a:avLst/>
          </a:prstGeom>
          <a:ln w="0">
            <a:noFill/>
          </a:ln>
        </p:spPr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32CE9-6B20-4889-87A5-6C543875234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Text Box 2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87B02A2-20C0-4164-ACB6-78BEE5F88C4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70200" cy="3427560"/>
          </a:xfrm>
          <a:prstGeom prst="rect">
            <a:avLst/>
          </a:prstGeom>
          <a:ln w="0">
            <a:noFill/>
          </a:ln>
        </p:spPr>
      </p:sp>
      <p:sp>
        <p:nvSpPr>
          <p:cNvPr id="7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 4 3 2 1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Text Box 5"/>
          <p:cNvSpPr/>
          <p:nvPr/>
        </p:nvSpPr>
        <p:spPr>
          <a:xfrm>
            <a:off x="3886200" y="8688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792A094-8F5D-45B3-9689-5B18F701EEED}" type="slidenum">
              <a:rPr b="0" lang="en-US" sz="11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90C9D-2866-452F-895D-686C8398905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70200" cy="3427560"/>
          </a:xfrm>
          <a:prstGeom prst="rect">
            <a:avLst/>
          </a:prstGeom>
          <a:ln w="0">
            <a:noFill/>
          </a:ln>
        </p:spPr>
      </p:sp>
      <p:sp>
        <p:nvSpPr>
          <p:cNvPr id="7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do you get these numb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ggests df is bet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Text Box 4"/>
          <p:cNvSpPr/>
          <p:nvPr/>
        </p:nvSpPr>
        <p:spPr>
          <a:xfrm>
            <a:off x="3886200" y="8688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399960"/>
                <a:tab algn="l" pos="801720"/>
                <a:tab algn="l" pos="1201680"/>
                <a:tab algn="l" pos="1603440"/>
                <a:tab algn="l" pos="2003400"/>
                <a:tab algn="l" pos="2405160"/>
                <a:tab algn="l" pos="2805120"/>
                <a:tab algn="l" pos="3206880"/>
                <a:tab algn="l" pos="3606840"/>
                <a:tab algn="l" pos="4008600"/>
                <a:tab algn="l" pos="4408560"/>
                <a:tab algn="l" pos="4809960"/>
                <a:tab algn="l" pos="5210280"/>
                <a:tab algn="l" pos="5611680"/>
                <a:tab algn="l" pos="6012000"/>
                <a:tab algn="l" pos="6413400"/>
                <a:tab algn="l" pos="6813720"/>
                <a:tab algn="l" pos="7215120"/>
                <a:tab algn="l" pos="7615080"/>
                <a:tab algn="l" pos="8016840"/>
                <a:tab algn="l" pos="8267760"/>
                <a:tab algn="l" pos="8661240"/>
                <a:tab algn="l" pos="9055080"/>
                <a:tab algn="l" pos="9448920"/>
                <a:tab algn="l" pos="9842400"/>
                <a:tab algn="l" pos="10236240"/>
                <a:tab algn="l" pos="10630080"/>
              </a:tabLst>
            </a:pPr>
            <a:fld id="{C6FAFC44-611E-4F55-BB9D-AB154429F19C}" type="slidenum">
              <a:rPr b="0" lang="en-US" sz="11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79A54-94E3-4466-A4CE-1846035BDD0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67320" cy="3426120"/>
          </a:xfrm>
          <a:prstGeom prst="rect">
            <a:avLst/>
          </a:prstGeom>
          <a:ln w="0">
            <a:noFill/>
          </a:ln>
        </p:spPr>
      </p:sp>
      <p:sp>
        <p:nvSpPr>
          <p:cNvPr id="7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BDD2F-16C4-411F-9CA4-C4AF778AF75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p is line-oriented; IR is document orien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Text Box 4"/>
          <p:cNvSpPr/>
          <p:nvPr/>
        </p:nvSpPr>
        <p:spPr>
          <a:xfrm>
            <a:off x="3886200" y="8688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399960"/>
                <a:tab algn="l" pos="801720"/>
                <a:tab algn="l" pos="1201680"/>
                <a:tab algn="l" pos="1603440"/>
                <a:tab algn="l" pos="2003400"/>
                <a:tab algn="l" pos="2405160"/>
                <a:tab algn="l" pos="2805120"/>
                <a:tab algn="l" pos="3206880"/>
                <a:tab algn="l" pos="3606840"/>
                <a:tab algn="l" pos="4008600"/>
                <a:tab algn="l" pos="4408560"/>
                <a:tab algn="l" pos="4809960"/>
                <a:tab algn="l" pos="5210280"/>
                <a:tab algn="l" pos="5611680"/>
                <a:tab algn="l" pos="6012000"/>
                <a:tab algn="l" pos="6413400"/>
                <a:tab algn="l" pos="6813720"/>
                <a:tab algn="l" pos="7215120"/>
                <a:tab algn="l" pos="7615080"/>
                <a:tab algn="l" pos="8016840"/>
                <a:tab algn="l" pos="8267760"/>
                <a:tab algn="l" pos="8661240"/>
                <a:tab algn="l" pos="9055080"/>
                <a:tab algn="l" pos="9448920"/>
                <a:tab algn="l" pos="9842400"/>
                <a:tab algn="l" pos="10236240"/>
                <a:tab algn="l" pos="10630080"/>
              </a:tabLst>
            </a:pPr>
            <a:fld id="{DD3DD6EB-6D6C-42AD-86F8-E07D9FCDA0DC}" type="slidenum">
              <a:rPr b="0" lang="en-US" sz="11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EA256-135B-42AF-BFF0-CBA0F5D9F5F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67320" cy="3426120"/>
          </a:xfrm>
          <a:prstGeom prst="rect">
            <a:avLst/>
          </a:prstGeom>
          <a:ln w="0">
            <a:noFill/>
          </a:ln>
        </p:spPr>
      </p:sp>
      <p:sp>
        <p:nvSpPr>
          <p:cNvPr id="7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E0D21-1385-42E7-9AD2-7107BEFE74B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67320" cy="3426120"/>
          </a:xfrm>
          <a:prstGeom prst="rect">
            <a:avLst/>
          </a:prstGeom>
          <a:ln w="0">
            <a:noFill/>
          </a:ln>
        </p:spPr>
      </p:sp>
      <p:sp>
        <p:nvSpPr>
          <p:cNvPr id="7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DEC40-1ABF-40A0-A8EB-2C730FC04D8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70200" cy="3427560"/>
          </a:xfrm>
          <a:prstGeom prst="rect">
            <a:avLst/>
          </a:prstGeom>
          <a:ln w="0">
            <a:noFill/>
          </a:ln>
        </p:spPr>
      </p:sp>
      <p:sp>
        <p:nvSpPr>
          <p:cNvPr id="7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Law of Cosines (Cosine Rule) wikipedia p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Text Box 4"/>
          <p:cNvSpPr/>
          <p:nvPr/>
        </p:nvSpPr>
        <p:spPr>
          <a:xfrm>
            <a:off x="3886200" y="8688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399960"/>
                <a:tab algn="l" pos="801720"/>
                <a:tab algn="l" pos="1201680"/>
                <a:tab algn="l" pos="1603440"/>
                <a:tab algn="l" pos="2003400"/>
                <a:tab algn="l" pos="2405160"/>
                <a:tab algn="l" pos="2805120"/>
                <a:tab algn="l" pos="3206880"/>
                <a:tab algn="l" pos="3606840"/>
                <a:tab algn="l" pos="4008600"/>
                <a:tab algn="l" pos="4408560"/>
                <a:tab algn="l" pos="4809960"/>
                <a:tab algn="l" pos="5210280"/>
                <a:tab algn="l" pos="5611680"/>
                <a:tab algn="l" pos="6012000"/>
                <a:tab algn="l" pos="6413400"/>
                <a:tab algn="l" pos="6813720"/>
                <a:tab algn="l" pos="7215120"/>
                <a:tab algn="l" pos="7615080"/>
                <a:tab algn="l" pos="8016840"/>
                <a:tab algn="l" pos="8267760"/>
                <a:tab algn="l" pos="8661240"/>
                <a:tab algn="l" pos="9055080"/>
                <a:tab algn="l" pos="9448920"/>
                <a:tab algn="l" pos="9842400"/>
                <a:tab algn="l" pos="10236240"/>
                <a:tab algn="l" pos="10630080"/>
              </a:tabLst>
            </a:pPr>
            <a:fld id="{22B17930-6E6F-4C35-8EAA-61A91C9FB017}" type="slidenum">
              <a:rPr b="0" lang="en-US" sz="11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A4B4B-CD12-4FAE-88F6-F405E7DA82A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67320" cy="3426120"/>
          </a:xfrm>
          <a:prstGeom prst="rect">
            <a:avLst/>
          </a:prstGeom>
          <a:ln w="0">
            <a:noFill/>
          </a:ln>
        </p:spPr>
      </p:sp>
      <p:sp>
        <p:nvSpPr>
          <p:cNvPr id="7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44825-8B98-4136-BBC6-50A0BD1956A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2424D-CE95-4703-88F2-D8E069B9639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3FA02-7DE1-460D-96E3-D17259FB68F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7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 default is just term frequ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c is best known form of weigh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Text Box 4"/>
          <p:cNvSpPr/>
          <p:nvPr/>
        </p:nvSpPr>
        <p:spPr>
          <a:xfrm>
            <a:off x="3886200" y="8688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399960"/>
                <a:tab algn="l" pos="801720"/>
                <a:tab algn="l" pos="1201680"/>
                <a:tab algn="l" pos="1603440"/>
                <a:tab algn="l" pos="2003400"/>
                <a:tab algn="l" pos="2405160"/>
                <a:tab algn="l" pos="2805120"/>
                <a:tab algn="l" pos="3206880"/>
                <a:tab algn="l" pos="3606840"/>
                <a:tab algn="l" pos="4008600"/>
                <a:tab algn="l" pos="4408560"/>
                <a:tab algn="l" pos="4809960"/>
                <a:tab algn="l" pos="5210280"/>
                <a:tab algn="l" pos="5611680"/>
                <a:tab algn="l" pos="6012000"/>
                <a:tab algn="l" pos="6413400"/>
                <a:tab algn="l" pos="6813720"/>
                <a:tab algn="l" pos="7215120"/>
                <a:tab algn="l" pos="7615080"/>
                <a:tab algn="l" pos="8016840"/>
                <a:tab algn="l" pos="8267760"/>
                <a:tab algn="l" pos="8661240"/>
                <a:tab algn="l" pos="9055080"/>
                <a:tab algn="l" pos="9448920"/>
                <a:tab algn="l" pos="9842400"/>
                <a:tab algn="l" pos="10236240"/>
                <a:tab algn="l" pos="10630080"/>
              </a:tabLst>
            </a:pPr>
            <a:fld id="{B2F26811-63D4-4F4D-9A90-78E97B5D4A48}" type="slidenum">
              <a:rPr b="0" lang="en-US" sz="11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CA32E-11FA-4ECA-B5D8-049F16C5AE2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F1D5E-EB05-461B-B9A3-107421BA12D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7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ving off idf weighting on documents is good for both efficiency and system effectiveness reas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Text Box 4"/>
          <p:cNvSpPr/>
          <p:nvPr/>
        </p:nvSpPr>
        <p:spPr>
          <a:xfrm>
            <a:off x="3886200" y="8688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399960"/>
                <a:tab algn="l" pos="801720"/>
                <a:tab algn="l" pos="1201680"/>
                <a:tab algn="l" pos="1603440"/>
                <a:tab algn="l" pos="2003400"/>
                <a:tab algn="l" pos="2405160"/>
                <a:tab algn="l" pos="2805120"/>
                <a:tab algn="l" pos="3206880"/>
                <a:tab algn="l" pos="3606840"/>
                <a:tab algn="l" pos="4008600"/>
                <a:tab algn="l" pos="4408560"/>
                <a:tab algn="l" pos="4809960"/>
                <a:tab algn="l" pos="5210280"/>
                <a:tab algn="l" pos="5611680"/>
                <a:tab algn="l" pos="6012000"/>
                <a:tab algn="l" pos="6413400"/>
                <a:tab algn="l" pos="6813720"/>
                <a:tab algn="l" pos="7215120"/>
                <a:tab algn="l" pos="7615080"/>
                <a:tab algn="l" pos="8016840"/>
                <a:tab algn="l" pos="8267760"/>
                <a:tab algn="l" pos="8661240"/>
                <a:tab algn="l" pos="9055080"/>
                <a:tab algn="l" pos="9448920"/>
                <a:tab algn="l" pos="9842400"/>
                <a:tab algn="l" pos="10236240"/>
                <a:tab algn="l" pos="10630080"/>
              </a:tabLst>
            </a:pPr>
            <a:fld id="{7014DFB9-6FC7-4B6F-8FC6-2D96F0976A08}" type="slidenum">
              <a:rPr b="0" lang="en-US" sz="11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71E2D-9C56-4F87-94C6-E7AA418D51B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25FF9-2F7A-4569-8260-6E46B70B33A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67320" cy="3426120"/>
          </a:xfrm>
          <a:prstGeom prst="rect">
            <a:avLst/>
          </a:prstGeom>
          <a:ln w="0">
            <a:noFill/>
          </a:ln>
        </p:spPr>
      </p:sp>
      <p:sp>
        <p:nvSpPr>
          <p:cNvPr id="7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19BE0-777D-485A-AF1D-ABB9C1AAA1E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67320" cy="3426120"/>
          </a:xfrm>
          <a:prstGeom prst="rect">
            <a:avLst/>
          </a:prstGeom>
          <a:ln w="0">
            <a:noFill/>
          </a:ln>
        </p:spPr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FBC46-D440-4131-8FB4-C2012DCE703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67320" cy="3426120"/>
          </a:xfrm>
          <a:prstGeom prst="rect">
            <a:avLst/>
          </a:prstGeom>
          <a:ln w="0">
            <a:noFill/>
          </a:ln>
        </p:spPr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2583F-BC7F-4FB4-8F6C-0BBE30DC0EB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FF2FA-496B-4B65-8CB8-0FDFC5FAF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2457D-C3C5-4637-8511-3E41284F5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11AD7-DFF9-42D2-8647-05DE3A5EC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A69AC-5BCF-4DF3-9CD6-2BE2C994C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25EA1-D207-4D0B-B7F3-D893262AC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47220-DD60-4F59-86C2-8369F5823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66F63-4A54-4991-8433-21545915B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F3B76-97DA-4038-A821-7AA446F5A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40E58-4C7C-4383-B4D5-36F2CDAAD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95E32-1117-4994-BF00-B04B9A567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6C25A-28EA-44E1-908B-C28620B4D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1A7C8-8F49-49A4-97B7-10ED17B9E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BB7F0-BE4E-47BE-82FD-EB5D09E1976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png"/><Relationship Id="rId3" Type="http://schemas.openxmlformats.org/officeDocument/2006/relationships/package" Target="../embeddings/oleObject2.xlsx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одели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нформационного поис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7" name="Group 1"/>
          <p:cNvGrpSpPr/>
          <p:nvPr/>
        </p:nvGrpSpPr>
        <p:grpSpPr>
          <a:xfrm>
            <a:off x="684720" y="2744280"/>
            <a:ext cx="8340840" cy="1140480"/>
            <a:chOff x="684720" y="2744280"/>
            <a:chExt cx="8340840" cy="1140480"/>
          </a:xfrm>
        </p:grpSpPr>
        <p:sp>
          <p:nvSpPr>
            <p:cNvPr id="188" name="AutoShape 2"/>
            <p:cNvSpPr/>
            <p:nvPr/>
          </p:nvSpPr>
          <p:spPr>
            <a:xfrm>
              <a:off x="3223800" y="2744280"/>
              <a:ext cx="1705680" cy="496440"/>
            </a:xfrm>
            <a:prstGeom prst="flowChartAlternateProcess">
              <a:avLst/>
            </a:prstGeom>
            <a:solidFill>
              <a:srgbClr val="ff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Tokeniz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AutoShape 3"/>
            <p:cNvSpPr/>
            <p:nvPr/>
          </p:nvSpPr>
          <p:spPr>
            <a:xfrm>
              <a:off x="3962520" y="3276720"/>
              <a:ext cx="303120" cy="608040"/>
            </a:xfrm>
            <a:prstGeom prst="downArrow">
              <a:avLst>
                <a:gd name="adj1" fmla="val 50000"/>
                <a:gd name="adj2" fmla="val 50148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Text Box 4"/>
            <p:cNvSpPr/>
            <p:nvPr/>
          </p:nvSpPr>
          <p:spPr>
            <a:xfrm>
              <a:off x="684720" y="3260880"/>
              <a:ext cx="1872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Поток токенов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Rectangle 5"/>
            <p:cNvSpPr/>
            <p:nvPr/>
          </p:nvSpPr>
          <p:spPr>
            <a:xfrm>
              <a:off x="4782600" y="3336480"/>
              <a:ext cx="109656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 Unicode MS"/>
                </a:rPr>
                <a:t>Friend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Rectangle 6"/>
            <p:cNvSpPr/>
            <p:nvPr/>
          </p:nvSpPr>
          <p:spPr>
            <a:xfrm>
              <a:off x="5976720" y="3346200"/>
              <a:ext cx="118044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 Unicode MS"/>
                </a:rPr>
                <a:t>Roma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Rectangle 7"/>
            <p:cNvSpPr/>
            <p:nvPr/>
          </p:nvSpPr>
          <p:spPr>
            <a:xfrm>
              <a:off x="7319160" y="3346200"/>
              <a:ext cx="170640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 Unicode MS"/>
                </a:rPr>
                <a:t>Countryme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" name="Text Box 8"/>
          <p:cNvSpPr/>
          <p:nvPr/>
        </p:nvSpPr>
        <p:spPr>
          <a:xfrm>
            <a:off x="457200" y="274680"/>
            <a:ext cx="822960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Создание инвертированного индекс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Group 9"/>
          <p:cNvGrpSpPr/>
          <p:nvPr/>
        </p:nvGrpSpPr>
        <p:grpSpPr>
          <a:xfrm>
            <a:off x="761400" y="3799440"/>
            <a:ext cx="8268120" cy="1689120"/>
            <a:chOff x="761400" y="3799440"/>
            <a:chExt cx="8268120" cy="1689120"/>
          </a:xfrm>
        </p:grpSpPr>
        <p:sp>
          <p:nvSpPr>
            <p:cNvPr id="196" name="AutoShape 10"/>
            <p:cNvSpPr/>
            <p:nvPr/>
          </p:nvSpPr>
          <p:spPr>
            <a:xfrm>
              <a:off x="2666880" y="3799440"/>
              <a:ext cx="2894040" cy="891000"/>
            </a:xfrm>
            <a:prstGeom prst="flowChartAlternateProcess">
              <a:avLst/>
            </a:prstGeom>
            <a:solidFill>
              <a:srgbClr val="ff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Linguistic modul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AutoShape 11"/>
            <p:cNvSpPr/>
            <p:nvPr/>
          </p:nvSpPr>
          <p:spPr>
            <a:xfrm>
              <a:off x="3962520" y="4648320"/>
              <a:ext cx="303120" cy="531720"/>
            </a:xfrm>
            <a:prstGeom prst="downArrow">
              <a:avLst>
                <a:gd name="adj1" fmla="val 50000"/>
                <a:gd name="adj2" fmla="val 43854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Text Box 12"/>
            <p:cNvSpPr/>
            <p:nvPr/>
          </p:nvSpPr>
          <p:spPr>
            <a:xfrm>
              <a:off x="761400" y="4784760"/>
              <a:ext cx="22489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Модифицирован-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ные токен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Rectangle 13"/>
            <p:cNvSpPr/>
            <p:nvPr/>
          </p:nvSpPr>
          <p:spPr>
            <a:xfrm>
              <a:off x="4913640" y="4555800"/>
              <a:ext cx="91080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 Unicode MS"/>
                </a:rPr>
                <a:t>frien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Rectangle 14"/>
            <p:cNvSpPr/>
            <p:nvPr/>
          </p:nvSpPr>
          <p:spPr>
            <a:xfrm>
              <a:off x="6122160" y="4565160"/>
              <a:ext cx="96084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 Unicode MS"/>
                </a:rPr>
                <a:t>roma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Rectangle 15"/>
            <p:cNvSpPr/>
            <p:nvPr/>
          </p:nvSpPr>
          <p:spPr>
            <a:xfrm>
              <a:off x="7390440" y="4565160"/>
              <a:ext cx="163908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 Unicode MS"/>
                </a:rPr>
                <a:t>countryma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Group 16"/>
          <p:cNvGrpSpPr/>
          <p:nvPr/>
        </p:nvGrpSpPr>
        <p:grpSpPr>
          <a:xfrm>
            <a:off x="761400" y="5172120"/>
            <a:ext cx="8328600" cy="1602720"/>
            <a:chOff x="761400" y="5172120"/>
            <a:chExt cx="8328600" cy="1602720"/>
          </a:xfrm>
        </p:grpSpPr>
        <p:sp>
          <p:nvSpPr>
            <p:cNvPr id="203" name="AutoShape 17"/>
            <p:cNvSpPr/>
            <p:nvPr/>
          </p:nvSpPr>
          <p:spPr>
            <a:xfrm>
              <a:off x="3397680" y="5173200"/>
              <a:ext cx="1396080" cy="496440"/>
            </a:xfrm>
            <a:prstGeom prst="flowChartAlternateProcess">
              <a:avLst/>
            </a:prstGeom>
            <a:solidFill>
              <a:srgbClr val="ff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Index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AutoShape 18"/>
            <p:cNvSpPr/>
            <p:nvPr/>
          </p:nvSpPr>
          <p:spPr>
            <a:xfrm>
              <a:off x="3962520" y="5705640"/>
              <a:ext cx="303120" cy="455400"/>
            </a:xfrm>
            <a:prstGeom prst="downArrow">
              <a:avLst>
                <a:gd name="adj1" fmla="val 50000"/>
                <a:gd name="adj2" fmla="val 37559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Text Box 19"/>
            <p:cNvSpPr/>
            <p:nvPr/>
          </p:nvSpPr>
          <p:spPr>
            <a:xfrm>
              <a:off x="761400" y="5918040"/>
              <a:ext cx="19666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Инвертирован-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ный индекс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6" name="Group 20"/>
            <p:cNvGrpSpPr/>
            <p:nvPr/>
          </p:nvGrpSpPr>
          <p:grpSpPr>
            <a:xfrm>
              <a:off x="4843440" y="5172120"/>
              <a:ext cx="4246560" cy="1602720"/>
              <a:chOff x="4843440" y="5172120"/>
              <a:chExt cx="4246560" cy="1602720"/>
            </a:xfrm>
          </p:grpSpPr>
          <p:grpSp>
            <p:nvGrpSpPr>
              <p:cNvPr id="207" name="Group 21"/>
              <p:cNvGrpSpPr/>
              <p:nvPr/>
            </p:nvGrpSpPr>
            <p:grpSpPr>
              <a:xfrm>
                <a:off x="4843440" y="5248440"/>
                <a:ext cx="2774880" cy="1526400"/>
                <a:chOff x="4843440" y="5248440"/>
                <a:chExt cx="2774880" cy="1526400"/>
              </a:xfrm>
            </p:grpSpPr>
            <p:sp>
              <p:nvSpPr>
                <p:cNvPr id="208" name="Text Box 22"/>
                <p:cNvSpPr/>
                <p:nvPr/>
              </p:nvSpPr>
              <p:spPr>
                <a:xfrm>
                  <a:off x="4849560" y="5248440"/>
                  <a:ext cx="929160" cy="4597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000000"/>
                      </a:solidFill>
                      <a:latin typeface="Calibri"/>
                      <a:ea typeface="Arial Unicode MS"/>
                    </a:rPr>
                    <a:t>friend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Text Box 23"/>
                <p:cNvSpPr/>
                <p:nvPr/>
              </p:nvSpPr>
              <p:spPr>
                <a:xfrm>
                  <a:off x="4843440" y="5781600"/>
                  <a:ext cx="1014480" cy="4597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000000"/>
                      </a:solidFill>
                      <a:latin typeface="Calibri"/>
                      <a:ea typeface="Arial Unicode MS"/>
                    </a:rPr>
                    <a:t>roman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" name="Text Box 24"/>
                <p:cNvSpPr/>
                <p:nvPr/>
              </p:nvSpPr>
              <p:spPr>
                <a:xfrm>
                  <a:off x="4845960" y="6315120"/>
                  <a:ext cx="1707840" cy="4597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000000"/>
                      </a:solidFill>
                      <a:latin typeface="Calibri"/>
                      <a:ea typeface="Arial Unicode MS"/>
                    </a:rPr>
                    <a:t>countryman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" name="AutoShape 25"/>
                <p:cNvSpPr/>
                <p:nvPr/>
              </p:nvSpPr>
              <p:spPr>
                <a:xfrm>
                  <a:off x="6477120" y="5324400"/>
                  <a:ext cx="1141200" cy="227160"/>
                </a:xfrm>
                <a:custGeom>
                  <a:avLst/>
                  <a:gdLst>
                    <a:gd name="textAreaLeft" fmla="*/ 177840 w 1141200"/>
                    <a:gd name="textAreaRight" fmla="*/ 998640 w 1141200"/>
                    <a:gd name="textAreaTop" fmla="*/ 57240 h 227160"/>
                    <a:gd name="textAreaBottom" fmla="*/ 169920 h 2271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6200" y="0"/>
                      </a:moveTo>
                      <a:lnTo>
                        <a:pt x="16200" y="5400"/>
                      </a:lnTo>
                      <a:lnTo>
                        <a:pt x="3375" y="5400"/>
                      </a:lnTo>
                      <a:lnTo>
                        <a:pt x="3375" y="16200"/>
                      </a:lnTo>
                      <a:lnTo>
                        <a:pt x="16200" y="16200"/>
                      </a:lnTo>
                      <a:lnTo>
                        <a:pt x="16200" y="21600"/>
                      </a:lnTo>
                      <a:lnTo>
                        <a:pt x="21600" y="10800"/>
                      </a:lnTo>
                      <a:close/>
                    </a:path>
                    <a:path w="21600" h="21600">
                      <a:moveTo>
                        <a:pt x="1350" y="5400"/>
                      </a:moveTo>
                      <a:lnTo>
                        <a:pt x="1350" y="16200"/>
                      </a:lnTo>
                      <a:lnTo>
                        <a:pt x="2700" y="16200"/>
                      </a:lnTo>
                      <a:lnTo>
                        <a:pt x="2700" y="5400"/>
                      </a:lnTo>
                      <a:close/>
                    </a:path>
                    <a:path w="21600" h="21600">
                      <a:moveTo>
                        <a:pt x="0" y="5400"/>
                      </a:moveTo>
                      <a:lnTo>
                        <a:pt x="0" y="16200"/>
                      </a:lnTo>
                      <a:lnTo>
                        <a:pt x="675" y="16200"/>
                      </a:lnTo>
                      <a:lnTo>
                        <a:pt x="675" y="540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AutoShape 26"/>
                <p:cNvSpPr/>
                <p:nvPr/>
              </p:nvSpPr>
              <p:spPr>
                <a:xfrm>
                  <a:off x="6477120" y="5857920"/>
                  <a:ext cx="1141200" cy="226800"/>
                </a:xfrm>
                <a:custGeom>
                  <a:avLst/>
                  <a:gdLst>
                    <a:gd name="textAreaLeft" fmla="*/ 177840 w 1141200"/>
                    <a:gd name="textAreaRight" fmla="*/ 998640 w 1141200"/>
                    <a:gd name="textAreaTop" fmla="*/ 56880 h 226800"/>
                    <a:gd name="textAreaBottom" fmla="*/ 169920 h 2268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6200" y="0"/>
                      </a:moveTo>
                      <a:lnTo>
                        <a:pt x="16200" y="5400"/>
                      </a:lnTo>
                      <a:lnTo>
                        <a:pt x="3375" y="5400"/>
                      </a:lnTo>
                      <a:lnTo>
                        <a:pt x="3375" y="16200"/>
                      </a:lnTo>
                      <a:lnTo>
                        <a:pt x="16200" y="16200"/>
                      </a:lnTo>
                      <a:lnTo>
                        <a:pt x="16200" y="21600"/>
                      </a:lnTo>
                      <a:lnTo>
                        <a:pt x="21600" y="10800"/>
                      </a:lnTo>
                      <a:close/>
                    </a:path>
                    <a:path w="21600" h="21600">
                      <a:moveTo>
                        <a:pt x="1350" y="5400"/>
                      </a:moveTo>
                      <a:lnTo>
                        <a:pt x="1350" y="16200"/>
                      </a:lnTo>
                      <a:lnTo>
                        <a:pt x="2700" y="16200"/>
                      </a:lnTo>
                      <a:lnTo>
                        <a:pt x="2700" y="5400"/>
                      </a:lnTo>
                      <a:close/>
                    </a:path>
                    <a:path w="21600" h="21600">
                      <a:moveTo>
                        <a:pt x="0" y="5400"/>
                      </a:moveTo>
                      <a:lnTo>
                        <a:pt x="0" y="16200"/>
                      </a:lnTo>
                      <a:lnTo>
                        <a:pt x="675" y="16200"/>
                      </a:lnTo>
                      <a:lnTo>
                        <a:pt x="675" y="540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AutoShape 27"/>
                <p:cNvSpPr/>
                <p:nvPr/>
              </p:nvSpPr>
              <p:spPr>
                <a:xfrm>
                  <a:off x="6477120" y="6391440"/>
                  <a:ext cx="1141200" cy="226800"/>
                </a:xfrm>
                <a:custGeom>
                  <a:avLst/>
                  <a:gdLst>
                    <a:gd name="textAreaLeft" fmla="*/ 177840 w 1141200"/>
                    <a:gd name="textAreaRight" fmla="*/ 998640 w 1141200"/>
                    <a:gd name="textAreaTop" fmla="*/ 56880 h 226800"/>
                    <a:gd name="textAreaBottom" fmla="*/ 169920 h 2268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6200" y="0"/>
                      </a:moveTo>
                      <a:lnTo>
                        <a:pt x="16200" y="5400"/>
                      </a:lnTo>
                      <a:lnTo>
                        <a:pt x="3375" y="5400"/>
                      </a:lnTo>
                      <a:lnTo>
                        <a:pt x="3375" y="16200"/>
                      </a:lnTo>
                      <a:lnTo>
                        <a:pt x="16200" y="16200"/>
                      </a:lnTo>
                      <a:lnTo>
                        <a:pt x="16200" y="21600"/>
                      </a:lnTo>
                      <a:lnTo>
                        <a:pt x="21600" y="10800"/>
                      </a:lnTo>
                      <a:close/>
                    </a:path>
                    <a:path w="21600" h="21600">
                      <a:moveTo>
                        <a:pt x="1350" y="5400"/>
                      </a:moveTo>
                      <a:lnTo>
                        <a:pt x="1350" y="16200"/>
                      </a:lnTo>
                      <a:lnTo>
                        <a:pt x="2700" y="16200"/>
                      </a:lnTo>
                      <a:lnTo>
                        <a:pt x="2700" y="5400"/>
                      </a:lnTo>
                      <a:close/>
                    </a:path>
                    <a:path w="21600" h="21600">
                      <a:moveTo>
                        <a:pt x="0" y="5400"/>
                      </a:moveTo>
                      <a:lnTo>
                        <a:pt x="0" y="16200"/>
                      </a:lnTo>
                      <a:lnTo>
                        <a:pt x="675" y="16200"/>
                      </a:lnTo>
                      <a:lnTo>
                        <a:pt x="675" y="540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4" name="Text Box 28"/>
              <p:cNvSpPr/>
              <p:nvPr/>
            </p:nvSpPr>
            <p:spPr>
              <a:xfrm>
                <a:off x="7766280" y="5172120"/>
                <a:ext cx="354600" cy="4597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Lucida Sans"/>
                    <a:ea typeface="Arial Unicode MS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Text Box 29"/>
              <p:cNvSpPr/>
              <p:nvPr/>
            </p:nvSpPr>
            <p:spPr>
              <a:xfrm>
                <a:off x="8413920" y="5172120"/>
                <a:ext cx="354600" cy="4597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Lucida Sans"/>
                    <a:ea typeface="Arial Unicode MS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Text Box 30"/>
              <p:cNvSpPr/>
              <p:nvPr/>
            </p:nvSpPr>
            <p:spPr>
              <a:xfrm>
                <a:off x="8434800" y="5705640"/>
                <a:ext cx="354600" cy="4597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Lucida Sans"/>
                    <a:ea typeface="Arial Unicode MS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Text Box 31"/>
              <p:cNvSpPr/>
              <p:nvPr/>
            </p:nvSpPr>
            <p:spPr>
              <a:xfrm>
                <a:off x="7696080" y="6248520"/>
                <a:ext cx="608040" cy="4597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Lucida Sans"/>
                    <a:ea typeface="Arial Unicode MS"/>
                  </a:rPr>
                  <a:t>1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Text Box 32"/>
              <p:cNvSpPr/>
              <p:nvPr/>
            </p:nvSpPr>
            <p:spPr>
              <a:xfrm>
                <a:off x="8558280" y="6238800"/>
                <a:ext cx="528120" cy="4597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Lucida Sans"/>
                    <a:ea typeface="Arial Unicode MS"/>
                  </a:rPr>
                  <a:t>16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19" name="AutoShape 33"/>
              <p:cNvCxnSpPr>
                <a:stCxn id="214" idx="3"/>
                <a:endCxn id="215" idx="1"/>
              </p:cNvCxnSpPr>
              <p:nvPr/>
            </p:nvCxnSpPr>
            <p:spPr>
              <a:xfrm>
                <a:off x="8115480" y="5405040"/>
                <a:ext cx="2829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220" name="AutoShape 34"/>
              <p:cNvCxnSpPr>
                <a:stCxn id="215" idx="3"/>
              </p:cNvCxnSpPr>
              <p:nvPr/>
            </p:nvCxnSpPr>
            <p:spPr>
              <a:xfrm>
                <a:off x="8784720" y="5405040"/>
                <a:ext cx="30564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221" name="Text Box 35"/>
              <p:cNvSpPr/>
              <p:nvPr/>
            </p:nvSpPr>
            <p:spPr>
              <a:xfrm>
                <a:off x="7787160" y="5705640"/>
                <a:ext cx="354600" cy="4597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Lucida Sans"/>
                    <a:ea typeface="Arial Unicode MS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22" name="AutoShape 36"/>
              <p:cNvCxnSpPr>
                <a:stCxn id="221" idx="3"/>
                <a:endCxn id="216" idx="1"/>
              </p:cNvCxnSpPr>
              <p:nvPr/>
            </p:nvCxnSpPr>
            <p:spPr>
              <a:xfrm>
                <a:off x="8135640" y="5938560"/>
                <a:ext cx="2833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223" name="AutoShape 37"/>
              <p:cNvCxnSpPr>
                <a:stCxn id="216" idx="3"/>
              </p:cNvCxnSpPr>
              <p:nvPr/>
            </p:nvCxnSpPr>
            <p:spPr>
              <a:xfrm>
                <a:off x="8805600" y="5938560"/>
                <a:ext cx="2833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224" name="AutoShape 38"/>
              <p:cNvCxnSpPr>
                <a:stCxn id="217" idx="3"/>
                <a:endCxn id="218" idx="1"/>
              </p:cNvCxnSpPr>
              <p:nvPr/>
            </p:nvCxnSpPr>
            <p:spPr>
              <a:xfrm flipV="1">
                <a:off x="8305920" y="6470280"/>
                <a:ext cx="227520" cy="8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</p:grpSp>
      <p:grpSp>
        <p:nvGrpSpPr>
          <p:cNvPr id="225" name="Group 39"/>
          <p:cNvGrpSpPr/>
          <p:nvPr/>
        </p:nvGrpSpPr>
        <p:grpSpPr>
          <a:xfrm>
            <a:off x="3451320" y="1752480"/>
            <a:ext cx="1195200" cy="405000"/>
            <a:chOff x="3451320" y="1752480"/>
            <a:chExt cx="1195200" cy="405000"/>
          </a:xfrm>
        </p:grpSpPr>
        <p:pic>
          <p:nvPicPr>
            <p:cNvPr id="226" name="Picture 40" descr=""/>
            <p:cNvPicPr/>
            <p:nvPr/>
          </p:nvPicPr>
          <p:blipFill>
            <a:blip r:embed="rId1"/>
            <a:stretch/>
          </p:blipFill>
          <p:spPr>
            <a:xfrm>
              <a:off x="3451320" y="1752480"/>
              <a:ext cx="315720" cy="270000"/>
            </a:xfrm>
            <a:prstGeom prst="rect">
              <a:avLst/>
            </a:prstGeom>
            <a:ln w="9360">
              <a:solidFill>
                <a:srgbClr val="eeece1"/>
              </a:solidFill>
              <a:miter/>
            </a:ln>
          </p:spPr>
        </p:pic>
        <p:pic>
          <p:nvPicPr>
            <p:cNvPr id="227" name="Picture 41" descr=""/>
            <p:cNvPicPr/>
            <p:nvPr/>
          </p:nvPicPr>
          <p:blipFill>
            <a:blip r:embed="rId2"/>
            <a:stretch/>
          </p:blipFill>
          <p:spPr>
            <a:xfrm>
              <a:off x="3654360" y="1819440"/>
              <a:ext cx="316080" cy="269640"/>
            </a:xfrm>
            <a:prstGeom prst="rect">
              <a:avLst/>
            </a:prstGeom>
            <a:ln w="9360">
              <a:solidFill>
                <a:srgbClr val="eeece1"/>
              </a:solidFill>
              <a:miter/>
            </a:ln>
          </p:spPr>
        </p:pic>
        <p:pic>
          <p:nvPicPr>
            <p:cNvPr id="228" name="Picture 42" descr=""/>
            <p:cNvPicPr/>
            <p:nvPr/>
          </p:nvPicPr>
          <p:blipFill>
            <a:blip r:embed="rId3"/>
            <a:stretch/>
          </p:blipFill>
          <p:spPr>
            <a:xfrm>
              <a:off x="3924360" y="1887480"/>
              <a:ext cx="315720" cy="270000"/>
            </a:xfrm>
            <a:prstGeom prst="rect">
              <a:avLst/>
            </a:prstGeom>
            <a:ln w="9360">
              <a:solidFill>
                <a:srgbClr val="eeece1"/>
              </a:solidFill>
              <a:miter/>
            </a:ln>
          </p:spPr>
        </p:pic>
        <p:pic>
          <p:nvPicPr>
            <p:cNvPr id="229" name="Picture 43" descr=""/>
            <p:cNvPicPr/>
            <p:nvPr/>
          </p:nvPicPr>
          <p:blipFill>
            <a:blip r:embed="rId4"/>
            <a:stretch/>
          </p:blipFill>
          <p:spPr>
            <a:xfrm>
              <a:off x="4195800" y="1819440"/>
              <a:ext cx="315720" cy="269640"/>
            </a:xfrm>
            <a:prstGeom prst="rect">
              <a:avLst/>
            </a:prstGeom>
            <a:ln w="9360">
              <a:solidFill>
                <a:srgbClr val="eeece1"/>
              </a:solidFill>
              <a:miter/>
            </a:ln>
          </p:spPr>
        </p:pic>
        <p:pic>
          <p:nvPicPr>
            <p:cNvPr id="230" name="Picture 44" descr=""/>
            <p:cNvPicPr/>
            <p:nvPr/>
          </p:nvPicPr>
          <p:blipFill>
            <a:blip r:embed="rId5"/>
            <a:stretch/>
          </p:blipFill>
          <p:spPr>
            <a:xfrm>
              <a:off x="4394160" y="1752480"/>
              <a:ext cx="252360" cy="260640"/>
            </a:xfrm>
            <a:prstGeom prst="rect">
              <a:avLst/>
            </a:prstGeom>
            <a:ln w="9360">
              <a:solidFill>
                <a:srgbClr val="eeece1"/>
              </a:solidFill>
              <a:miter/>
            </a:ln>
          </p:spPr>
        </p:pic>
      </p:grpSp>
      <p:sp>
        <p:nvSpPr>
          <p:cNvPr id="231" name="AutoShape 45"/>
          <p:cNvSpPr/>
          <p:nvPr/>
        </p:nvSpPr>
        <p:spPr>
          <a:xfrm>
            <a:off x="3962520" y="2209680"/>
            <a:ext cx="304560" cy="533520"/>
          </a:xfrm>
          <a:prstGeom prst="downArrow">
            <a:avLst>
              <a:gd name="adj1" fmla="val 50000"/>
              <a:gd name="adj2" fmla="val 43794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46"/>
          <p:cNvSpPr/>
          <p:nvPr/>
        </p:nvSpPr>
        <p:spPr>
          <a:xfrm>
            <a:off x="757080" y="1700280"/>
            <a:ext cx="211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Документы дл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индексиро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47"/>
          <p:cNvSpPr/>
          <p:nvPr/>
        </p:nvSpPr>
        <p:spPr>
          <a:xfrm>
            <a:off x="4943160" y="1751400"/>
            <a:ext cx="39358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Friends, Romans, countrym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Oval 48"/>
          <p:cNvSpPr/>
          <p:nvPr/>
        </p:nvSpPr>
        <p:spPr>
          <a:xfrm>
            <a:off x="6858000" y="22860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Oval 49"/>
          <p:cNvSpPr/>
          <p:nvPr/>
        </p:nvSpPr>
        <p:spPr>
          <a:xfrm>
            <a:off x="6858000" y="24382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Oval 50"/>
          <p:cNvSpPr/>
          <p:nvPr/>
        </p:nvSpPr>
        <p:spPr>
          <a:xfrm>
            <a:off x="6858000" y="25909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51"/>
          <p:cNvSpPr/>
          <p:nvPr/>
        </p:nvSpPr>
        <p:spPr>
          <a:xfrm>
            <a:off x="7654680" y="-33840"/>
            <a:ext cx="89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  <a:ea typeface="Arial Unicode MS"/>
              </a:rPr>
              <a:t>Sec. 1.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Text Box 1"/>
          <p:cNvSpPr/>
          <p:nvPr/>
        </p:nvSpPr>
        <p:spPr>
          <a:xfrm>
            <a:off x="457200" y="-85680"/>
            <a:ext cx="83628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Шаги индексатор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следовательность токен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2"/>
          <p:cNvSpPr/>
          <p:nvPr/>
        </p:nvSpPr>
        <p:spPr>
          <a:xfrm>
            <a:off x="457200" y="1741320"/>
            <a:ext cx="6781680" cy="8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оследовательность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ар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Токен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, DocID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3"/>
          <p:cNvSpPr/>
          <p:nvPr/>
        </p:nvSpPr>
        <p:spPr>
          <a:xfrm>
            <a:off x="270000" y="4327560"/>
            <a:ext cx="2509560" cy="1557000"/>
          </a:xfrm>
          <a:prstGeom prst="rect">
            <a:avLst/>
          </a:prstGeom>
          <a:solidFill>
            <a:srgbClr val="4f81b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 Unicode MS"/>
              </a:rPr>
              <a:t>I did enact Juli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 Unicode MS"/>
              </a:rPr>
              <a:t>Caesar I was kill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 Unicode MS"/>
              </a:rPr>
              <a:t>i' the Capitol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 Unicode MS"/>
              </a:rPr>
              <a:t>Brutus killed 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4"/>
          <p:cNvSpPr/>
          <p:nvPr/>
        </p:nvSpPr>
        <p:spPr>
          <a:xfrm>
            <a:off x="1314720" y="3581280"/>
            <a:ext cx="88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 Unicode MS"/>
              </a:rPr>
              <a:t>Doc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5"/>
          <p:cNvSpPr/>
          <p:nvPr/>
        </p:nvSpPr>
        <p:spPr>
          <a:xfrm>
            <a:off x="3332520" y="4403880"/>
            <a:ext cx="2863080" cy="1557000"/>
          </a:xfrm>
          <a:prstGeom prst="rect">
            <a:avLst/>
          </a:prstGeom>
          <a:solidFill>
            <a:srgbClr val="4f81b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 Unicode MS"/>
              </a:rPr>
              <a:t>So let it be wi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 Unicode MS"/>
              </a:rPr>
              <a:t>Caesar. The no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 Unicode MS"/>
              </a:rPr>
              <a:t>Brutus hath told yo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 Unicode MS"/>
              </a:rPr>
              <a:t>Caesar was ambiti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6"/>
          <p:cNvSpPr/>
          <p:nvPr/>
        </p:nvSpPr>
        <p:spPr>
          <a:xfrm>
            <a:off x="3907080" y="3581280"/>
            <a:ext cx="88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 Unicode MS"/>
              </a:rPr>
              <a:t>Doc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4" name="Object 2"/>
          <p:cNvGraphicFramePr/>
          <p:nvPr/>
        </p:nvGraphicFramePr>
        <p:xfrm>
          <a:off x="7327800" y="1782720"/>
          <a:ext cx="1319400" cy="4929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27800" y="1782720"/>
                    <a:ext cx="1319400" cy="492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6" name="Line 8"/>
          <p:cNvSpPr/>
          <p:nvPr/>
        </p:nvSpPr>
        <p:spPr>
          <a:xfrm>
            <a:off x="5867280" y="3886200"/>
            <a:ext cx="1371600" cy="1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9"/>
          <p:cNvSpPr/>
          <p:nvPr/>
        </p:nvSpPr>
        <p:spPr>
          <a:xfrm>
            <a:off x="7654680" y="-33840"/>
            <a:ext cx="89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  <a:ea typeface="Arial Unicode MS"/>
              </a:rPr>
              <a:t>Sec. 1.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Text Box 1"/>
          <p:cNvSpPr/>
          <p:nvPr/>
        </p:nvSpPr>
        <p:spPr>
          <a:xfrm>
            <a:off x="457200" y="274680"/>
            <a:ext cx="822960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Шаги индексатор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ртиров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2"/>
          <p:cNvSpPr/>
          <p:nvPr/>
        </p:nvSpPr>
        <p:spPr>
          <a:xfrm>
            <a:off x="457200" y="1671480"/>
            <a:ext cx="457200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Сортировка по токенам и затем DocId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0" name="Object 2"/>
          <p:cNvGraphicFramePr/>
          <p:nvPr/>
        </p:nvGraphicFramePr>
        <p:xfrm>
          <a:off x="7562880" y="1782720"/>
          <a:ext cx="1217520" cy="4923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5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62880" y="1782720"/>
                    <a:ext cx="1217520" cy="492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2" name="Line 4"/>
          <p:cNvSpPr/>
          <p:nvPr/>
        </p:nvSpPr>
        <p:spPr>
          <a:xfrm>
            <a:off x="7162920" y="3886200"/>
            <a:ext cx="380880" cy="1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3" name="Object 3"/>
          <p:cNvGraphicFramePr/>
          <p:nvPr/>
        </p:nvGraphicFramePr>
        <p:xfrm>
          <a:off x="5880240" y="1733400"/>
          <a:ext cx="1352520" cy="50454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54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80240" y="1733400"/>
                    <a:ext cx="1352520" cy="504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5" name="AutoShape 6"/>
          <p:cNvSpPr/>
          <p:nvPr/>
        </p:nvSpPr>
        <p:spPr>
          <a:xfrm>
            <a:off x="1033560" y="2827440"/>
            <a:ext cx="2703240" cy="1237680"/>
          </a:xfrm>
          <a:prstGeom prst="upArrowCallout">
            <a:avLst>
              <a:gd name="adj1" fmla="val 61221"/>
              <a:gd name="adj2" fmla="val 61226"/>
              <a:gd name="adj3" fmla="val 16667"/>
              <a:gd name="adj4" fmla="val 66660"/>
            </a:avLst>
          </a:prstGeom>
          <a:solidFill>
            <a:srgbClr val="83ad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Основной ша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индексир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7"/>
          <p:cNvSpPr/>
          <p:nvPr/>
        </p:nvSpPr>
        <p:spPr>
          <a:xfrm>
            <a:off x="7654680" y="-33840"/>
            <a:ext cx="89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  <a:ea typeface="Arial Unicode MS"/>
              </a:rPr>
              <a:t>Sec. 1.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Text Box 1"/>
          <p:cNvSpPr/>
          <p:nvPr/>
        </p:nvSpPr>
        <p:spPr>
          <a:xfrm>
            <a:off x="380880" y="-50760"/>
            <a:ext cx="8229600" cy="103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Шаги индексатор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en-US" sz="6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ловарь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&amp;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пис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2"/>
          <p:cNvSpPr/>
          <p:nvPr/>
        </p:nvSpPr>
        <p:spPr>
          <a:xfrm>
            <a:off x="228600" y="1125360"/>
            <a:ext cx="3335400" cy="38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хождения токена в документе склеиваю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членяются на словарь и запис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бавляется информация о подокументной частотности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3"/>
          <p:cNvSpPr/>
          <p:nvPr/>
        </p:nvSpPr>
        <p:spPr>
          <a:xfrm>
            <a:off x="5334120" y="3657600"/>
            <a:ext cx="685800" cy="1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0" name="Object 2"/>
          <p:cNvGraphicFramePr/>
          <p:nvPr/>
        </p:nvGraphicFramePr>
        <p:xfrm>
          <a:off x="3962520" y="1827360"/>
          <a:ext cx="1217520" cy="4921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6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62520" y="1827360"/>
                    <a:ext cx="1217520" cy="492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2" name="Text Box 5"/>
          <p:cNvSpPr/>
          <p:nvPr/>
        </p:nvSpPr>
        <p:spPr>
          <a:xfrm>
            <a:off x="7654680" y="-33840"/>
            <a:ext cx="89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  <a:ea typeface="Arial Unicode MS"/>
              </a:rPr>
              <a:t>Sec. 1.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Picture 6" descr=""/>
          <p:cNvPicPr/>
          <p:nvPr/>
        </p:nvPicPr>
        <p:blipFill>
          <a:blip r:embed="rId3"/>
          <a:stretch/>
        </p:blipFill>
        <p:spPr>
          <a:xfrm>
            <a:off x="6172200" y="1600200"/>
            <a:ext cx="2801880" cy="510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Text Box 1"/>
          <p:cNvSpPr/>
          <p:nvPr/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бработка запроса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: 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2"/>
          <p:cNvSpPr/>
          <p:nvPr/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прос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Brutu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AND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Caes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Найти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Brutu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в словар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Извлечь все его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ci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Найти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Caesa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в словар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Извлечь все его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ci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Merge”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(пересечь)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ocid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3"/>
          <p:cNvSpPr/>
          <p:nvPr/>
        </p:nvSpPr>
        <p:spPr>
          <a:xfrm>
            <a:off x="655308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B0F12-30BE-47B3-BC4A-9934A7B16F96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4"/>
          <p:cNvSpPr/>
          <p:nvPr/>
        </p:nvSpPr>
        <p:spPr>
          <a:xfrm>
            <a:off x="6879960" y="5019840"/>
            <a:ext cx="7020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2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5"/>
          <p:cNvSpPr/>
          <p:nvPr/>
        </p:nvSpPr>
        <p:spPr>
          <a:xfrm>
            <a:off x="7187040" y="5553000"/>
            <a:ext cx="5281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3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9" name="Group 6"/>
          <p:cNvGrpSpPr/>
          <p:nvPr/>
        </p:nvGrpSpPr>
        <p:grpSpPr>
          <a:xfrm>
            <a:off x="2517120" y="5019840"/>
            <a:ext cx="641880" cy="459720"/>
            <a:chOff x="2517120" y="5019840"/>
            <a:chExt cx="641880" cy="459720"/>
          </a:xfrm>
        </p:grpSpPr>
        <p:sp>
          <p:nvSpPr>
            <p:cNvPr id="270" name="Text Box 7"/>
            <p:cNvSpPr/>
            <p:nvPr/>
          </p:nvSpPr>
          <p:spPr>
            <a:xfrm>
              <a:off x="2517120" y="5019840"/>
              <a:ext cx="35460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71" name="AutoShape 8"/>
            <p:cNvCxnSpPr>
              <a:stCxn id="270" idx="3"/>
              <a:endCxn id="272" idx="1"/>
            </p:cNvCxnSpPr>
            <p:nvPr/>
          </p:nvCxnSpPr>
          <p:spPr>
            <a:xfrm>
              <a:off x="2877120" y="5252760"/>
              <a:ext cx="2822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3" name="Group 9"/>
          <p:cNvGrpSpPr/>
          <p:nvPr/>
        </p:nvGrpSpPr>
        <p:grpSpPr>
          <a:xfrm>
            <a:off x="3164760" y="5019840"/>
            <a:ext cx="664200" cy="459720"/>
            <a:chOff x="3164760" y="5019840"/>
            <a:chExt cx="664200" cy="459720"/>
          </a:xfrm>
        </p:grpSpPr>
        <p:sp>
          <p:nvSpPr>
            <p:cNvPr id="272" name="Text Box 10"/>
            <p:cNvSpPr/>
            <p:nvPr/>
          </p:nvSpPr>
          <p:spPr>
            <a:xfrm>
              <a:off x="3164760" y="5019840"/>
              <a:ext cx="35460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74" name="AutoShape 11"/>
            <p:cNvCxnSpPr>
              <a:stCxn id="272" idx="3"/>
              <a:endCxn id="275" idx="1"/>
            </p:cNvCxnSpPr>
            <p:nvPr/>
          </p:nvCxnSpPr>
          <p:spPr>
            <a:xfrm>
              <a:off x="3524760" y="5252760"/>
              <a:ext cx="3045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6" name="Group 12"/>
          <p:cNvGrpSpPr/>
          <p:nvPr/>
        </p:nvGrpSpPr>
        <p:grpSpPr>
          <a:xfrm>
            <a:off x="3832920" y="5019840"/>
            <a:ext cx="605880" cy="459720"/>
            <a:chOff x="3832920" y="5019840"/>
            <a:chExt cx="605880" cy="459720"/>
          </a:xfrm>
        </p:grpSpPr>
        <p:sp>
          <p:nvSpPr>
            <p:cNvPr id="275" name="Text Box 13"/>
            <p:cNvSpPr/>
            <p:nvPr/>
          </p:nvSpPr>
          <p:spPr>
            <a:xfrm>
              <a:off x="3832920" y="5019840"/>
              <a:ext cx="35460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77" name="AutoShape 14"/>
            <p:cNvCxnSpPr>
              <a:stCxn id="275" idx="3"/>
              <a:endCxn id="278" idx="1"/>
            </p:cNvCxnSpPr>
            <p:nvPr/>
          </p:nvCxnSpPr>
          <p:spPr>
            <a:xfrm>
              <a:off x="4192920" y="5252760"/>
              <a:ext cx="2462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9" name="Group 15"/>
          <p:cNvGrpSpPr/>
          <p:nvPr/>
        </p:nvGrpSpPr>
        <p:grpSpPr>
          <a:xfrm>
            <a:off x="4443480" y="5019840"/>
            <a:ext cx="758520" cy="459720"/>
            <a:chOff x="4443480" y="5019840"/>
            <a:chExt cx="758520" cy="459720"/>
          </a:xfrm>
        </p:grpSpPr>
        <p:sp>
          <p:nvSpPr>
            <p:cNvPr id="278" name="Text Box 16"/>
            <p:cNvSpPr/>
            <p:nvPr/>
          </p:nvSpPr>
          <p:spPr>
            <a:xfrm>
              <a:off x="4443480" y="5019840"/>
              <a:ext cx="52812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1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0" name="AutoShape 17"/>
            <p:cNvCxnSpPr>
              <a:stCxn id="278" idx="3"/>
              <a:endCxn id="281" idx="1"/>
            </p:cNvCxnSpPr>
            <p:nvPr/>
          </p:nvCxnSpPr>
          <p:spPr>
            <a:xfrm>
              <a:off x="4974480" y="5252760"/>
              <a:ext cx="2278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2" name="Group 18"/>
          <p:cNvGrpSpPr/>
          <p:nvPr/>
        </p:nvGrpSpPr>
        <p:grpSpPr>
          <a:xfrm>
            <a:off x="5202720" y="5019840"/>
            <a:ext cx="835920" cy="459720"/>
            <a:chOff x="5202720" y="5019840"/>
            <a:chExt cx="835920" cy="459720"/>
          </a:xfrm>
        </p:grpSpPr>
        <p:sp>
          <p:nvSpPr>
            <p:cNvPr id="281" name="Text Box 19"/>
            <p:cNvSpPr/>
            <p:nvPr/>
          </p:nvSpPr>
          <p:spPr>
            <a:xfrm>
              <a:off x="5202720" y="5019840"/>
              <a:ext cx="52812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3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3" name="AutoShape 20"/>
            <p:cNvCxnSpPr>
              <a:stCxn id="281" idx="3"/>
              <a:endCxn id="284" idx="1"/>
            </p:cNvCxnSpPr>
            <p:nvPr/>
          </p:nvCxnSpPr>
          <p:spPr>
            <a:xfrm>
              <a:off x="5734080" y="5252760"/>
              <a:ext cx="3049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5" name="Group 21"/>
          <p:cNvGrpSpPr/>
          <p:nvPr/>
        </p:nvGrpSpPr>
        <p:grpSpPr>
          <a:xfrm>
            <a:off x="6043680" y="5019840"/>
            <a:ext cx="834480" cy="459720"/>
            <a:chOff x="6043680" y="5019840"/>
            <a:chExt cx="834480" cy="459720"/>
          </a:xfrm>
        </p:grpSpPr>
        <p:sp>
          <p:nvSpPr>
            <p:cNvPr id="284" name="Text Box 22"/>
            <p:cNvSpPr/>
            <p:nvPr/>
          </p:nvSpPr>
          <p:spPr>
            <a:xfrm>
              <a:off x="6043680" y="5019840"/>
              <a:ext cx="52812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6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6" name="AutoShape 23"/>
            <p:cNvCxnSpPr>
              <a:stCxn id="284" idx="3"/>
              <a:endCxn id="267" idx="1"/>
            </p:cNvCxnSpPr>
            <p:nvPr/>
          </p:nvCxnSpPr>
          <p:spPr>
            <a:xfrm>
              <a:off x="6574320" y="5252760"/>
              <a:ext cx="3042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7" name="Group 24"/>
          <p:cNvGrpSpPr/>
          <p:nvPr/>
        </p:nvGrpSpPr>
        <p:grpSpPr>
          <a:xfrm>
            <a:off x="2537640" y="5553000"/>
            <a:ext cx="641880" cy="459720"/>
            <a:chOff x="2537640" y="5553000"/>
            <a:chExt cx="641880" cy="459720"/>
          </a:xfrm>
        </p:grpSpPr>
        <p:sp>
          <p:nvSpPr>
            <p:cNvPr id="288" name="Text Box 25"/>
            <p:cNvSpPr/>
            <p:nvPr/>
          </p:nvSpPr>
          <p:spPr>
            <a:xfrm>
              <a:off x="2537640" y="5553000"/>
              <a:ext cx="35460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9" name="AutoShape 26"/>
            <p:cNvCxnSpPr>
              <a:stCxn id="288" idx="3"/>
              <a:endCxn id="290" idx="1"/>
            </p:cNvCxnSpPr>
            <p:nvPr/>
          </p:nvCxnSpPr>
          <p:spPr>
            <a:xfrm>
              <a:off x="2897280" y="5785920"/>
              <a:ext cx="2826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91" name="Group 27"/>
          <p:cNvGrpSpPr/>
          <p:nvPr/>
        </p:nvGrpSpPr>
        <p:grpSpPr>
          <a:xfrm>
            <a:off x="3185280" y="5553000"/>
            <a:ext cx="643320" cy="459720"/>
            <a:chOff x="3185280" y="5553000"/>
            <a:chExt cx="643320" cy="459720"/>
          </a:xfrm>
        </p:grpSpPr>
        <p:sp>
          <p:nvSpPr>
            <p:cNvPr id="290" name="Text Box 28"/>
            <p:cNvSpPr/>
            <p:nvPr/>
          </p:nvSpPr>
          <p:spPr>
            <a:xfrm>
              <a:off x="3185280" y="5553000"/>
              <a:ext cx="35460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2" name="AutoShape 29"/>
            <p:cNvCxnSpPr>
              <a:stCxn id="290" idx="3"/>
              <a:endCxn id="293" idx="1"/>
            </p:cNvCxnSpPr>
            <p:nvPr/>
          </p:nvCxnSpPr>
          <p:spPr>
            <a:xfrm>
              <a:off x="3544920" y="5785920"/>
              <a:ext cx="284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94" name="Group 30"/>
          <p:cNvGrpSpPr/>
          <p:nvPr/>
        </p:nvGrpSpPr>
        <p:grpSpPr>
          <a:xfrm>
            <a:off x="3833640" y="5553000"/>
            <a:ext cx="625680" cy="459720"/>
            <a:chOff x="3833640" y="5553000"/>
            <a:chExt cx="625680" cy="459720"/>
          </a:xfrm>
        </p:grpSpPr>
        <p:sp>
          <p:nvSpPr>
            <p:cNvPr id="293" name="Text Box 31"/>
            <p:cNvSpPr/>
            <p:nvPr/>
          </p:nvSpPr>
          <p:spPr>
            <a:xfrm>
              <a:off x="3833640" y="5553000"/>
              <a:ext cx="35460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5" name="AutoShape 32"/>
            <p:cNvCxnSpPr>
              <a:stCxn id="293" idx="3"/>
              <a:endCxn id="296" idx="1"/>
            </p:cNvCxnSpPr>
            <p:nvPr/>
          </p:nvCxnSpPr>
          <p:spPr>
            <a:xfrm>
              <a:off x="4193640" y="5785920"/>
              <a:ext cx="266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97" name="Group 33"/>
          <p:cNvGrpSpPr/>
          <p:nvPr/>
        </p:nvGrpSpPr>
        <p:grpSpPr>
          <a:xfrm>
            <a:off x="4463280" y="5553000"/>
            <a:ext cx="602280" cy="459720"/>
            <a:chOff x="4463280" y="5553000"/>
            <a:chExt cx="602280" cy="459720"/>
          </a:xfrm>
        </p:grpSpPr>
        <p:sp>
          <p:nvSpPr>
            <p:cNvPr id="296" name="Text Box 34"/>
            <p:cNvSpPr/>
            <p:nvPr/>
          </p:nvSpPr>
          <p:spPr>
            <a:xfrm>
              <a:off x="4463280" y="5553000"/>
              <a:ext cx="35460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8" name="AutoShape 35"/>
            <p:cNvCxnSpPr>
              <a:stCxn id="296" idx="3"/>
              <a:endCxn id="299" idx="1"/>
            </p:cNvCxnSpPr>
            <p:nvPr/>
          </p:nvCxnSpPr>
          <p:spPr>
            <a:xfrm>
              <a:off x="4823280" y="5785920"/>
              <a:ext cx="2426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300" name="Group 36"/>
          <p:cNvGrpSpPr/>
          <p:nvPr/>
        </p:nvGrpSpPr>
        <p:grpSpPr>
          <a:xfrm>
            <a:off x="5070240" y="5553000"/>
            <a:ext cx="587880" cy="459720"/>
            <a:chOff x="5070240" y="5553000"/>
            <a:chExt cx="587880" cy="459720"/>
          </a:xfrm>
        </p:grpSpPr>
        <p:sp>
          <p:nvSpPr>
            <p:cNvPr id="299" name="Text Box 37"/>
            <p:cNvSpPr/>
            <p:nvPr/>
          </p:nvSpPr>
          <p:spPr>
            <a:xfrm>
              <a:off x="5070240" y="5553000"/>
              <a:ext cx="35460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01" name="AutoShape 38"/>
            <p:cNvCxnSpPr>
              <a:stCxn id="299" idx="3"/>
              <a:endCxn id="302" idx="1"/>
            </p:cNvCxnSpPr>
            <p:nvPr/>
          </p:nvCxnSpPr>
          <p:spPr>
            <a:xfrm>
              <a:off x="5430960" y="5785920"/>
              <a:ext cx="2275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303" name="Group 39"/>
          <p:cNvGrpSpPr/>
          <p:nvPr/>
        </p:nvGrpSpPr>
        <p:grpSpPr>
          <a:xfrm>
            <a:off x="5659560" y="5553000"/>
            <a:ext cx="760320" cy="459720"/>
            <a:chOff x="5659560" y="5553000"/>
            <a:chExt cx="760320" cy="459720"/>
          </a:xfrm>
        </p:grpSpPr>
        <p:sp>
          <p:nvSpPr>
            <p:cNvPr id="302" name="Text Box 40"/>
            <p:cNvSpPr/>
            <p:nvPr/>
          </p:nvSpPr>
          <p:spPr>
            <a:xfrm>
              <a:off x="5659560" y="5553000"/>
              <a:ext cx="53172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04" name="AutoShape 41"/>
            <p:cNvCxnSpPr>
              <a:stCxn id="302" idx="3"/>
              <a:endCxn id="305" idx="1"/>
            </p:cNvCxnSpPr>
            <p:nvPr/>
          </p:nvCxnSpPr>
          <p:spPr>
            <a:xfrm>
              <a:off x="6192360" y="5785920"/>
              <a:ext cx="2278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306" name="Group 42"/>
          <p:cNvGrpSpPr/>
          <p:nvPr/>
        </p:nvGrpSpPr>
        <p:grpSpPr>
          <a:xfrm>
            <a:off x="6422760" y="5553000"/>
            <a:ext cx="759240" cy="459720"/>
            <a:chOff x="6422760" y="5553000"/>
            <a:chExt cx="759240" cy="459720"/>
          </a:xfrm>
        </p:grpSpPr>
        <p:sp>
          <p:nvSpPr>
            <p:cNvPr id="305" name="Text Box 43"/>
            <p:cNvSpPr/>
            <p:nvPr/>
          </p:nvSpPr>
          <p:spPr>
            <a:xfrm>
              <a:off x="6422760" y="5553000"/>
              <a:ext cx="52812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2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07" name="AutoShape 44"/>
            <p:cNvCxnSpPr>
              <a:stCxn id="305" idx="3"/>
              <a:endCxn id="268" idx="1"/>
            </p:cNvCxnSpPr>
            <p:nvPr/>
          </p:nvCxnSpPr>
          <p:spPr>
            <a:xfrm>
              <a:off x="6954480" y="5785920"/>
              <a:ext cx="2278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308" name="Text Box 45"/>
          <p:cNvSpPr/>
          <p:nvPr/>
        </p:nvSpPr>
        <p:spPr>
          <a:xfrm>
            <a:off x="7737840" y="5038560"/>
            <a:ext cx="113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rut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46"/>
          <p:cNvSpPr/>
          <p:nvPr/>
        </p:nvSpPr>
        <p:spPr>
          <a:xfrm>
            <a:off x="7771680" y="5495760"/>
            <a:ext cx="117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aes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AutoShape 47"/>
          <p:cNvSpPr/>
          <p:nvPr/>
        </p:nvSpPr>
        <p:spPr>
          <a:xfrm rot="10800000">
            <a:off x="1463760" y="5306760"/>
            <a:ext cx="976320" cy="485640"/>
          </a:xfrm>
          <a:custGeom>
            <a:avLst/>
            <a:gdLst>
              <a:gd name="textAreaLeft" fmla="*/ 122040 w 976320"/>
              <a:gd name="textAreaRight" fmla="*/ 854280 w 97632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c050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48"/>
          <p:cNvSpPr/>
          <p:nvPr/>
        </p:nvSpPr>
        <p:spPr>
          <a:xfrm>
            <a:off x="7654680" y="-33840"/>
            <a:ext cx="89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  <a:ea typeface="Arial Unicode MS"/>
              </a:rPr>
              <a:t>Sec. 1.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Text Box 1"/>
          <p:cNvSpPr/>
          <p:nvPr/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ересечение списк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2"/>
          <p:cNvSpPr/>
          <p:nvPr/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дновременный проход по спискам документов по времени линейный от количества элементов в списк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3"/>
          <p:cNvSpPr/>
          <p:nvPr/>
        </p:nvSpPr>
        <p:spPr>
          <a:xfrm>
            <a:off x="655308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3129E-9FE6-4CBD-B1ED-DB03C22E80F9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5" name="Group 4"/>
          <p:cNvGrpSpPr/>
          <p:nvPr/>
        </p:nvGrpSpPr>
        <p:grpSpPr>
          <a:xfrm>
            <a:off x="2516760" y="3429000"/>
            <a:ext cx="5195520" cy="1002600"/>
            <a:chOff x="2516760" y="3429000"/>
            <a:chExt cx="5195520" cy="1002600"/>
          </a:xfrm>
        </p:grpSpPr>
        <p:sp>
          <p:nvSpPr>
            <p:cNvPr id="316" name="Text Box 5"/>
            <p:cNvSpPr/>
            <p:nvPr/>
          </p:nvSpPr>
          <p:spPr>
            <a:xfrm>
              <a:off x="7184160" y="3962520"/>
              <a:ext cx="528120" cy="459720"/>
            </a:xfrm>
            <a:prstGeom prst="rect">
              <a:avLst/>
            </a:prstGeom>
            <a:noFill/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b2b2b2"/>
                  </a:solidFill>
                  <a:latin typeface="Arial Unicode MS"/>
                  <a:ea typeface="Arial Unicode MS"/>
                </a:rPr>
                <a:t>3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7" name="Group 6"/>
            <p:cNvGrpSpPr/>
            <p:nvPr/>
          </p:nvGrpSpPr>
          <p:grpSpPr>
            <a:xfrm>
              <a:off x="2516760" y="3429000"/>
              <a:ext cx="5040720" cy="468720"/>
              <a:chOff x="2516760" y="3429000"/>
              <a:chExt cx="5040720" cy="468720"/>
            </a:xfrm>
          </p:grpSpPr>
          <p:sp>
            <p:nvSpPr>
              <p:cNvPr id="318" name="Text Box 7"/>
              <p:cNvSpPr/>
              <p:nvPr/>
            </p:nvSpPr>
            <p:spPr>
              <a:xfrm>
                <a:off x="6855480" y="3429000"/>
                <a:ext cx="702000" cy="459720"/>
              </a:xfrm>
              <a:prstGeom prst="rect">
                <a:avLst/>
              </a:prstGeom>
              <a:noFill/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b2b2b2"/>
                    </a:solidFill>
                    <a:latin typeface="Arial Unicode MS"/>
                    <a:ea typeface="Arial Unicode MS"/>
                  </a:rPr>
                  <a:t>128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19" name="Group 8"/>
              <p:cNvGrpSpPr/>
              <p:nvPr/>
            </p:nvGrpSpPr>
            <p:grpSpPr>
              <a:xfrm>
                <a:off x="2516760" y="3429000"/>
                <a:ext cx="641160" cy="459720"/>
                <a:chOff x="2516760" y="3429000"/>
                <a:chExt cx="641160" cy="459720"/>
              </a:xfrm>
            </p:grpSpPr>
            <p:sp>
              <p:nvSpPr>
                <p:cNvPr id="320" name="Text Box 9"/>
                <p:cNvSpPr/>
                <p:nvPr/>
              </p:nvSpPr>
              <p:spPr>
                <a:xfrm>
                  <a:off x="2516760" y="3429000"/>
                  <a:ext cx="354600" cy="459720"/>
                </a:xfrm>
                <a:prstGeom prst="rect">
                  <a:avLst/>
                </a:prstGeom>
                <a:noFill/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b2b2b2"/>
                      </a:solidFill>
                      <a:latin typeface="Arial Unicode MS"/>
                      <a:ea typeface="Arial Unicode MS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cxnSp>
              <p:nvCxnSpPr>
                <p:cNvPr id="321" name="AutoShape 10"/>
                <p:cNvCxnSpPr>
                  <a:stCxn id="320" idx="3"/>
                  <a:endCxn id="322" idx="1"/>
                </p:cNvCxnSpPr>
                <p:nvPr/>
              </p:nvCxnSpPr>
              <p:spPr>
                <a:xfrm>
                  <a:off x="2876400" y="3660840"/>
                  <a:ext cx="281880" cy="1080"/>
                </a:xfrm>
                <a:prstGeom prst="straightConnector1">
                  <a:avLst/>
                </a:prstGeom>
                <a:ln w="9360">
                  <a:solidFill>
                    <a:srgbClr val="c0c0c0"/>
                  </a:solidFill>
                  <a:miter/>
                  <a:tailEnd len="med" type="triangle" w="med"/>
                </a:ln>
              </p:spPr>
            </p:cxnSp>
          </p:grpSp>
          <p:grpSp>
            <p:nvGrpSpPr>
              <p:cNvPr id="323" name="Group 11"/>
              <p:cNvGrpSpPr/>
              <p:nvPr/>
            </p:nvGrpSpPr>
            <p:grpSpPr>
              <a:xfrm>
                <a:off x="3164040" y="3429000"/>
                <a:ext cx="663120" cy="459720"/>
                <a:chOff x="3164040" y="3429000"/>
                <a:chExt cx="663120" cy="459720"/>
              </a:xfrm>
            </p:grpSpPr>
            <p:sp>
              <p:nvSpPr>
                <p:cNvPr id="322" name="Text Box 12"/>
                <p:cNvSpPr/>
                <p:nvPr/>
              </p:nvSpPr>
              <p:spPr>
                <a:xfrm>
                  <a:off x="3164040" y="3429000"/>
                  <a:ext cx="354600" cy="459720"/>
                </a:xfrm>
                <a:prstGeom prst="rect">
                  <a:avLst/>
                </a:prstGeom>
                <a:noFill/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b2b2b2"/>
                      </a:solidFill>
                      <a:latin typeface="Arial Unicode MS"/>
                      <a:ea typeface="Arial Unicode MS"/>
                    </a:rPr>
                    <a:t>4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cxnSp>
              <p:nvCxnSpPr>
                <p:cNvPr id="324" name="AutoShape 13"/>
                <p:cNvCxnSpPr>
                  <a:stCxn id="322" idx="3"/>
                  <a:endCxn id="325" idx="1"/>
                </p:cNvCxnSpPr>
                <p:nvPr/>
              </p:nvCxnSpPr>
              <p:spPr>
                <a:xfrm>
                  <a:off x="3523320" y="3660840"/>
                  <a:ext cx="304200" cy="1080"/>
                </a:xfrm>
                <a:prstGeom prst="straightConnector1">
                  <a:avLst/>
                </a:prstGeom>
                <a:ln w="9360">
                  <a:solidFill>
                    <a:srgbClr val="c0c0c0"/>
                  </a:solidFill>
                  <a:miter/>
                  <a:tailEnd len="med" type="triangle" w="med"/>
                </a:ln>
              </p:spPr>
            </p:cxnSp>
          </p:grpSp>
          <p:grpSp>
            <p:nvGrpSpPr>
              <p:cNvPr id="326" name="Group 14"/>
              <p:cNvGrpSpPr/>
              <p:nvPr/>
            </p:nvGrpSpPr>
            <p:grpSpPr>
              <a:xfrm>
                <a:off x="3831840" y="3429000"/>
                <a:ext cx="604800" cy="459720"/>
                <a:chOff x="3831840" y="3429000"/>
                <a:chExt cx="604800" cy="459720"/>
              </a:xfrm>
            </p:grpSpPr>
            <p:sp>
              <p:nvSpPr>
                <p:cNvPr id="325" name="Text Box 15"/>
                <p:cNvSpPr/>
                <p:nvPr/>
              </p:nvSpPr>
              <p:spPr>
                <a:xfrm>
                  <a:off x="3831840" y="3429000"/>
                  <a:ext cx="354600" cy="459720"/>
                </a:xfrm>
                <a:prstGeom prst="rect">
                  <a:avLst/>
                </a:prstGeom>
                <a:noFill/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b2b2b2"/>
                      </a:solidFill>
                      <a:latin typeface="Arial Unicode MS"/>
                      <a:ea typeface="Arial Unicode MS"/>
                    </a:rPr>
                    <a:t>8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cxnSp>
              <p:nvCxnSpPr>
                <p:cNvPr id="327" name="AutoShape 16"/>
                <p:cNvCxnSpPr>
                  <a:stCxn id="325" idx="3"/>
                  <a:endCxn id="328" idx="1"/>
                </p:cNvCxnSpPr>
                <p:nvPr/>
              </p:nvCxnSpPr>
              <p:spPr>
                <a:xfrm>
                  <a:off x="4191120" y="3660840"/>
                  <a:ext cx="245880" cy="1080"/>
                </a:xfrm>
                <a:prstGeom prst="straightConnector1">
                  <a:avLst/>
                </a:prstGeom>
                <a:ln w="9360">
                  <a:solidFill>
                    <a:srgbClr val="c0c0c0"/>
                  </a:solidFill>
                  <a:miter/>
                  <a:tailEnd len="med" type="triangle" w="med"/>
                </a:ln>
              </p:spPr>
            </p:cxnSp>
          </p:grpSp>
          <p:grpSp>
            <p:nvGrpSpPr>
              <p:cNvPr id="329" name="Group 17"/>
              <p:cNvGrpSpPr/>
              <p:nvPr/>
            </p:nvGrpSpPr>
            <p:grpSpPr>
              <a:xfrm>
                <a:off x="4442040" y="3429000"/>
                <a:ext cx="758160" cy="459720"/>
                <a:chOff x="4442040" y="3429000"/>
                <a:chExt cx="758160" cy="459720"/>
              </a:xfrm>
            </p:grpSpPr>
            <p:sp>
              <p:nvSpPr>
                <p:cNvPr id="328" name="Text Box 18"/>
                <p:cNvSpPr/>
                <p:nvPr/>
              </p:nvSpPr>
              <p:spPr>
                <a:xfrm>
                  <a:off x="4442040" y="3429000"/>
                  <a:ext cx="528120" cy="459720"/>
                </a:xfrm>
                <a:prstGeom prst="rect">
                  <a:avLst/>
                </a:prstGeom>
                <a:noFill/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b2b2b2"/>
                      </a:solidFill>
                      <a:latin typeface="Arial Unicode MS"/>
                      <a:ea typeface="Arial Unicode MS"/>
                    </a:rPr>
                    <a:t>16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cxnSp>
              <p:nvCxnSpPr>
                <p:cNvPr id="330" name="AutoShape 19"/>
                <p:cNvCxnSpPr>
                  <a:stCxn id="328" idx="3"/>
                  <a:endCxn id="331" idx="1"/>
                </p:cNvCxnSpPr>
                <p:nvPr/>
              </p:nvCxnSpPr>
              <p:spPr>
                <a:xfrm>
                  <a:off x="4973040" y="3660840"/>
                  <a:ext cx="227520" cy="1080"/>
                </a:xfrm>
                <a:prstGeom prst="straightConnector1">
                  <a:avLst/>
                </a:prstGeom>
                <a:ln w="9360">
                  <a:solidFill>
                    <a:srgbClr val="c0c0c0"/>
                  </a:solidFill>
                  <a:miter/>
                  <a:tailEnd len="med" type="triangle" w="med"/>
                </a:ln>
              </p:spPr>
            </p:cxnSp>
          </p:grpSp>
          <p:grpSp>
            <p:nvGrpSpPr>
              <p:cNvPr id="332" name="Group 20"/>
              <p:cNvGrpSpPr/>
              <p:nvPr/>
            </p:nvGrpSpPr>
            <p:grpSpPr>
              <a:xfrm>
                <a:off x="5200920" y="3438000"/>
                <a:ext cx="835560" cy="459720"/>
                <a:chOff x="5200920" y="3438000"/>
                <a:chExt cx="835560" cy="459720"/>
              </a:xfrm>
            </p:grpSpPr>
            <p:sp>
              <p:nvSpPr>
                <p:cNvPr id="331" name="Text Box 21"/>
                <p:cNvSpPr/>
                <p:nvPr/>
              </p:nvSpPr>
              <p:spPr>
                <a:xfrm>
                  <a:off x="5200920" y="3438000"/>
                  <a:ext cx="528120" cy="459720"/>
                </a:xfrm>
                <a:prstGeom prst="rect">
                  <a:avLst/>
                </a:prstGeom>
                <a:noFill/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b2b2b2"/>
                      </a:solidFill>
                      <a:latin typeface="Arial Unicode MS"/>
                      <a:ea typeface="Arial Unicode MS"/>
                    </a:rPr>
                    <a:t>32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cxnSp>
              <p:nvCxnSpPr>
                <p:cNvPr id="333" name="AutoShape 22"/>
                <p:cNvCxnSpPr>
                  <a:stCxn id="331" idx="3"/>
                  <a:endCxn id="334" idx="1"/>
                </p:cNvCxnSpPr>
                <p:nvPr/>
              </p:nvCxnSpPr>
              <p:spPr>
                <a:xfrm>
                  <a:off x="5732280" y="3670200"/>
                  <a:ext cx="304560" cy="1080"/>
                </a:xfrm>
                <a:prstGeom prst="straightConnector1">
                  <a:avLst/>
                </a:prstGeom>
                <a:ln w="9360">
                  <a:solidFill>
                    <a:srgbClr val="c0c0c0"/>
                  </a:solidFill>
                  <a:miter/>
                  <a:tailEnd len="med" type="triangle" w="med"/>
                </a:ln>
              </p:spPr>
            </p:cxnSp>
          </p:grpSp>
          <p:grpSp>
            <p:nvGrpSpPr>
              <p:cNvPr id="335" name="Group 23"/>
              <p:cNvGrpSpPr/>
              <p:nvPr/>
            </p:nvGrpSpPr>
            <p:grpSpPr>
              <a:xfrm>
                <a:off x="6040800" y="3438000"/>
                <a:ext cx="834480" cy="459720"/>
                <a:chOff x="6040800" y="3438000"/>
                <a:chExt cx="834480" cy="459720"/>
              </a:xfrm>
            </p:grpSpPr>
            <p:sp>
              <p:nvSpPr>
                <p:cNvPr id="334" name="Text Box 24"/>
                <p:cNvSpPr/>
                <p:nvPr/>
              </p:nvSpPr>
              <p:spPr>
                <a:xfrm>
                  <a:off x="6040800" y="3438000"/>
                  <a:ext cx="528120" cy="459720"/>
                </a:xfrm>
                <a:prstGeom prst="rect">
                  <a:avLst/>
                </a:prstGeom>
                <a:noFill/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b2b2b2"/>
                      </a:solidFill>
                      <a:latin typeface="Arial Unicode MS"/>
                      <a:ea typeface="Arial Unicode MS"/>
                    </a:rPr>
                    <a:t>64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cxnSp>
              <p:nvCxnSpPr>
                <p:cNvPr id="336" name="AutoShape 25"/>
                <p:cNvCxnSpPr>
                  <a:stCxn id="334" idx="3"/>
                  <a:endCxn id="318" idx="1"/>
                </p:cNvCxnSpPr>
                <p:nvPr/>
              </p:nvCxnSpPr>
              <p:spPr>
                <a:xfrm>
                  <a:off x="6571800" y="3670200"/>
                  <a:ext cx="303840" cy="1080"/>
                </a:xfrm>
                <a:prstGeom prst="straightConnector1">
                  <a:avLst/>
                </a:prstGeom>
                <a:ln w="9360">
                  <a:solidFill>
                    <a:srgbClr val="c0c0c0"/>
                  </a:solidFill>
                  <a:miter/>
                  <a:tailEnd len="med" type="triangle" w="med"/>
                </a:ln>
              </p:spPr>
            </p:cxnSp>
          </p:grpSp>
        </p:grpSp>
        <p:grpSp>
          <p:nvGrpSpPr>
            <p:cNvPr id="337" name="Group 26"/>
            <p:cNvGrpSpPr/>
            <p:nvPr/>
          </p:nvGrpSpPr>
          <p:grpSpPr>
            <a:xfrm>
              <a:off x="2537280" y="3962520"/>
              <a:ext cx="641880" cy="459720"/>
              <a:chOff x="2537280" y="3962520"/>
              <a:chExt cx="641880" cy="459720"/>
            </a:xfrm>
          </p:grpSpPr>
          <p:sp>
            <p:nvSpPr>
              <p:cNvPr id="338" name="Text Box 27"/>
              <p:cNvSpPr/>
              <p:nvPr/>
            </p:nvSpPr>
            <p:spPr>
              <a:xfrm>
                <a:off x="2537280" y="3962520"/>
                <a:ext cx="354600" cy="459720"/>
              </a:xfrm>
              <a:prstGeom prst="rect">
                <a:avLst/>
              </a:prstGeom>
              <a:noFill/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b2b2b2"/>
                    </a:solidFill>
                    <a:latin typeface="Arial Unicode MS"/>
                    <a:ea typeface="Arial Unicode MS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339" name="AutoShape 28"/>
              <p:cNvCxnSpPr>
                <a:stCxn id="338" idx="3"/>
                <a:endCxn id="340" idx="1"/>
              </p:cNvCxnSpPr>
              <p:nvPr/>
            </p:nvCxnSpPr>
            <p:spPr>
              <a:xfrm>
                <a:off x="2897280" y="4195440"/>
                <a:ext cx="282240" cy="1080"/>
              </a:xfrm>
              <a:prstGeom prst="straightConnector1">
                <a:avLst/>
              </a:prstGeom>
              <a:ln w="9360">
                <a:solidFill>
                  <a:srgbClr val="c0c0c0"/>
                </a:solidFill>
                <a:miter/>
                <a:tailEnd len="med" type="triangle" w="med"/>
              </a:ln>
            </p:spPr>
          </p:cxnSp>
        </p:grpSp>
        <p:grpSp>
          <p:nvGrpSpPr>
            <p:cNvPr id="341" name="Group 29"/>
            <p:cNvGrpSpPr/>
            <p:nvPr/>
          </p:nvGrpSpPr>
          <p:grpSpPr>
            <a:xfrm>
              <a:off x="3184920" y="3962520"/>
              <a:ext cx="642960" cy="459720"/>
              <a:chOff x="3184920" y="3962520"/>
              <a:chExt cx="642960" cy="459720"/>
            </a:xfrm>
          </p:grpSpPr>
          <p:sp>
            <p:nvSpPr>
              <p:cNvPr id="340" name="Text Box 30"/>
              <p:cNvSpPr/>
              <p:nvPr/>
            </p:nvSpPr>
            <p:spPr>
              <a:xfrm>
                <a:off x="3184920" y="3962520"/>
                <a:ext cx="354600" cy="459720"/>
              </a:xfrm>
              <a:prstGeom prst="rect">
                <a:avLst/>
              </a:prstGeom>
              <a:noFill/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b2b2b2"/>
                    </a:solidFill>
                    <a:latin typeface="Arial Unicode MS"/>
                    <a:ea typeface="Arial Unicode MS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342" name="AutoShape 31"/>
              <p:cNvCxnSpPr>
                <a:stCxn id="340" idx="3"/>
                <a:endCxn id="343" idx="1"/>
              </p:cNvCxnSpPr>
              <p:nvPr/>
            </p:nvCxnSpPr>
            <p:spPr>
              <a:xfrm>
                <a:off x="3544200" y="4195440"/>
                <a:ext cx="284040" cy="1080"/>
              </a:xfrm>
              <a:prstGeom prst="straightConnector1">
                <a:avLst/>
              </a:prstGeom>
              <a:ln w="9360">
                <a:solidFill>
                  <a:srgbClr val="c0c0c0"/>
                </a:solidFill>
                <a:miter/>
                <a:tailEnd len="med" type="triangle" w="med"/>
              </a:ln>
            </p:spPr>
          </p:cxnSp>
        </p:grpSp>
        <p:grpSp>
          <p:nvGrpSpPr>
            <p:cNvPr id="344" name="Group 32"/>
            <p:cNvGrpSpPr/>
            <p:nvPr/>
          </p:nvGrpSpPr>
          <p:grpSpPr>
            <a:xfrm>
              <a:off x="3832560" y="3971880"/>
              <a:ext cx="625680" cy="459720"/>
              <a:chOff x="3832560" y="3971880"/>
              <a:chExt cx="625680" cy="459720"/>
            </a:xfrm>
          </p:grpSpPr>
          <p:sp>
            <p:nvSpPr>
              <p:cNvPr id="343" name="Text Box 33"/>
              <p:cNvSpPr/>
              <p:nvPr/>
            </p:nvSpPr>
            <p:spPr>
              <a:xfrm>
                <a:off x="3832560" y="3971880"/>
                <a:ext cx="354600" cy="459720"/>
              </a:xfrm>
              <a:prstGeom prst="rect">
                <a:avLst/>
              </a:prstGeom>
              <a:noFill/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b2b2b2"/>
                    </a:solidFill>
                    <a:latin typeface="Arial Unicode MS"/>
                    <a:ea typeface="Arial Unicode MS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345" name="AutoShape 34"/>
              <p:cNvCxnSpPr>
                <a:stCxn id="343" idx="3"/>
                <a:endCxn id="346" idx="1"/>
              </p:cNvCxnSpPr>
              <p:nvPr/>
            </p:nvCxnSpPr>
            <p:spPr>
              <a:xfrm>
                <a:off x="4192920" y="4204800"/>
                <a:ext cx="265680" cy="1080"/>
              </a:xfrm>
              <a:prstGeom prst="straightConnector1">
                <a:avLst/>
              </a:prstGeom>
              <a:ln w="9360">
                <a:solidFill>
                  <a:srgbClr val="c0c0c0"/>
                </a:solidFill>
                <a:miter/>
                <a:tailEnd len="med" type="triangle" w="med"/>
              </a:ln>
            </p:spPr>
          </p:cxnSp>
        </p:grpSp>
        <p:grpSp>
          <p:nvGrpSpPr>
            <p:cNvPr id="347" name="Group 35"/>
            <p:cNvGrpSpPr/>
            <p:nvPr/>
          </p:nvGrpSpPr>
          <p:grpSpPr>
            <a:xfrm>
              <a:off x="4462560" y="3962520"/>
              <a:ext cx="601920" cy="459720"/>
              <a:chOff x="4462560" y="3962520"/>
              <a:chExt cx="601920" cy="459720"/>
            </a:xfrm>
          </p:grpSpPr>
          <p:sp>
            <p:nvSpPr>
              <p:cNvPr id="346" name="Text Box 36"/>
              <p:cNvSpPr/>
              <p:nvPr/>
            </p:nvSpPr>
            <p:spPr>
              <a:xfrm>
                <a:off x="4462560" y="3962520"/>
                <a:ext cx="354600" cy="459720"/>
              </a:xfrm>
              <a:prstGeom prst="rect">
                <a:avLst/>
              </a:prstGeom>
              <a:noFill/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b2b2b2"/>
                    </a:solidFill>
                    <a:latin typeface="Arial Unicode MS"/>
                    <a:ea typeface="Arial Unicode MS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348" name="AutoShape 37"/>
              <p:cNvCxnSpPr>
                <a:stCxn id="346" idx="3"/>
                <a:endCxn id="349" idx="1"/>
              </p:cNvCxnSpPr>
              <p:nvPr/>
            </p:nvCxnSpPr>
            <p:spPr>
              <a:xfrm>
                <a:off x="4822200" y="4195440"/>
                <a:ext cx="242640" cy="1080"/>
              </a:xfrm>
              <a:prstGeom prst="straightConnector1">
                <a:avLst/>
              </a:prstGeom>
              <a:ln w="9360">
                <a:solidFill>
                  <a:srgbClr val="c0c0c0"/>
                </a:solidFill>
                <a:miter/>
                <a:tailEnd len="med" type="triangle" w="med"/>
              </a:ln>
            </p:spPr>
          </p:cxnSp>
        </p:grpSp>
        <p:grpSp>
          <p:nvGrpSpPr>
            <p:cNvPr id="350" name="Group 38"/>
            <p:cNvGrpSpPr/>
            <p:nvPr/>
          </p:nvGrpSpPr>
          <p:grpSpPr>
            <a:xfrm>
              <a:off x="5068800" y="3962520"/>
              <a:ext cx="587160" cy="459720"/>
              <a:chOff x="5068800" y="3962520"/>
              <a:chExt cx="587160" cy="459720"/>
            </a:xfrm>
          </p:grpSpPr>
          <p:sp>
            <p:nvSpPr>
              <p:cNvPr id="349" name="Text Box 39"/>
              <p:cNvSpPr/>
              <p:nvPr/>
            </p:nvSpPr>
            <p:spPr>
              <a:xfrm>
                <a:off x="5068800" y="3962520"/>
                <a:ext cx="354600" cy="459720"/>
              </a:xfrm>
              <a:prstGeom prst="rect">
                <a:avLst/>
              </a:prstGeom>
              <a:noFill/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b2b2b2"/>
                    </a:solidFill>
                    <a:latin typeface="Arial Unicode MS"/>
                    <a:ea typeface="Arial Unicode MS"/>
                  </a:rPr>
                  <a:t>8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351" name="AutoShape 40"/>
              <p:cNvCxnSpPr>
                <a:stCxn id="349" idx="3"/>
                <a:endCxn id="352" idx="1"/>
              </p:cNvCxnSpPr>
              <p:nvPr/>
            </p:nvCxnSpPr>
            <p:spPr>
              <a:xfrm>
                <a:off x="5429160" y="4195440"/>
                <a:ext cx="227160" cy="1080"/>
              </a:xfrm>
              <a:prstGeom prst="straightConnector1">
                <a:avLst/>
              </a:prstGeom>
              <a:ln w="9360">
                <a:solidFill>
                  <a:srgbClr val="c0c0c0"/>
                </a:solidFill>
                <a:miter/>
                <a:tailEnd len="med" type="triangle" w="med"/>
              </a:ln>
            </p:spPr>
          </p:cxnSp>
        </p:grpSp>
        <p:sp>
          <p:nvSpPr>
            <p:cNvPr id="352" name="Text Box 41"/>
            <p:cNvSpPr/>
            <p:nvPr/>
          </p:nvSpPr>
          <p:spPr>
            <a:xfrm>
              <a:off x="5658120" y="3962520"/>
              <a:ext cx="586800" cy="459720"/>
            </a:xfrm>
            <a:prstGeom prst="rect">
              <a:avLst/>
            </a:prstGeom>
            <a:noFill/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b2b2b2"/>
                  </a:solidFill>
                  <a:latin typeface="Arial Unicode MS"/>
                  <a:ea typeface="Arial Unicode MS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53" name="AutoShape 42"/>
            <p:cNvCxnSpPr>
              <a:stCxn id="352" idx="3"/>
              <a:endCxn id="354" idx="1"/>
            </p:cNvCxnSpPr>
            <p:nvPr/>
          </p:nvCxnSpPr>
          <p:spPr>
            <a:xfrm>
              <a:off x="6246720" y="4195440"/>
              <a:ext cx="171360" cy="1080"/>
            </a:xfrm>
            <a:prstGeom prst="straightConnector1">
              <a:avLst/>
            </a:prstGeom>
            <a:ln w="9360">
              <a:solidFill>
                <a:srgbClr val="c0c0c0"/>
              </a:solidFill>
              <a:miter/>
              <a:tailEnd len="med" type="triangle" w="med"/>
            </a:ln>
          </p:spPr>
        </p:cxnSp>
        <p:grpSp>
          <p:nvGrpSpPr>
            <p:cNvPr id="355" name="Group 43"/>
            <p:cNvGrpSpPr/>
            <p:nvPr/>
          </p:nvGrpSpPr>
          <p:grpSpPr>
            <a:xfrm>
              <a:off x="6420960" y="3962520"/>
              <a:ext cx="759240" cy="459720"/>
              <a:chOff x="6420960" y="3962520"/>
              <a:chExt cx="759240" cy="459720"/>
            </a:xfrm>
          </p:grpSpPr>
          <p:sp>
            <p:nvSpPr>
              <p:cNvPr id="354" name="Text Box 44"/>
              <p:cNvSpPr/>
              <p:nvPr/>
            </p:nvSpPr>
            <p:spPr>
              <a:xfrm>
                <a:off x="6420960" y="3962520"/>
                <a:ext cx="528120" cy="459720"/>
              </a:xfrm>
              <a:prstGeom prst="rect">
                <a:avLst/>
              </a:prstGeom>
              <a:noFill/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b2b2b2"/>
                    </a:solidFill>
                    <a:latin typeface="Arial Unicode MS"/>
                    <a:ea typeface="Arial Unicode MS"/>
                  </a:rPr>
                  <a:t>2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356" name="AutoShape 45"/>
              <p:cNvCxnSpPr>
                <a:stCxn id="354" idx="3"/>
                <a:endCxn id="316" idx="1"/>
              </p:cNvCxnSpPr>
              <p:nvPr/>
            </p:nvCxnSpPr>
            <p:spPr>
              <a:xfrm>
                <a:off x="6953040" y="4195440"/>
                <a:ext cx="227520" cy="1080"/>
              </a:xfrm>
              <a:prstGeom prst="straightConnector1">
                <a:avLst/>
              </a:prstGeom>
              <a:ln w="9360">
                <a:solidFill>
                  <a:srgbClr val="c0c0c0"/>
                </a:solidFill>
                <a:miter/>
                <a:tailEnd len="med" type="triangle" w="med"/>
              </a:ln>
            </p:spPr>
          </p:cxnSp>
        </p:grpSp>
      </p:grpSp>
      <p:sp>
        <p:nvSpPr>
          <p:cNvPr id="357" name="Text Box 46"/>
          <p:cNvSpPr/>
          <p:nvPr/>
        </p:nvSpPr>
        <p:spPr>
          <a:xfrm>
            <a:off x="6879960" y="3429000"/>
            <a:ext cx="7020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2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47"/>
          <p:cNvSpPr/>
          <p:nvPr/>
        </p:nvSpPr>
        <p:spPr>
          <a:xfrm>
            <a:off x="7187040" y="3962520"/>
            <a:ext cx="5281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3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9" name="Group 48"/>
          <p:cNvGrpSpPr/>
          <p:nvPr/>
        </p:nvGrpSpPr>
        <p:grpSpPr>
          <a:xfrm>
            <a:off x="2517120" y="3429000"/>
            <a:ext cx="641880" cy="459720"/>
            <a:chOff x="2517120" y="3429000"/>
            <a:chExt cx="641880" cy="459720"/>
          </a:xfrm>
        </p:grpSpPr>
        <p:sp>
          <p:nvSpPr>
            <p:cNvPr id="360" name="Text Box 49"/>
            <p:cNvSpPr/>
            <p:nvPr/>
          </p:nvSpPr>
          <p:spPr>
            <a:xfrm>
              <a:off x="2517120" y="3429000"/>
              <a:ext cx="35460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61" name="AutoShape 50"/>
            <p:cNvCxnSpPr>
              <a:stCxn id="360" idx="3"/>
              <a:endCxn id="362" idx="1"/>
            </p:cNvCxnSpPr>
            <p:nvPr/>
          </p:nvCxnSpPr>
          <p:spPr>
            <a:xfrm>
              <a:off x="2877120" y="3661920"/>
              <a:ext cx="2822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363" name="Group 51"/>
          <p:cNvGrpSpPr/>
          <p:nvPr/>
        </p:nvGrpSpPr>
        <p:grpSpPr>
          <a:xfrm>
            <a:off x="3164760" y="3429000"/>
            <a:ext cx="664200" cy="459720"/>
            <a:chOff x="3164760" y="3429000"/>
            <a:chExt cx="664200" cy="459720"/>
          </a:xfrm>
        </p:grpSpPr>
        <p:sp>
          <p:nvSpPr>
            <p:cNvPr id="362" name="Text Box 52"/>
            <p:cNvSpPr/>
            <p:nvPr/>
          </p:nvSpPr>
          <p:spPr>
            <a:xfrm>
              <a:off x="3164760" y="3429000"/>
              <a:ext cx="35460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64" name="AutoShape 53"/>
            <p:cNvCxnSpPr>
              <a:stCxn id="362" idx="3"/>
              <a:endCxn id="365" idx="1"/>
            </p:cNvCxnSpPr>
            <p:nvPr/>
          </p:nvCxnSpPr>
          <p:spPr>
            <a:xfrm>
              <a:off x="3524760" y="3661920"/>
              <a:ext cx="3045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366" name="Group 54"/>
          <p:cNvGrpSpPr/>
          <p:nvPr/>
        </p:nvGrpSpPr>
        <p:grpSpPr>
          <a:xfrm>
            <a:off x="3832920" y="3429000"/>
            <a:ext cx="605880" cy="459720"/>
            <a:chOff x="3832920" y="3429000"/>
            <a:chExt cx="605880" cy="459720"/>
          </a:xfrm>
        </p:grpSpPr>
        <p:sp>
          <p:nvSpPr>
            <p:cNvPr id="365" name="Text Box 55"/>
            <p:cNvSpPr/>
            <p:nvPr/>
          </p:nvSpPr>
          <p:spPr>
            <a:xfrm>
              <a:off x="3832920" y="3429000"/>
              <a:ext cx="35460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67" name="AutoShape 56"/>
            <p:cNvCxnSpPr>
              <a:stCxn id="365" idx="3"/>
              <a:endCxn id="368" idx="1"/>
            </p:cNvCxnSpPr>
            <p:nvPr/>
          </p:nvCxnSpPr>
          <p:spPr>
            <a:xfrm>
              <a:off x="4192920" y="3661920"/>
              <a:ext cx="2462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369" name="Group 57"/>
          <p:cNvGrpSpPr/>
          <p:nvPr/>
        </p:nvGrpSpPr>
        <p:grpSpPr>
          <a:xfrm>
            <a:off x="4443480" y="3429000"/>
            <a:ext cx="758520" cy="459720"/>
            <a:chOff x="4443480" y="3429000"/>
            <a:chExt cx="758520" cy="459720"/>
          </a:xfrm>
        </p:grpSpPr>
        <p:sp>
          <p:nvSpPr>
            <p:cNvPr id="368" name="Text Box 58"/>
            <p:cNvSpPr/>
            <p:nvPr/>
          </p:nvSpPr>
          <p:spPr>
            <a:xfrm>
              <a:off x="4443480" y="3429000"/>
              <a:ext cx="52812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1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70" name="AutoShape 59"/>
            <p:cNvCxnSpPr>
              <a:stCxn id="368" idx="3"/>
              <a:endCxn id="371" idx="1"/>
            </p:cNvCxnSpPr>
            <p:nvPr/>
          </p:nvCxnSpPr>
          <p:spPr>
            <a:xfrm>
              <a:off x="4974480" y="3661920"/>
              <a:ext cx="2278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372" name="Group 60"/>
          <p:cNvGrpSpPr/>
          <p:nvPr/>
        </p:nvGrpSpPr>
        <p:grpSpPr>
          <a:xfrm>
            <a:off x="5202720" y="3429000"/>
            <a:ext cx="835920" cy="459720"/>
            <a:chOff x="5202720" y="3429000"/>
            <a:chExt cx="835920" cy="459720"/>
          </a:xfrm>
        </p:grpSpPr>
        <p:sp>
          <p:nvSpPr>
            <p:cNvPr id="371" name="Text Box 61"/>
            <p:cNvSpPr/>
            <p:nvPr/>
          </p:nvSpPr>
          <p:spPr>
            <a:xfrm>
              <a:off x="5202720" y="3429000"/>
              <a:ext cx="52812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3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73" name="AutoShape 62"/>
            <p:cNvCxnSpPr>
              <a:stCxn id="371" idx="3"/>
              <a:endCxn id="374" idx="1"/>
            </p:cNvCxnSpPr>
            <p:nvPr/>
          </p:nvCxnSpPr>
          <p:spPr>
            <a:xfrm>
              <a:off x="5734080" y="3661920"/>
              <a:ext cx="3049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375" name="Group 63"/>
          <p:cNvGrpSpPr/>
          <p:nvPr/>
        </p:nvGrpSpPr>
        <p:grpSpPr>
          <a:xfrm>
            <a:off x="6043680" y="3429000"/>
            <a:ext cx="834480" cy="459720"/>
            <a:chOff x="6043680" y="3429000"/>
            <a:chExt cx="834480" cy="459720"/>
          </a:xfrm>
        </p:grpSpPr>
        <p:sp>
          <p:nvSpPr>
            <p:cNvPr id="374" name="Text Box 64"/>
            <p:cNvSpPr/>
            <p:nvPr/>
          </p:nvSpPr>
          <p:spPr>
            <a:xfrm>
              <a:off x="6043680" y="3429000"/>
              <a:ext cx="52812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6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76" name="AutoShape 65"/>
            <p:cNvCxnSpPr>
              <a:stCxn id="374" idx="3"/>
              <a:endCxn id="357" idx="1"/>
            </p:cNvCxnSpPr>
            <p:nvPr/>
          </p:nvCxnSpPr>
          <p:spPr>
            <a:xfrm>
              <a:off x="6574320" y="3661920"/>
              <a:ext cx="3042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377" name="Group 66"/>
          <p:cNvGrpSpPr/>
          <p:nvPr/>
        </p:nvGrpSpPr>
        <p:grpSpPr>
          <a:xfrm>
            <a:off x="2537640" y="3962520"/>
            <a:ext cx="641880" cy="459720"/>
            <a:chOff x="2537640" y="3962520"/>
            <a:chExt cx="641880" cy="459720"/>
          </a:xfrm>
        </p:grpSpPr>
        <p:sp>
          <p:nvSpPr>
            <p:cNvPr id="378" name="Text Box 67"/>
            <p:cNvSpPr/>
            <p:nvPr/>
          </p:nvSpPr>
          <p:spPr>
            <a:xfrm>
              <a:off x="2537640" y="3962520"/>
              <a:ext cx="35460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79" name="AutoShape 68"/>
            <p:cNvCxnSpPr>
              <a:stCxn id="378" idx="3"/>
              <a:endCxn id="380" idx="1"/>
            </p:cNvCxnSpPr>
            <p:nvPr/>
          </p:nvCxnSpPr>
          <p:spPr>
            <a:xfrm>
              <a:off x="2897280" y="4195440"/>
              <a:ext cx="2826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381" name="Group 69"/>
          <p:cNvGrpSpPr/>
          <p:nvPr/>
        </p:nvGrpSpPr>
        <p:grpSpPr>
          <a:xfrm>
            <a:off x="3185280" y="3962520"/>
            <a:ext cx="643320" cy="459720"/>
            <a:chOff x="3185280" y="3962520"/>
            <a:chExt cx="643320" cy="459720"/>
          </a:xfrm>
        </p:grpSpPr>
        <p:sp>
          <p:nvSpPr>
            <p:cNvPr id="380" name="Text Box 70"/>
            <p:cNvSpPr/>
            <p:nvPr/>
          </p:nvSpPr>
          <p:spPr>
            <a:xfrm>
              <a:off x="3185280" y="3962520"/>
              <a:ext cx="35460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82" name="AutoShape 71"/>
            <p:cNvCxnSpPr>
              <a:stCxn id="380" idx="3"/>
              <a:endCxn id="383" idx="1"/>
            </p:cNvCxnSpPr>
            <p:nvPr/>
          </p:nvCxnSpPr>
          <p:spPr>
            <a:xfrm>
              <a:off x="3544920" y="4195440"/>
              <a:ext cx="284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384" name="Group 72"/>
          <p:cNvGrpSpPr/>
          <p:nvPr/>
        </p:nvGrpSpPr>
        <p:grpSpPr>
          <a:xfrm>
            <a:off x="3833640" y="3962520"/>
            <a:ext cx="625680" cy="459720"/>
            <a:chOff x="3833640" y="3962520"/>
            <a:chExt cx="625680" cy="459720"/>
          </a:xfrm>
        </p:grpSpPr>
        <p:sp>
          <p:nvSpPr>
            <p:cNvPr id="383" name="Text Box 73"/>
            <p:cNvSpPr/>
            <p:nvPr/>
          </p:nvSpPr>
          <p:spPr>
            <a:xfrm>
              <a:off x="3833640" y="3962520"/>
              <a:ext cx="35460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85" name="AutoShape 74"/>
            <p:cNvCxnSpPr>
              <a:stCxn id="383" idx="3"/>
              <a:endCxn id="386" idx="1"/>
            </p:cNvCxnSpPr>
            <p:nvPr/>
          </p:nvCxnSpPr>
          <p:spPr>
            <a:xfrm>
              <a:off x="4193640" y="4195440"/>
              <a:ext cx="266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387" name="Group 75"/>
          <p:cNvGrpSpPr/>
          <p:nvPr/>
        </p:nvGrpSpPr>
        <p:grpSpPr>
          <a:xfrm>
            <a:off x="4463280" y="3962520"/>
            <a:ext cx="602280" cy="459720"/>
            <a:chOff x="4463280" y="3962520"/>
            <a:chExt cx="602280" cy="459720"/>
          </a:xfrm>
        </p:grpSpPr>
        <p:sp>
          <p:nvSpPr>
            <p:cNvPr id="386" name="Text Box 76"/>
            <p:cNvSpPr/>
            <p:nvPr/>
          </p:nvSpPr>
          <p:spPr>
            <a:xfrm>
              <a:off x="4463280" y="3962520"/>
              <a:ext cx="35460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88" name="AutoShape 77"/>
            <p:cNvCxnSpPr>
              <a:stCxn id="386" idx="3"/>
              <a:endCxn id="389" idx="1"/>
            </p:cNvCxnSpPr>
            <p:nvPr/>
          </p:nvCxnSpPr>
          <p:spPr>
            <a:xfrm>
              <a:off x="4823280" y="4195440"/>
              <a:ext cx="2426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390" name="Group 78"/>
          <p:cNvGrpSpPr/>
          <p:nvPr/>
        </p:nvGrpSpPr>
        <p:grpSpPr>
          <a:xfrm>
            <a:off x="5070240" y="3962520"/>
            <a:ext cx="587880" cy="459720"/>
            <a:chOff x="5070240" y="3962520"/>
            <a:chExt cx="587880" cy="459720"/>
          </a:xfrm>
        </p:grpSpPr>
        <p:sp>
          <p:nvSpPr>
            <p:cNvPr id="389" name="Text Box 79"/>
            <p:cNvSpPr/>
            <p:nvPr/>
          </p:nvSpPr>
          <p:spPr>
            <a:xfrm>
              <a:off x="5070240" y="3962520"/>
              <a:ext cx="35460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91" name="AutoShape 80"/>
            <p:cNvCxnSpPr>
              <a:stCxn id="389" idx="3"/>
              <a:endCxn id="392" idx="1"/>
            </p:cNvCxnSpPr>
            <p:nvPr/>
          </p:nvCxnSpPr>
          <p:spPr>
            <a:xfrm>
              <a:off x="5430960" y="4195440"/>
              <a:ext cx="2275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393" name="Group 81"/>
          <p:cNvGrpSpPr/>
          <p:nvPr/>
        </p:nvGrpSpPr>
        <p:grpSpPr>
          <a:xfrm>
            <a:off x="5659560" y="3962520"/>
            <a:ext cx="760680" cy="459720"/>
            <a:chOff x="5659560" y="3962520"/>
            <a:chExt cx="760680" cy="459720"/>
          </a:xfrm>
        </p:grpSpPr>
        <p:sp>
          <p:nvSpPr>
            <p:cNvPr id="392" name="Text Box 82"/>
            <p:cNvSpPr/>
            <p:nvPr/>
          </p:nvSpPr>
          <p:spPr>
            <a:xfrm>
              <a:off x="5659560" y="3962520"/>
              <a:ext cx="58716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94" name="AutoShape 83"/>
            <p:cNvCxnSpPr>
              <a:stCxn id="392" idx="3"/>
              <a:endCxn id="395" idx="1"/>
            </p:cNvCxnSpPr>
            <p:nvPr/>
          </p:nvCxnSpPr>
          <p:spPr>
            <a:xfrm>
              <a:off x="6248520" y="4195440"/>
              <a:ext cx="1720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396" name="Group 84"/>
          <p:cNvGrpSpPr/>
          <p:nvPr/>
        </p:nvGrpSpPr>
        <p:grpSpPr>
          <a:xfrm>
            <a:off x="6422760" y="3962520"/>
            <a:ext cx="759240" cy="459720"/>
            <a:chOff x="6422760" y="3962520"/>
            <a:chExt cx="759240" cy="459720"/>
          </a:xfrm>
        </p:grpSpPr>
        <p:sp>
          <p:nvSpPr>
            <p:cNvPr id="395" name="Text Box 85"/>
            <p:cNvSpPr/>
            <p:nvPr/>
          </p:nvSpPr>
          <p:spPr>
            <a:xfrm>
              <a:off x="6422760" y="3962520"/>
              <a:ext cx="52812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2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97" name="AutoShape 86"/>
            <p:cNvCxnSpPr>
              <a:stCxn id="395" idx="3"/>
              <a:endCxn id="358" idx="1"/>
            </p:cNvCxnSpPr>
            <p:nvPr/>
          </p:nvCxnSpPr>
          <p:spPr>
            <a:xfrm>
              <a:off x="6954480" y="4195440"/>
              <a:ext cx="2278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398" name="Group 87"/>
          <p:cNvGrpSpPr/>
          <p:nvPr/>
        </p:nvGrpSpPr>
        <p:grpSpPr>
          <a:xfrm>
            <a:off x="7736760" y="3438360"/>
            <a:ext cx="1205640" cy="916920"/>
            <a:chOff x="7736760" y="3438360"/>
            <a:chExt cx="1205640" cy="916920"/>
          </a:xfrm>
        </p:grpSpPr>
        <p:sp>
          <p:nvSpPr>
            <p:cNvPr id="399" name="Text Box 88"/>
            <p:cNvSpPr/>
            <p:nvPr/>
          </p:nvSpPr>
          <p:spPr>
            <a:xfrm>
              <a:off x="7736760" y="3438360"/>
              <a:ext cx="1136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Brutu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Text Box 89"/>
            <p:cNvSpPr/>
            <p:nvPr/>
          </p:nvSpPr>
          <p:spPr>
            <a:xfrm>
              <a:off x="7770960" y="3895560"/>
              <a:ext cx="117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Caesa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1" name="AutoShape 90"/>
          <p:cNvSpPr/>
          <p:nvPr/>
        </p:nvSpPr>
        <p:spPr>
          <a:xfrm rot="10800000">
            <a:off x="1463760" y="3716280"/>
            <a:ext cx="976320" cy="486000"/>
          </a:xfrm>
          <a:custGeom>
            <a:avLst/>
            <a:gdLst>
              <a:gd name="textAreaLeft" fmla="*/ 122040 w 976320"/>
              <a:gd name="textAreaRight" fmla="*/ 854280 w 97632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c050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 Box 91"/>
          <p:cNvSpPr/>
          <p:nvPr/>
        </p:nvSpPr>
        <p:spPr>
          <a:xfrm>
            <a:off x="232560" y="3733920"/>
            <a:ext cx="3546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Group 92"/>
          <p:cNvGrpSpPr/>
          <p:nvPr/>
        </p:nvGrpSpPr>
        <p:grpSpPr>
          <a:xfrm>
            <a:off x="591840" y="3743280"/>
            <a:ext cx="622440" cy="459720"/>
            <a:chOff x="591840" y="3743280"/>
            <a:chExt cx="622440" cy="459720"/>
          </a:xfrm>
        </p:grpSpPr>
        <p:cxnSp>
          <p:nvCxnSpPr>
            <p:cNvPr id="404" name="AutoShape 93"/>
            <p:cNvCxnSpPr>
              <a:stCxn id="402" idx="3"/>
            </p:cNvCxnSpPr>
            <p:nvPr/>
          </p:nvCxnSpPr>
          <p:spPr>
            <a:xfrm>
              <a:off x="591840" y="3966840"/>
              <a:ext cx="284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05" name="Text Box 94"/>
            <p:cNvSpPr/>
            <p:nvPr/>
          </p:nvSpPr>
          <p:spPr>
            <a:xfrm>
              <a:off x="859680" y="3743280"/>
              <a:ext cx="35460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6" name="Text Box 95"/>
          <p:cNvSpPr/>
          <p:nvPr/>
        </p:nvSpPr>
        <p:spPr>
          <a:xfrm>
            <a:off x="488880" y="5221440"/>
            <a:ext cx="8650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504d"/>
                </a:solidFill>
                <a:latin typeface="Arial"/>
                <a:ea typeface="Arial Unicode MS"/>
              </a:rPr>
              <a:t>Если длины списков </a:t>
            </a:r>
            <a:r>
              <a:rPr b="0" i="1" lang="en-US" sz="2400" spc="-1" strike="noStrike">
                <a:solidFill>
                  <a:srgbClr val="c0504d"/>
                </a:solidFill>
                <a:latin typeface="Lucida Sans"/>
                <a:ea typeface="Arial Unicode MS"/>
              </a:rPr>
              <a:t>x</a:t>
            </a:r>
            <a:r>
              <a:rPr b="0" lang="en-US" sz="2400" spc="-1" strike="noStrike">
                <a:solidFill>
                  <a:srgbClr val="c0504d"/>
                </a:solidFill>
                <a:latin typeface="Lucida Sans"/>
                <a:ea typeface="Arial Unicode MS"/>
              </a:rPr>
              <a:t> </a:t>
            </a:r>
            <a:r>
              <a:rPr b="0" lang="ru-RU" sz="2400" spc="-1" strike="noStrike">
                <a:solidFill>
                  <a:srgbClr val="c0504d"/>
                </a:solidFill>
                <a:latin typeface="Arial"/>
                <a:ea typeface="Arial Unicode MS"/>
              </a:rPr>
              <a:t>и</a:t>
            </a:r>
            <a:r>
              <a:rPr b="0" lang="en-US" sz="2400" spc="-1" strike="noStrike">
                <a:solidFill>
                  <a:srgbClr val="c0504d"/>
                </a:solidFill>
                <a:latin typeface="Lucida Sans"/>
                <a:ea typeface="Arial Unicode MS"/>
              </a:rPr>
              <a:t> </a:t>
            </a:r>
            <a:r>
              <a:rPr b="0" i="1" lang="en-US" sz="2400" spc="-1" strike="noStrike">
                <a:solidFill>
                  <a:srgbClr val="c0504d"/>
                </a:solidFill>
                <a:latin typeface="Lucida Sans"/>
                <a:ea typeface="Arial Unicode MS"/>
              </a:rPr>
              <a:t>y</a:t>
            </a:r>
            <a:r>
              <a:rPr b="0" lang="en-US" sz="2400" spc="-1" strike="noStrike">
                <a:solidFill>
                  <a:srgbClr val="c0504d"/>
                </a:solidFill>
                <a:latin typeface="Lucida Sans"/>
                <a:ea typeface="Arial Unicode MS"/>
              </a:rPr>
              <a:t>, </a:t>
            </a:r>
            <a:r>
              <a:rPr b="0" lang="ru-RU" sz="2400" spc="-1" strike="noStrike">
                <a:solidFill>
                  <a:srgbClr val="c0504d"/>
                </a:solidFill>
                <a:latin typeface="Arial"/>
                <a:ea typeface="Arial Unicode MS"/>
              </a:rPr>
              <a:t>то  пересечение</a:t>
            </a:r>
            <a:r>
              <a:rPr b="0" lang="en-US" sz="2400" spc="-1" strike="noStrike">
                <a:solidFill>
                  <a:srgbClr val="c0504d"/>
                </a:solidFill>
                <a:latin typeface="Lucida Sans"/>
                <a:ea typeface="Arial Unicode MS"/>
              </a:rPr>
              <a:t> O(</a:t>
            </a:r>
            <a:r>
              <a:rPr b="0" i="1" lang="en-US" sz="2400" spc="-1" strike="noStrike">
                <a:solidFill>
                  <a:srgbClr val="c0504d"/>
                </a:solidFill>
                <a:latin typeface="Lucida Sans"/>
                <a:ea typeface="Arial Unicode MS"/>
              </a:rPr>
              <a:t>x+y</a:t>
            </a:r>
            <a:r>
              <a:rPr b="0" lang="en-US" sz="2400" spc="-1" strike="noStrike">
                <a:solidFill>
                  <a:srgbClr val="c0504d"/>
                </a:solidFill>
                <a:latin typeface="Lucida Sans"/>
                <a:ea typeface="Arial Unicode MS"/>
              </a:rPr>
              <a:t>) </a:t>
            </a:r>
            <a:r>
              <a:rPr b="0" lang="ru-RU" sz="2400" spc="-1" strike="noStrike">
                <a:solidFill>
                  <a:srgbClr val="c0504d"/>
                </a:solidFill>
                <a:latin typeface="Arial"/>
                <a:ea typeface="Arial Unicode MS"/>
              </a:rPr>
              <a:t>операц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504d"/>
                </a:solidFill>
                <a:latin typeface="Arial"/>
                <a:ea typeface="Arial Unicode MS"/>
              </a:rPr>
              <a:t>Необходимо: записи в списке должны быть отсортирова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504d"/>
                </a:solidFill>
                <a:latin typeface="Arial"/>
                <a:ea typeface="Arial Unicode MS"/>
              </a:rPr>
              <a:t> </a:t>
            </a:r>
            <a:r>
              <a:rPr b="0" lang="ru-RU" sz="2400" spc="-1" strike="noStrike">
                <a:solidFill>
                  <a:srgbClr val="c0504d"/>
                </a:solidFill>
                <a:latin typeface="Arial"/>
                <a:ea typeface="Arial Unicode MS"/>
              </a:rPr>
              <a:t>по </a:t>
            </a:r>
            <a:r>
              <a:rPr b="0" lang="en-US" sz="2400" spc="-1" strike="noStrike">
                <a:solidFill>
                  <a:srgbClr val="c0504d"/>
                </a:solidFill>
                <a:latin typeface="Arial"/>
                <a:ea typeface="Arial Unicode MS"/>
              </a:rPr>
              <a:t>doc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96"/>
          <p:cNvSpPr/>
          <p:nvPr/>
        </p:nvSpPr>
        <p:spPr>
          <a:xfrm>
            <a:off x="7654680" y="-33840"/>
            <a:ext cx="89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  <a:ea typeface="Arial Unicode MS"/>
              </a:rPr>
              <a:t>Sec. 1.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500"/>
                            </p:stCondLst>
                            <p:childTnLst>
                              <p:par>
                                <p:cTn id="7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3000"/>
                            </p:stCondLst>
                            <p:childTnLst>
                              <p:par>
                                <p:cTn id="7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4500"/>
                            </p:stCondLst>
                            <p:childTnLst>
                              <p:par>
                                <p:cTn id="8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6000"/>
                            </p:stCondLst>
                            <p:childTnLst>
                              <p:par>
                                <p:cTn id="8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500"/>
                            </p:stCondLst>
                            <p:childTnLst>
                              <p:par>
                                <p:cTn id="9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9000"/>
                            </p:stCondLst>
                            <p:childTnLst>
                              <p:par>
                                <p:cTn id="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0500"/>
                            </p:stCondLst>
                            <p:childTnLst>
                              <p:par>
                                <p:cTn id="10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2000"/>
                            </p:stCondLst>
                            <p:childTnLst>
                              <p:par>
                                <p:cTn id="10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3500"/>
                            </p:stCondLst>
                            <p:childTnLst>
                              <p:par>
                                <p:cTn id="1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650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8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9500"/>
                            </p:stCondLst>
                            <p:childTnLst>
                              <p:par>
                                <p:cTn id="13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21000"/>
                            </p:stCondLst>
                            <p:childTnLst>
                              <p:par>
                                <p:cTn id="13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2500"/>
                            </p:stCondLst>
                            <p:childTnLst>
                              <p:par>
                                <p:cTn id="14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40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25500"/>
                            </p:stCondLst>
                            <p:childTnLst>
                              <p:par>
                                <p:cTn id="15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Text Box 1"/>
          <p:cNvSpPr/>
          <p:nvPr/>
        </p:nvSpPr>
        <p:spPr>
          <a:xfrm>
            <a:off x="468360" y="-171360"/>
            <a:ext cx="8229600" cy="13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ересечение двух списков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Id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a “merge” algorith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2"/>
          <p:cNvSpPr/>
          <p:nvPr/>
        </p:nvSpPr>
        <p:spPr>
          <a:xfrm>
            <a:off x="655308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C82ED-C0A2-4D39-83C8-62E51714975B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0" name="Picture 3" descr=""/>
          <p:cNvPicPr/>
          <p:nvPr/>
        </p:nvPicPr>
        <p:blipFill>
          <a:blip r:embed="rId1"/>
          <a:stretch/>
        </p:blipFill>
        <p:spPr>
          <a:xfrm>
            <a:off x="990720" y="1609560"/>
            <a:ext cx="6858000" cy="5116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Text Box 1"/>
          <p:cNvSpPr/>
          <p:nvPr/>
        </p:nvSpPr>
        <p:spPr>
          <a:xfrm>
            <a:off x="457200" y="115920"/>
            <a:ext cx="82296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птимизация обработки запрос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2"/>
          <p:cNvSpPr/>
          <p:nvPr/>
        </p:nvSpPr>
        <p:spPr>
          <a:xfrm>
            <a:off x="457200" y="981000"/>
            <a:ext cx="8075520" cy="55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учший порядок для обработки запросо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пример, запрос  имеет вид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AND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рмо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ля каждого из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рмо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лучить его список документо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пересечь их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3"/>
          <p:cNvSpPr/>
          <p:nvPr/>
        </p:nvSpPr>
        <p:spPr>
          <a:xfrm>
            <a:off x="434880" y="4191120"/>
            <a:ext cx="10036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  <a:ea typeface="Arial Unicode MS"/>
              </a:rPr>
              <a:t>Brut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4"/>
          <p:cNvSpPr/>
          <p:nvPr/>
        </p:nvSpPr>
        <p:spPr>
          <a:xfrm>
            <a:off x="433800" y="4724280"/>
            <a:ext cx="10386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  <a:ea typeface="Arial Unicode MS"/>
              </a:rPr>
              <a:t>Caes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5"/>
          <p:cNvSpPr/>
          <p:nvPr/>
        </p:nvSpPr>
        <p:spPr>
          <a:xfrm>
            <a:off x="435960" y="5257800"/>
            <a:ext cx="14000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  <a:ea typeface="Arial Unicode MS"/>
              </a:rPr>
              <a:t>Calpurn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AutoShape 6"/>
          <p:cNvSpPr/>
          <p:nvPr/>
        </p:nvSpPr>
        <p:spPr>
          <a:xfrm>
            <a:off x="2066760" y="4267080"/>
            <a:ext cx="1143000" cy="22860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AutoShape 7"/>
          <p:cNvSpPr/>
          <p:nvPr/>
        </p:nvSpPr>
        <p:spPr>
          <a:xfrm>
            <a:off x="2066760" y="4800600"/>
            <a:ext cx="1143000" cy="22860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8" name="Group 8"/>
          <p:cNvGrpSpPr/>
          <p:nvPr/>
        </p:nvGrpSpPr>
        <p:grpSpPr>
          <a:xfrm>
            <a:off x="3286080" y="5334120"/>
            <a:ext cx="4875120" cy="303120"/>
            <a:chOff x="3286080" y="5334120"/>
            <a:chExt cx="4875120" cy="303120"/>
          </a:xfrm>
        </p:grpSpPr>
        <p:sp>
          <p:nvSpPr>
            <p:cNvPr id="419" name="Rectangle 9"/>
            <p:cNvSpPr/>
            <p:nvPr/>
          </p:nvSpPr>
          <p:spPr>
            <a:xfrm>
              <a:off x="3286080" y="5334120"/>
              <a:ext cx="4875120" cy="3031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Rectangle 10"/>
            <p:cNvSpPr/>
            <p:nvPr/>
          </p:nvSpPr>
          <p:spPr>
            <a:xfrm>
              <a:off x="3895560" y="5334120"/>
              <a:ext cx="3656160" cy="303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Rectangle 11"/>
            <p:cNvSpPr/>
            <p:nvPr/>
          </p:nvSpPr>
          <p:spPr>
            <a:xfrm>
              <a:off x="4505400" y="5334120"/>
              <a:ext cx="2436840" cy="303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Rectangle 12"/>
            <p:cNvSpPr/>
            <p:nvPr/>
          </p:nvSpPr>
          <p:spPr>
            <a:xfrm>
              <a:off x="5114880" y="5334120"/>
              <a:ext cx="1217520" cy="303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Line 13"/>
            <p:cNvSpPr/>
            <p:nvPr/>
          </p:nvSpPr>
          <p:spPr>
            <a:xfrm>
              <a:off x="5724360" y="5334120"/>
              <a:ext cx="0" cy="303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4" name="Group 14"/>
          <p:cNvGrpSpPr/>
          <p:nvPr/>
        </p:nvGrpSpPr>
        <p:grpSpPr>
          <a:xfrm>
            <a:off x="3286080" y="4724280"/>
            <a:ext cx="4966920" cy="459720"/>
            <a:chOff x="3286080" y="4724280"/>
            <a:chExt cx="4966920" cy="459720"/>
          </a:xfrm>
        </p:grpSpPr>
        <p:grpSp>
          <p:nvGrpSpPr>
            <p:cNvPr id="425" name="Group 15"/>
            <p:cNvGrpSpPr/>
            <p:nvPr/>
          </p:nvGrpSpPr>
          <p:grpSpPr>
            <a:xfrm>
              <a:off x="3286080" y="4800600"/>
              <a:ext cx="4875120" cy="303120"/>
              <a:chOff x="3286080" y="4800600"/>
              <a:chExt cx="4875120" cy="303120"/>
            </a:xfrm>
          </p:grpSpPr>
          <p:sp>
            <p:nvSpPr>
              <p:cNvPr id="426" name="Rectangle 16"/>
              <p:cNvSpPr/>
              <p:nvPr/>
            </p:nvSpPr>
            <p:spPr>
              <a:xfrm>
                <a:off x="3286080" y="4800600"/>
                <a:ext cx="4875120" cy="3031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Rectangle 17"/>
              <p:cNvSpPr/>
              <p:nvPr/>
            </p:nvSpPr>
            <p:spPr>
              <a:xfrm>
                <a:off x="3895560" y="4800600"/>
                <a:ext cx="3656160" cy="303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Rectangle 18"/>
              <p:cNvSpPr/>
              <p:nvPr/>
            </p:nvSpPr>
            <p:spPr>
              <a:xfrm>
                <a:off x="4505400" y="4800600"/>
                <a:ext cx="2436840" cy="303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Rectangle 19"/>
              <p:cNvSpPr/>
              <p:nvPr/>
            </p:nvSpPr>
            <p:spPr>
              <a:xfrm>
                <a:off x="5114880" y="4800600"/>
                <a:ext cx="1217520" cy="303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Line 20"/>
              <p:cNvSpPr/>
              <p:nvPr/>
            </p:nvSpPr>
            <p:spPr>
              <a:xfrm>
                <a:off x="5724360" y="4800600"/>
                <a:ext cx="0" cy="303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1" name="Text Box 21"/>
            <p:cNvSpPr/>
            <p:nvPr/>
          </p:nvSpPr>
          <p:spPr>
            <a:xfrm>
              <a:off x="3432600" y="47242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Text Box 22"/>
            <p:cNvSpPr/>
            <p:nvPr/>
          </p:nvSpPr>
          <p:spPr>
            <a:xfrm>
              <a:off x="4118400" y="47242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Text Box 23"/>
            <p:cNvSpPr/>
            <p:nvPr/>
          </p:nvSpPr>
          <p:spPr>
            <a:xfrm>
              <a:off x="4694760" y="47242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Text Box 24"/>
            <p:cNvSpPr/>
            <p:nvPr/>
          </p:nvSpPr>
          <p:spPr>
            <a:xfrm>
              <a:off x="5277240" y="47242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Text Box 25"/>
            <p:cNvSpPr/>
            <p:nvPr/>
          </p:nvSpPr>
          <p:spPr>
            <a:xfrm>
              <a:off x="5837760" y="47242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Text Box 26"/>
            <p:cNvSpPr/>
            <p:nvPr/>
          </p:nvSpPr>
          <p:spPr>
            <a:xfrm>
              <a:off x="6456600" y="4724280"/>
              <a:ext cx="52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1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Text Box 27"/>
            <p:cNvSpPr/>
            <p:nvPr/>
          </p:nvSpPr>
          <p:spPr>
            <a:xfrm>
              <a:off x="7115400" y="4724280"/>
              <a:ext cx="52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2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Text Box 28"/>
            <p:cNvSpPr/>
            <p:nvPr/>
          </p:nvSpPr>
          <p:spPr>
            <a:xfrm>
              <a:off x="7724880" y="4724280"/>
              <a:ext cx="52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3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9" name="Group 29"/>
          <p:cNvGrpSpPr/>
          <p:nvPr/>
        </p:nvGrpSpPr>
        <p:grpSpPr>
          <a:xfrm>
            <a:off x="3286080" y="4191120"/>
            <a:ext cx="4875120" cy="459720"/>
            <a:chOff x="3286080" y="4191120"/>
            <a:chExt cx="4875120" cy="459720"/>
          </a:xfrm>
        </p:grpSpPr>
        <p:grpSp>
          <p:nvGrpSpPr>
            <p:cNvPr id="440" name="Group 30"/>
            <p:cNvGrpSpPr/>
            <p:nvPr/>
          </p:nvGrpSpPr>
          <p:grpSpPr>
            <a:xfrm>
              <a:off x="3286080" y="4267080"/>
              <a:ext cx="4875120" cy="303480"/>
              <a:chOff x="3286080" y="4267080"/>
              <a:chExt cx="4875120" cy="303480"/>
            </a:xfrm>
          </p:grpSpPr>
          <p:sp>
            <p:nvSpPr>
              <p:cNvPr id="441" name="Rectangle 31"/>
              <p:cNvSpPr/>
              <p:nvPr/>
            </p:nvSpPr>
            <p:spPr>
              <a:xfrm>
                <a:off x="3286080" y="4267080"/>
                <a:ext cx="4875120" cy="3034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Rectangle 32"/>
              <p:cNvSpPr/>
              <p:nvPr/>
            </p:nvSpPr>
            <p:spPr>
              <a:xfrm>
                <a:off x="3895560" y="4267080"/>
                <a:ext cx="3656160" cy="303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Rectangle 33"/>
              <p:cNvSpPr/>
              <p:nvPr/>
            </p:nvSpPr>
            <p:spPr>
              <a:xfrm>
                <a:off x="4505400" y="4267080"/>
                <a:ext cx="2436840" cy="303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Rectangle 34"/>
              <p:cNvSpPr/>
              <p:nvPr/>
            </p:nvSpPr>
            <p:spPr>
              <a:xfrm>
                <a:off x="5114880" y="4267080"/>
                <a:ext cx="1217520" cy="303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Line 35"/>
              <p:cNvSpPr/>
              <p:nvPr/>
            </p:nvSpPr>
            <p:spPr>
              <a:xfrm>
                <a:off x="5724360" y="4267080"/>
                <a:ext cx="0" cy="303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6" name="Text Box 36"/>
            <p:cNvSpPr/>
            <p:nvPr/>
          </p:nvSpPr>
          <p:spPr>
            <a:xfrm>
              <a:off x="3448440" y="41911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Text Box 37"/>
            <p:cNvSpPr/>
            <p:nvPr/>
          </p:nvSpPr>
          <p:spPr>
            <a:xfrm>
              <a:off x="4008960" y="41911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Text Box 38"/>
            <p:cNvSpPr/>
            <p:nvPr/>
          </p:nvSpPr>
          <p:spPr>
            <a:xfrm>
              <a:off x="4667760" y="41911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Text Box 39"/>
            <p:cNvSpPr/>
            <p:nvPr/>
          </p:nvSpPr>
          <p:spPr>
            <a:xfrm>
              <a:off x="5210280" y="4191120"/>
              <a:ext cx="52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1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Text Box 40"/>
            <p:cNvSpPr/>
            <p:nvPr/>
          </p:nvSpPr>
          <p:spPr>
            <a:xfrm>
              <a:off x="5847120" y="4191120"/>
              <a:ext cx="52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3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Text Box 41"/>
            <p:cNvSpPr/>
            <p:nvPr/>
          </p:nvSpPr>
          <p:spPr>
            <a:xfrm>
              <a:off x="6456600" y="4191120"/>
              <a:ext cx="52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6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Text Box 42"/>
            <p:cNvSpPr/>
            <p:nvPr/>
          </p:nvSpPr>
          <p:spPr>
            <a:xfrm>
              <a:off x="6895800" y="4191120"/>
              <a:ext cx="70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12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Text Box 43"/>
            <p:cNvSpPr/>
            <p:nvPr/>
          </p:nvSpPr>
          <p:spPr>
            <a:xfrm>
              <a:off x="7545240" y="4191120"/>
              <a:ext cx="18288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Text Box 44"/>
          <p:cNvSpPr/>
          <p:nvPr/>
        </p:nvSpPr>
        <p:spPr>
          <a:xfrm>
            <a:off x="3306240" y="525780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AutoShape 45"/>
          <p:cNvSpPr/>
          <p:nvPr/>
        </p:nvSpPr>
        <p:spPr>
          <a:xfrm>
            <a:off x="2066760" y="5334120"/>
            <a:ext cx="1143000" cy="22860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46"/>
          <p:cNvSpPr/>
          <p:nvPr/>
        </p:nvSpPr>
        <p:spPr>
          <a:xfrm>
            <a:off x="3925080" y="525780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 Box 47"/>
          <p:cNvSpPr/>
          <p:nvPr/>
        </p:nvSpPr>
        <p:spPr>
          <a:xfrm>
            <a:off x="993600" y="5932440"/>
            <a:ext cx="625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alibri"/>
                <a:ea typeface="Arial Unicode MS"/>
              </a:rPr>
              <a:t>Query: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  <a:ea typeface="Arial Unicode MS"/>
              </a:rPr>
              <a:t> Brutu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 Unicode MS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  <a:ea typeface="Arial Unicode MS"/>
              </a:rPr>
              <a:t>AND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 Unicode MS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  <a:ea typeface="Arial Unicode MS"/>
              </a:rPr>
              <a:t>Calpurni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 Unicode MS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  <a:ea typeface="Arial Unicode MS"/>
              </a:rPr>
              <a:t>AND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 Unicode MS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  <a:ea typeface="Arial Unicode MS"/>
              </a:rPr>
              <a:t>Caes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 Box 4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4C6E4-2C92-44A5-8CBB-2FA950D5E7E7}" type="slidenum"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 Box 49"/>
          <p:cNvSpPr/>
          <p:nvPr/>
        </p:nvSpPr>
        <p:spPr>
          <a:xfrm>
            <a:off x="7654680" y="-33840"/>
            <a:ext cx="89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  <a:ea typeface="Arial Unicode MS"/>
              </a:rPr>
              <a:t>Sec. 1.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Text Box 1"/>
          <p:cNvSpPr/>
          <p:nvPr/>
        </p:nvSpPr>
        <p:spPr>
          <a:xfrm>
            <a:off x="457200" y="257040"/>
            <a:ext cx="8229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мер оптимизации обработки запрос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2"/>
          <p:cNvSpPr/>
          <p:nvPr/>
        </p:nvSpPr>
        <p:spPr>
          <a:xfrm>
            <a:off x="457200" y="1197000"/>
            <a:ext cx="8229600" cy="53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Обработка должна происходить по мере увеличения частот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Начинаем с минимальных списко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3"/>
          <p:cNvSpPr/>
          <p:nvPr/>
        </p:nvSpPr>
        <p:spPr>
          <a:xfrm>
            <a:off x="655308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DA59E-A2D4-4370-8E94-91473AFBF658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AutoShape 4"/>
          <p:cNvSpPr/>
          <p:nvPr/>
        </p:nvSpPr>
        <p:spPr>
          <a:xfrm>
            <a:off x="2362320" y="2465280"/>
            <a:ext cx="3733560" cy="1512720"/>
          </a:xfrm>
          <a:prstGeom prst="upArrowCallout">
            <a:avLst>
              <a:gd name="adj1" fmla="val 56338"/>
              <a:gd name="adj2" fmla="val 56332"/>
              <a:gd name="adj3" fmla="val 16667"/>
              <a:gd name="adj4" fmla="val 66660"/>
            </a:avLst>
          </a:prstGeom>
          <a:solidFill>
            <a:srgbClr val="4f81b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Для этого нужно хранить количество документов в словар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 Box 5"/>
          <p:cNvSpPr/>
          <p:nvPr/>
        </p:nvSpPr>
        <p:spPr>
          <a:xfrm>
            <a:off x="1010880" y="5915160"/>
            <a:ext cx="802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Выполняем запрос как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 Unicode MS"/>
              </a:rPr>
              <a:t> (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  <a:ea typeface="Arial Unicode MS"/>
              </a:rPr>
              <a:t>Calpurni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 Unicode MS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  <a:ea typeface="Arial Unicode MS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 Unicode MS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  <a:ea typeface="Arial Unicode MS"/>
              </a:rPr>
              <a:t>Brutus)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 Unicode MS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  <a:ea typeface="Arial Unicode MS"/>
              </a:rPr>
              <a:t>AND 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  <a:ea typeface="Arial Unicode MS"/>
              </a:rPr>
              <a:t>Caesa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 Unicode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 Box 6"/>
          <p:cNvSpPr/>
          <p:nvPr/>
        </p:nvSpPr>
        <p:spPr>
          <a:xfrm>
            <a:off x="7654680" y="-33840"/>
            <a:ext cx="89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  <a:ea typeface="Arial Unicode MS"/>
              </a:rPr>
              <a:t>Sec. 1.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 Box 7"/>
          <p:cNvSpPr/>
          <p:nvPr/>
        </p:nvSpPr>
        <p:spPr>
          <a:xfrm>
            <a:off x="434880" y="4191120"/>
            <a:ext cx="10036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  <a:ea typeface="Arial Unicode MS"/>
              </a:rPr>
              <a:t>Brut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 Box 8"/>
          <p:cNvSpPr/>
          <p:nvPr/>
        </p:nvSpPr>
        <p:spPr>
          <a:xfrm>
            <a:off x="433800" y="4724280"/>
            <a:ext cx="10386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  <a:ea typeface="Arial Unicode MS"/>
              </a:rPr>
              <a:t>Caes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9"/>
          <p:cNvSpPr/>
          <p:nvPr/>
        </p:nvSpPr>
        <p:spPr>
          <a:xfrm>
            <a:off x="435960" y="5257800"/>
            <a:ext cx="14000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  <a:ea typeface="Arial Unicode MS"/>
              </a:rPr>
              <a:t>Calpurn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AutoShape 10"/>
          <p:cNvSpPr/>
          <p:nvPr/>
        </p:nvSpPr>
        <p:spPr>
          <a:xfrm>
            <a:off x="2066760" y="4267080"/>
            <a:ext cx="1143000" cy="22860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AutoShape 11"/>
          <p:cNvSpPr/>
          <p:nvPr/>
        </p:nvSpPr>
        <p:spPr>
          <a:xfrm>
            <a:off x="2066760" y="4800600"/>
            <a:ext cx="1143000" cy="22860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1" name="Group 12"/>
          <p:cNvGrpSpPr/>
          <p:nvPr/>
        </p:nvGrpSpPr>
        <p:grpSpPr>
          <a:xfrm>
            <a:off x="3286080" y="5334120"/>
            <a:ext cx="4875120" cy="303120"/>
            <a:chOff x="3286080" y="5334120"/>
            <a:chExt cx="4875120" cy="303120"/>
          </a:xfrm>
        </p:grpSpPr>
        <p:sp>
          <p:nvSpPr>
            <p:cNvPr id="472" name="Rectangle 13"/>
            <p:cNvSpPr/>
            <p:nvPr/>
          </p:nvSpPr>
          <p:spPr>
            <a:xfrm>
              <a:off x="3286080" y="5334120"/>
              <a:ext cx="4875120" cy="3031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Rectangle 14"/>
            <p:cNvSpPr/>
            <p:nvPr/>
          </p:nvSpPr>
          <p:spPr>
            <a:xfrm>
              <a:off x="3895560" y="5334120"/>
              <a:ext cx="3656160" cy="303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Rectangle 15"/>
            <p:cNvSpPr/>
            <p:nvPr/>
          </p:nvSpPr>
          <p:spPr>
            <a:xfrm>
              <a:off x="4505400" y="5334120"/>
              <a:ext cx="2436840" cy="303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Rectangle 16"/>
            <p:cNvSpPr/>
            <p:nvPr/>
          </p:nvSpPr>
          <p:spPr>
            <a:xfrm>
              <a:off x="5114880" y="5334120"/>
              <a:ext cx="1217520" cy="303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Line 17"/>
            <p:cNvSpPr/>
            <p:nvPr/>
          </p:nvSpPr>
          <p:spPr>
            <a:xfrm>
              <a:off x="5724360" y="5334120"/>
              <a:ext cx="0" cy="303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7" name="Group 18"/>
          <p:cNvGrpSpPr/>
          <p:nvPr/>
        </p:nvGrpSpPr>
        <p:grpSpPr>
          <a:xfrm>
            <a:off x="3286080" y="4724280"/>
            <a:ext cx="4966920" cy="459720"/>
            <a:chOff x="3286080" y="4724280"/>
            <a:chExt cx="4966920" cy="459720"/>
          </a:xfrm>
        </p:grpSpPr>
        <p:grpSp>
          <p:nvGrpSpPr>
            <p:cNvPr id="478" name="Group 19"/>
            <p:cNvGrpSpPr/>
            <p:nvPr/>
          </p:nvGrpSpPr>
          <p:grpSpPr>
            <a:xfrm>
              <a:off x="3286080" y="4800600"/>
              <a:ext cx="4875120" cy="303120"/>
              <a:chOff x="3286080" y="4800600"/>
              <a:chExt cx="4875120" cy="303120"/>
            </a:xfrm>
          </p:grpSpPr>
          <p:sp>
            <p:nvSpPr>
              <p:cNvPr id="479" name="Rectangle 20"/>
              <p:cNvSpPr/>
              <p:nvPr/>
            </p:nvSpPr>
            <p:spPr>
              <a:xfrm>
                <a:off x="3286080" y="4800600"/>
                <a:ext cx="4875120" cy="3031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Rectangle 21"/>
              <p:cNvSpPr/>
              <p:nvPr/>
            </p:nvSpPr>
            <p:spPr>
              <a:xfrm>
                <a:off x="3895560" y="4800600"/>
                <a:ext cx="3656160" cy="303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Rectangle 22"/>
              <p:cNvSpPr/>
              <p:nvPr/>
            </p:nvSpPr>
            <p:spPr>
              <a:xfrm>
                <a:off x="4505400" y="4800600"/>
                <a:ext cx="2436840" cy="303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Rectangle 23"/>
              <p:cNvSpPr/>
              <p:nvPr/>
            </p:nvSpPr>
            <p:spPr>
              <a:xfrm>
                <a:off x="5114880" y="4800600"/>
                <a:ext cx="1217520" cy="303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Line 24"/>
              <p:cNvSpPr/>
              <p:nvPr/>
            </p:nvSpPr>
            <p:spPr>
              <a:xfrm>
                <a:off x="5724360" y="4800600"/>
                <a:ext cx="0" cy="303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4" name="Text Box 25"/>
            <p:cNvSpPr/>
            <p:nvPr/>
          </p:nvSpPr>
          <p:spPr>
            <a:xfrm>
              <a:off x="3432600" y="47242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Text Box 26"/>
            <p:cNvSpPr/>
            <p:nvPr/>
          </p:nvSpPr>
          <p:spPr>
            <a:xfrm>
              <a:off x="4118400" y="47242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Text Box 27"/>
            <p:cNvSpPr/>
            <p:nvPr/>
          </p:nvSpPr>
          <p:spPr>
            <a:xfrm>
              <a:off x="4694760" y="47242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Text Box 28"/>
            <p:cNvSpPr/>
            <p:nvPr/>
          </p:nvSpPr>
          <p:spPr>
            <a:xfrm>
              <a:off x="5277240" y="47242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Text Box 29"/>
            <p:cNvSpPr/>
            <p:nvPr/>
          </p:nvSpPr>
          <p:spPr>
            <a:xfrm>
              <a:off x="5837760" y="47242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Text Box 30"/>
            <p:cNvSpPr/>
            <p:nvPr/>
          </p:nvSpPr>
          <p:spPr>
            <a:xfrm>
              <a:off x="6456600" y="4724280"/>
              <a:ext cx="52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1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Text Box 31"/>
            <p:cNvSpPr/>
            <p:nvPr/>
          </p:nvSpPr>
          <p:spPr>
            <a:xfrm>
              <a:off x="7115400" y="4724280"/>
              <a:ext cx="52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2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Text Box 32"/>
            <p:cNvSpPr/>
            <p:nvPr/>
          </p:nvSpPr>
          <p:spPr>
            <a:xfrm>
              <a:off x="7724880" y="4724280"/>
              <a:ext cx="52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3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2" name="Group 33"/>
          <p:cNvGrpSpPr/>
          <p:nvPr/>
        </p:nvGrpSpPr>
        <p:grpSpPr>
          <a:xfrm>
            <a:off x="3286080" y="4191120"/>
            <a:ext cx="4875120" cy="459720"/>
            <a:chOff x="3286080" y="4191120"/>
            <a:chExt cx="4875120" cy="459720"/>
          </a:xfrm>
        </p:grpSpPr>
        <p:grpSp>
          <p:nvGrpSpPr>
            <p:cNvPr id="493" name="Group 34"/>
            <p:cNvGrpSpPr/>
            <p:nvPr/>
          </p:nvGrpSpPr>
          <p:grpSpPr>
            <a:xfrm>
              <a:off x="3286080" y="4267080"/>
              <a:ext cx="4875120" cy="303480"/>
              <a:chOff x="3286080" y="4267080"/>
              <a:chExt cx="4875120" cy="303480"/>
            </a:xfrm>
          </p:grpSpPr>
          <p:sp>
            <p:nvSpPr>
              <p:cNvPr id="494" name="Rectangle 35"/>
              <p:cNvSpPr/>
              <p:nvPr/>
            </p:nvSpPr>
            <p:spPr>
              <a:xfrm>
                <a:off x="3286080" y="4267080"/>
                <a:ext cx="4875120" cy="3034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Rectangle 36"/>
              <p:cNvSpPr/>
              <p:nvPr/>
            </p:nvSpPr>
            <p:spPr>
              <a:xfrm>
                <a:off x="3895560" y="4267080"/>
                <a:ext cx="3656160" cy="303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Rectangle 37"/>
              <p:cNvSpPr/>
              <p:nvPr/>
            </p:nvSpPr>
            <p:spPr>
              <a:xfrm>
                <a:off x="4505400" y="4267080"/>
                <a:ext cx="2436840" cy="303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Rectangle 38"/>
              <p:cNvSpPr/>
              <p:nvPr/>
            </p:nvSpPr>
            <p:spPr>
              <a:xfrm>
                <a:off x="5114880" y="4267080"/>
                <a:ext cx="1217520" cy="303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Line 39"/>
              <p:cNvSpPr/>
              <p:nvPr/>
            </p:nvSpPr>
            <p:spPr>
              <a:xfrm>
                <a:off x="5724360" y="4267080"/>
                <a:ext cx="0" cy="303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9" name="Text Box 40"/>
            <p:cNvSpPr/>
            <p:nvPr/>
          </p:nvSpPr>
          <p:spPr>
            <a:xfrm>
              <a:off x="3448440" y="41911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Text Box 41"/>
            <p:cNvSpPr/>
            <p:nvPr/>
          </p:nvSpPr>
          <p:spPr>
            <a:xfrm>
              <a:off x="4008960" y="41911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Text Box 42"/>
            <p:cNvSpPr/>
            <p:nvPr/>
          </p:nvSpPr>
          <p:spPr>
            <a:xfrm>
              <a:off x="4667760" y="41911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Text Box 43"/>
            <p:cNvSpPr/>
            <p:nvPr/>
          </p:nvSpPr>
          <p:spPr>
            <a:xfrm>
              <a:off x="5210280" y="4191120"/>
              <a:ext cx="52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1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Text Box 44"/>
            <p:cNvSpPr/>
            <p:nvPr/>
          </p:nvSpPr>
          <p:spPr>
            <a:xfrm>
              <a:off x="5847120" y="4191120"/>
              <a:ext cx="52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3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Text Box 45"/>
            <p:cNvSpPr/>
            <p:nvPr/>
          </p:nvSpPr>
          <p:spPr>
            <a:xfrm>
              <a:off x="6456600" y="4191120"/>
              <a:ext cx="52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6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Text Box 46"/>
            <p:cNvSpPr/>
            <p:nvPr/>
          </p:nvSpPr>
          <p:spPr>
            <a:xfrm>
              <a:off x="6895800" y="4191120"/>
              <a:ext cx="70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12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Text Box 47"/>
            <p:cNvSpPr/>
            <p:nvPr/>
          </p:nvSpPr>
          <p:spPr>
            <a:xfrm>
              <a:off x="7545240" y="4191120"/>
              <a:ext cx="18288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7" name="Text Box 48"/>
          <p:cNvSpPr/>
          <p:nvPr/>
        </p:nvSpPr>
        <p:spPr>
          <a:xfrm>
            <a:off x="3306240" y="525780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AutoShape 49"/>
          <p:cNvSpPr/>
          <p:nvPr/>
        </p:nvSpPr>
        <p:spPr>
          <a:xfrm>
            <a:off x="2066760" y="5334120"/>
            <a:ext cx="1143000" cy="22860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 Box 50"/>
          <p:cNvSpPr/>
          <p:nvPr/>
        </p:nvSpPr>
        <p:spPr>
          <a:xfrm>
            <a:off x="3925080" y="525780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Text Box 1"/>
          <p:cNvSpPr/>
          <p:nvPr/>
        </p:nvSpPr>
        <p:spPr>
          <a:xfrm>
            <a:off x="457200" y="106200"/>
            <a:ext cx="8229600" cy="8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Более общий случай оптимизац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 Box 2"/>
          <p:cNvSpPr/>
          <p:nvPr/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madding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crowd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) AND (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ignoble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strife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лучить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doc. freq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для всех термо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ценить размер каждого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O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спользуя сумму его документных частот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рабатывать в процессе увеличения количества документов в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 Box 3"/>
          <p:cNvSpPr/>
          <p:nvPr/>
        </p:nvSpPr>
        <p:spPr>
          <a:xfrm>
            <a:off x="655308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7874A-ED77-417F-8B3C-A2408CD45C72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 Box 4"/>
          <p:cNvSpPr/>
          <p:nvPr/>
        </p:nvSpPr>
        <p:spPr>
          <a:xfrm>
            <a:off x="7654680" y="-33840"/>
            <a:ext cx="89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  <a:ea typeface="Arial Unicode MS"/>
              </a:rPr>
              <a:t>Sec. 1.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Модели поис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атематическая модель – для осуществления процесса поис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едположения о релевантности – в математической форм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одели поис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улева модель - основная модель поиска 60-80-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екторная моде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Text Box 1"/>
          <p:cNvSpPr/>
          <p:nvPr/>
        </p:nvSpPr>
        <p:spPr>
          <a:xfrm>
            <a:off x="457200" y="65160"/>
            <a:ext cx="8291520" cy="12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Булевские запросы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точное сопоставле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 Box 2"/>
          <p:cNvSpPr/>
          <p:nvPr/>
        </p:nvSpPr>
        <p:spPr>
          <a:xfrm>
            <a:off x="395280" y="1484280"/>
            <a:ext cx="8520120" cy="514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>
              <a:lnSpc>
                <a:spcPct val="100000"/>
              </a:lnSpc>
              <a:spcAft>
                <a:spcPts val="1426"/>
              </a:spcAft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Булевская модель рассматривает запрос как булевское выраж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spcAft>
                <a:spcPts val="1426"/>
              </a:spcAft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улевские запросы используют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AND, O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NOT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связки между термами запро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2286000" indent="-455760">
              <a:lnSpc>
                <a:spcPct val="100000"/>
              </a:lnSpc>
              <a:spcAft>
                <a:spcPts val="850"/>
              </a:spcAft>
              <a:buClr>
                <a:srgbClr val="000000"/>
              </a:buClr>
              <a:buFont typeface="Calibri"/>
              <a:buChar char="-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Каждый документ -  набор терм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2286000" indent="-455760">
              <a:lnSpc>
                <a:spcPct val="100000"/>
              </a:lnSpc>
              <a:spcAft>
                <a:spcPts val="850"/>
              </a:spcAft>
              <a:buClr>
                <a:srgbClr val="000000"/>
              </a:buClr>
              <a:buFont typeface="Calibri"/>
              <a:buChar char="-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Каждый запрос – по умолчанию операция 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2286000" indent="-455760">
              <a:lnSpc>
                <a:spcPct val="100000"/>
              </a:lnSpc>
              <a:spcAft>
                <a:spcPts val="850"/>
              </a:spcAft>
              <a:buClr>
                <a:srgbClr val="000000"/>
              </a:buClr>
              <a:buFont typeface="Calibri"/>
              <a:buChar char="-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Точная выдач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: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Документ либо подходит к условию, либо не подходит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spcAft>
                <a:spcPts val="1426"/>
              </a:spcAft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ногие поисковые системы еще булевские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82600">
              <a:lnSpc>
                <a:spcPct val="100000"/>
              </a:lnSpc>
              <a:spcAft>
                <a:spcPts val="1137"/>
              </a:spcAft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оиск по электронной почте, поиск в каталоге библиоте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3"/>
          <p:cNvSpPr/>
          <p:nvPr/>
        </p:nvSpPr>
        <p:spPr>
          <a:xfrm>
            <a:off x="655308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B0998-8866-4247-B4A6-72C6C30330C5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4"/>
          <p:cNvSpPr/>
          <p:nvPr/>
        </p:nvSpPr>
        <p:spPr>
          <a:xfrm>
            <a:off x="7654680" y="-33840"/>
            <a:ext cx="89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  <a:ea typeface="Arial Unicode MS"/>
              </a:rPr>
              <a:t>Sec. 1.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Text Box 2"/>
          <p:cNvSpPr/>
          <p:nvPr/>
        </p:nvSpPr>
        <p:spPr>
          <a:xfrm>
            <a:off x="457200" y="-36360"/>
            <a:ext cx="822816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2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ме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WestLaw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http://www.westlaw.com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 Box 3"/>
          <p:cNvSpPr/>
          <p:nvPr/>
        </p:nvSpPr>
        <p:spPr>
          <a:xfrm>
            <a:off x="179280" y="907920"/>
            <a:ext cx="8507520" cy="57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spcAft>
                <a:spcPts val="1426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ммерческая система поиска по законодательству (платные подписчики)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ункционирует с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975;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нжирование добавлено в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199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spcAft>
                <a:spcPts val="1426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рабайты дан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spcAft>
                <a:spcPts val="1426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ольшинство пользователей используют булевсские запрос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spcAft>
                <a:spcPts val="1426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мер запрос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4400">
              <a:lnSpc>
                <a:spcPct val="100000"/>
              </a:lnSpc>
              <a:spcAft>
                <a:spcPts val="1137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What is the statute of limitations in cases involving the federal tort claims ac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4400">
              <a:lnSpc>
                <a:spcPct val="100000"/>
              </a:lnSpc>
              <a:spcAft>
                <a:spcPts val="1137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d"/>
                </a:solidFill>
                <a:latin typeface="Calibri"/>
                <a:ea typeface="Arial"/>
              </a:rPr>
              <a:t>LIMIT! /3 STATUTE ACTION /S FEDERAL /2 TORT /3 CLAI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2286000" indent="-455760">
              <a:lnSpc>
                <a:spcPct val="100000"/>
              </a:lnSpc>
              <a:spcAft>
                <a:spcPts val="850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/3 = within 3 words, /S = in same sent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 Box 4"/>
          <p:cNvSpPr/>
          <p:nvPr/>
        </p:nvSpPr>
        <p:spPr>
          <a:xfrm>
            <a:off x="655308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CF7B0900-8F46-4495-A03D-3D82CD5F8ED3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ext Box 5"/>
          <p:cNvSpPr/>
          <p:nvPr/>
        </p:nvSpPr>
        <p:spPr>
          <a:xfrm>
            <a:off x="7654680" y="-33840"/>
            <a:ext cx="89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  <a:ea typeface="Arial Unicode MS"/>
              </a:rPr>
              <a:t>Sec. 1.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Text Box 2"/>
          <p:cNvSpPr/>
          <p:nvPr/>
        </p:nvSpPr>
        <p:spPr>
          <a:xfrm>
            <a:off x="457200" y="271440"/>
            <a:ext cx="823284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Булевский поис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 Box 3"/>
          <p:cNvSpPr/>
          <p:nvPr/>
        </p:nvSpPr>
        <p:spPr>
          <a:xfrm>
            <a:off x="395280" y="907920"/>
            <a:ext cx="8291520" cy="56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39840" indent="-339840">
              <a:spcBef>
                <a:spcPts val="638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еимуще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Результаты предсказуемы, их легко объясн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Могут быть встроены многие различные призна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Эффективная обработ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638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достат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Качество выдачи зависит исключительно от пользовате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ростые запросы дают слишком много документов (нет упорядочени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Длинные запросы сложно состав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Text Box 2"/>
          <p:cNvSpPr/>
          <p:nvPr/>
        </p:nvSpPr>
        <p:spPr>
          <a:xfrm>
            <a:off x="457200" y="176040"/>
            <a:ext cx="8001000" cy="7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оиск, ведомый числом документ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Text Box 3"/>
          <p:cNvSpPr/>
          <p:nvPr/>
        </p:nvSpPr>
        <p:spPr>
          <a:xfrm>
            <a:off x="380880" y="990720"/>
            <a:ext cx="838224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39840" indent="-339840">
              <a:spcBef>
                <a:spcPts val="638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следовательность запросов, направляемая числом докумен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lincoln”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в новостных статья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president AND linco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president AND lincoln AND NOT (automobile OR ca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president AND lincoln AND biography AND life AND birthplace AND gettysburg AND NOT (automobile OR ca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president AND lincoln AND (biography OR life OR birthplace OR gettysburg) AND NOT (automobile OR ca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екторная модел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Text Box 2"/>
          <p:cNvSpPr/>
          <p:nvPr/>
        </p:nvSpPr>
        <p:spPr>
          <a:xfrm>
            <a:off x="457200" y="274680"/>
            <a:ext cx="822816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2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Ранжированный поис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 Box 3"/>
          <p:cNvSpPr/>
          <p:nvPr/>
        </p:nvSpPr>
        <p:spPr>
          <a:xfrm>
            <a:off x="457200" y="1413000"/>
            <a:ext cx="8229600" cy="51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spcAft>
                <a:spcPts val="1426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булевском поиске документы либо подходят, либо не подходят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spcAft>
                <a:spcPts val="1426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357e69"/>
                </a:solidFill>
                <a:latin typeface="Arial"/>
              </a:rPr>
              <a:t>Булевский поиск хорош для экспертов с точным пониманием потребности и коллек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spcAft>
                <a:spcPts val="1426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подходит для большинства пользователей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4400">
              <a:lnSpc>
                <a:spcPct val="100000"/>
              </a:lnSpc>
              <a:spcAft>
                <a:spcPts val="1137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Многие пользователи не могут или не хотят писать булевские запросы с оператор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4400">
              <a:lnSpc>
                <a:spcPct val="100000"/>
              </a:lnSpc>
              <a:spcAft>
                <a:spcPts val="1137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Многие пользователи не хотят просматривать тысчи результатов</a:t>
            </a:r>
            <a:r>
              <a:rPr b="0" lang="en-US" sz="2400" spc="-1" strike="noStrike">
                <a:solidFill>
                  <a:srgbClr val="357e69"/>
                </a:solidFill>
                <a:latin typeface="Calibri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2286000" indent="-455760">
              <a:lnSpc>
                <a:spcPct val="100000"/>
              </a:lnSpc>
              <a:spcAft>
                <a:spcPts val="850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357e69"/>
                </a:solidFill>
                <a:latin typeface="Arial"/>
                <a:ea typeface="Arial"/>
              </a:rPr>
              <a:t>И это особенно существенно для веб-поис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spcAft>
                <a:spcPts val="1426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Text Box 4"/>
          <p:cNvSpPr/>
          <p:nvPr/>
        </p:nvSpPr>
        <p:spPr>
          <a:xfrm>
            <a:off x="7647480" y="-33840"/>
            <a:ext cx="65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  <a:ea typeface="Arial Unicode MS"/>
              </a:rPr>
              <a:t>Ch. 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0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Text Box 2"/>
          <p:cNvSpPr/>
          <p:nvPr/>
        </p:nvSpPr>
        <p:spPr>
          <a:xfrm>
            <a:off x="457200" y="135000"/>
            <a:ext cx="8228160" cy="7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2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Ранжированные модели поис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 Box 3"/>
          <p:cNvSpPr/>
          <p:nvPr/>
        </p:nvSpPr>
        <p:spPr>
          <a:xfrm>
            <a:off x="457200" y="1125360"/>
            <a:ext cx="8229600" cy="54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стема должна не только выдавать документы, удовлетворяющие запросу, на и упорядочивать их так, чтобы лучшие документы оказались в начале спис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357e69"/>
                </a:solidFill>
                <a:latin typeface="Arial"/>
              </a:rPr>
              <a:t>Обычно свободные текстовые запросы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теперь уже не предполагается, что пользователь будет применять булевские операторы – пользовательские запросы формулируются просто на естественном язы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временные поисковые систем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нжированный поис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+булевские операторы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о ранжированный поиск ассоциируется именно со свободными текстовыми запрос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Text Box 4"/>
          <p:cNvSpPr/>
          <p:nvPr/>
        </p:nvSpPr>
        <p:spPr>
          <a:xfrm>
            <a:off x="655308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3130CE06-878C-42F0-B58C-A942D7A0A8A9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Text Box 2"/>
          <p:cNvSpPr/>
          <p:nvPr/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2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нжированные модел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s.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улевские моде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spcAft>
                <a:spcPts val="1400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гда система выдает ранжированную выдачу, то большое множество результатов, становится значительно меньшей проблем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24000"/>
              </a:lnSpc>
              <a:spcAft>
                <a:spcPts val="1426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ы можем просмотреть первые 10 результа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4400">
              <a:lnSpc>
                <a:spcPct val="124000"/>
              </a:lnSpc>
              <a:spcAft>
                <a:spcPts val="1137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ри условии, что ранжирующий алгоритм работа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упорядочения документов наша модель поиска должна вырабатывать числовой вес, например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0, 1]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который отражает степень соответствия между запросом и документо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Text Box 4"/>
          <p:cNvSpPr/>
          <p:nvPr/>
        </p:nvSpPr>
        <p:spPr>
          <a:xfrm>
            <a:off x="7647480" y="-33840"/>
            <a:ext cx="65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  <a:ea typeface="Arial Unicode MS"/>
              </a:rPr>
              <a:t>Ch. 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Text Box 2"/>
          <p:cNvSpPr/>
          <p:nvPr/>
        </p:nvSpPr>
        <p:spPr>
          <a:xfrm>
            <a:off x="457200" y="209520"/>
            <a:ext cx="8228160" cy="7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2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Сравнение запроса и докумен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 Box 3"/>
          <p:cNvSpPr/>
          <p:nvPr/>
        </p:nvSpPr>
        <p:spPr>
          <a:xfrm>
            <a:off x="457200" y="1052640"/>
            <a:ext cx="8229600" cy="550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lnSpc>
                <a:spcPct val="124000"/>
              </a:lnSpc>
              <a:spcAft>
                <a:spcPts val="1426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сли взять запрос, состоящий из одного сло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24000"/>
              </a:lnSpc>
              <a:spcAft>
                <a:spcPts val="1426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 какие документы будут лучше соответствовать запросу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24000"/>
              </a:lnSpc>
              <a:spcAft>
                <a:spcPts val="1426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24000"/>
              </a:lnSpc>
              <a:spcAft>
                <a:spcPts val="1426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сли в запросе несколько сл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24000"/>
              </a:lnSpc>
              <a:spcAft>
                <a:spcPts val="1426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то здесь не обязательно полное вхождение слов запроса в докумен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24000"/>
              </a:lnSpc>
              <a:spcAft>
                <a:spcPts val="1426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какие документы соответствуют запросу лучш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 Box 4"/>
          <p:cNvSpPr/>
          <p:nvPr/>
        </p:nvSpPr>
        <p:spPr>
          <a:xfrm>
            <a:off x="7647480" y="-33840"/>
            <a:ext cx="65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  <a:ea typeface="Arial Unicode MS"/>
              </a:rPr>
              <a:t>Ch. 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Text Box 2"/>
          <p:cNvSpPr/>
          <p:nvPr/>
        </p:nvSpPr>
        <p:spPr>
          <a:xfrm>
            <a:off x="457200" y="209520"/>
            <a:ext cx="8228160" cy="7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2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Сравнение запроса и докумен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 Box 3"/>
          <p:cNvSpPr/>
          <p:nvPr/>
        </p:nvSpPr>
        <p:spPr>
          <a:xfrm>
            <a:off x="457200" y="1052640"/>
            <a:ext cx="8229600" cy="550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lnSpc>
                <a:spcPct val="124000"/>
              </a:lnSpc>
              <a:spcAft>
                <a:spcPts val="1426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сли взять запрос, состоящий из одного сло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24000"/>
              </a:lnSpc>
              <a:spcAft>
                <a:spcPts val="1426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о более высокая частота слова в документе лучш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24000"/>
              </a:lnSpc>
              <a:spcAft>
                <a:spcPts val="1426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сли в запросе несколько сл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24000"/>
              </a:lnSpc>
              <a:spcAft>
                <a:spcPts val="1426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то хорошо бы учесть долю пересечения слов запроса с документ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24000"/>
              </a:lnSpc>
              <a:spcAft>
                <a:spcPts val="1426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 Box 4"/>
          <p:cNvSpPr/>
          <p:nvPr/>
        </p:nvSpPr>
        <p:spPr>
          <a:xfrm>
            <a:off x="7647480" y="-33840"/>
            <a:ext cx="65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  <a:ea typeface="Arial Unicode MS"/>
              </a:rPr>
              <a:t>Ch. 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0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23284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Булев поис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457200" y="1125360"/>
            <a:ext cx="8291520" cy="54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1280" indent="-33984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ва возможных результата для сопоставления запроса и докумен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260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TRUE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FAL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260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Поиск по полному совпадени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260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Простейшая форма ранжир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260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апрос может специфицироваться посредством Булевых оператор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260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AND, OR, N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260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Могут быть использоваться операторы близости (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proximit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Text Box 2"/>
          <p:cNvSpPr/>
          <p:nvPr/>
        </p:nvSpPr>
        <p:spPr>
          <a:xfrm>
            <a:off x="457200" y="115920"/>
            <a:ext cx="821844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Матрица частоты употребления терма в документ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 Box 3"/>
          <p:cNvSpPr/>
          <p:nvPr/>
        </p:nvSpPr>
        <p:spPr>
          <a:xfrm>
            <a:off x="0" y="1197000"/>
            <a:ext cx="8686800" cy="53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>
              <a:lnSpc>
                <a:spcPct val="124000"/>
              </a:lnSpc>
              <a:spcAft>
                <a:spcPts val="1426"/>
              </a:spcAft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ссмотрим число вхождений терма в документ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(=частота=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requenc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2600">
              <a:lnSpc>
                <a:spcPct val="124000"/>
              </a:lnSpc>
              <a:spcAft>
                <a:spcPts val="1137"/>
              </a:spcAft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Каждый документ – это вектор частот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ℕ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5" name="Object 4"/>
          <p:cNvGraphicFramePr/>
          <p:nvPr/>
        </p:nvGraphicFramePr>
        <p:xfrm>
          <a:off x="76320" y="3765600"/>
          <a:ext cx="8932680" cy="2711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4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3765600"/>
                    <a:ext cx="8932680" cy="271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7" name="Rectangle 5"/>
          <p:cNvSpPr/>
          <p:nvPr/>
        </p:nvSpPr>
        <p:spPr>
          <a:xfrm>
            <a:off x="3352680" y="3809880"/>
            <a:ext cx="1371600" cy="26672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Rectangle 6"/>
          <p:cNvSpPr/>
          <p:nvPr/>
        </p:nvSpPr>
        <p:spPr>
          <a:xfrm>
            <a:off x="3733920" y="2666880"/>
            <a:ext cx="1600200" cy="3049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 Box 7"/>
          <p:cNvSpPr/>
          <p:nvPr/>
        </p:nvSpPr>
        <p:spPr>
          <a:xfrm>
            <a:off x="7654680" y="-33840"/>
            <a:ext cx="89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  <a:ea typeface="Arial Unicode MS"/>
              </a:rPr>
              <a:t>Sec. 6.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328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екторная модел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1280" indent="-33984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2" name="Picture 4" descr=""/>
          <p:cNvPicPr/>
          <p:nvPr/>
        </p:nvPicPr>
        <p:blipFill>
          <a:blip r:embed="rId1"/>
          <a:stretch/>
        </p:blipFill>
        <p:spPr>
          <a:xfrm>
            <a:off x="2286000" y="2666880"/>
            <a:ext cx="4038480" cy="3872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Text Box 2"/>
          <p:cNvSpPr/>
          <p:nvPr/>
        </p:nvSpPr>
        <p:spPr>
          <a:xfrm>
            <a:off x="457200" y="274680"/>
            <a:ext cx="822816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2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Calibri"/>
              </a:rPr>
              <a:t>Модель «мешок слов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457200" y="1052640"/>
            <a:ext cx="8229600" cy="550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>
              <a:lnSpc>
                <a:spcPct val="124000"/>
              </a:lnSpc>
              <a:spcAft>
                <a:spcPts val="1426"/>
              </a:spcAft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екторное представление не учитывает порядок слов в тексте, не учитывает никакие связи между словами (синтаксические, семантически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124000"/>
              </a:lnSpc>
              <a:spcAft>
                <a:spcPts val="1426"/>
              </a:spcAft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0" i="1" lang="ru-RU" sz="2400" spc="-1" strike="noStrike">
                <a:solidFill>
                  <a:srgbClr val="357e69"/>
                </a:solidFill>
                <a:latin typeface="Arial"/>
              </a:rPr>
              <a:t>Банк купил компанию</a:t>
            </a:r>
            <a:r>
              <a:rPr b="0" i="1" lang="en-US" sz="24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c00000"/>
                </a:solidFill>
                <a:latin typeface="Calibri"/>
              </a:rPr>
              <a:t>и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i="1" lang="ru-RU" sz="2400" spc="-1" strike="noStrike">
                <a:solidFill>
                  <a:srgbClr val="357e69"/>
                </a:solidFill>
                <a:latin typeface="Arial"/>
              </a:rPr>
              <a:t>Компания купила банк -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c00000"/>
                </a:solidFill>
                <a:latin typeface="Calibri"/>
              </a:rPr>
              <a:t>это те же самые векто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124000"/>
              </a:lnSpc>
              <a:spcAft>
                <a:spcPts val="1426"/>
              </a:spcAft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одель мешок слов 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bag of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0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2000"/>
                            </p:stCondLst>
                            <p:childTnLst>
                              <p:par>
                                <p:cTn id="2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Text Box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6" name="Picture 3" descr=""/>
          <p:cNvPicPr/>
          <p:nvPr/>
        </p:nvPicPr>
        <p:blipFill>
          <a:blip r:embed="rId1"/>
          <a:stretch/>
        </p:blipFill>
        <p:spPr>
          <a:xfrm>
            <a:off x="357120" y="0"/>
            <a:ext cx="8286840" cy="666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Text Box 2"/>
          <p:cNvSpPr/>
          <p:nvPr/>
        </p:nvSpPr>
        <p:spPr>
          <a:xfrm>
            <a:off x="457200" y="135000"/>
            <a:ext cx="8362800" cy="10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2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торой фактор: подокументная частот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457200" y="1125360"/>
            <a:ext cx="8229600" cy="54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>
              <a:lnSpc>
                <a:spcPct val="110000"/>
              </a:lnSpc>
              <a:spcAft>
                <a:spcPts val="700"/>
              </a:spcAft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Частотные слова менее информативны, чем редк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110000"/>
              </a:lnSpc>
              <a:spcAft>
                <a:spcPts val="700"/>
              </a:spcAft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самые частотные слова в документе - служеб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110000"/>
              </a:lnSpc>
              <a:spcAft>
                <a:spcPts val="700"/>
              </a:spcAft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Частотные слова: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высокий, низкий, ли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110000"/>
              </a:lnSpc>
              <a:spcAft>
                <a:spcPts val="700"/>
              </a:spcAft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верхчастотные слова типа: предлоги, союзы, которые есть во многих документах вообще иногда рассматриваются как стоп-слова и выбрасываются из докумен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110000"/>
              </a:lnSpc>
              <a:spcAft>
                <a:spcPts val="700"/>
              </a:spcAft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Чтобы учесть эту распространенность – вводится фактор, df – количество документов, в которых употреблялось это слово – подокументная частот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110000"/>
              </a:lnSpc>
              <a:spcAft>
                <a:spcPts val="700"/>
              </a:spcAft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 Box 4"/>
          <p:cNvSpPr/>
          <p:nvPr/>
        </p:nvSpPr>
        <p:spPr>
          <a:xfrm>
            <a:off x="7666560" y="-33840"/>
            <a:ext cx="106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  <a:ea typeface="Arial Unicode MS"/>
              </a:rPr>
              <a:t>Sec. 6.2.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Text Box 2"/>
          <p:cNvSpPr/>
          <p:nvPr/>
        </p:nvSpPr>
        <p:spPr>
          <a:xfrm>
            <a:off x="457200" y="-6480"/>
            <a:ext cx="8228160" cy="7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2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Вес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id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Text Box 3"/>
          <p:cNvSpPr/>
          <p:nvPr/>
        </p:nvSpPr>
        <p:spPr>
          <a:xfrm>
            <a:off x="468360" y="765000"/>
            <a:ext cx="8229600" cy="578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lnSpc>
                <a:spcPct val="105000"/>
              </a:lnSpc>
              <a:spcAft>
                <a:spcPts val="201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f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– подокументная частотность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оличество документов, содержащих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4400">
              <a:lnSpc>
                <a:spcPct val="105000"/>
              </a:lnSpc>
              <a:spcAft>
                <a:spcPts val="150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d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– это обратная мера информативности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4400">
              <a:lnSpc>
                <a:spcPct val="105000"/>
              </a:lnSpc>
              <a:spcAft>
                <a:spcPts val="150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d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t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5000"/>
              </a:lnSpc>
              <a:spcAft>
                <a:spcPts val="201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ы определяем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df (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ратная подокументная частота)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5000"/>
              </a:lnSpc>
              <a:spcAft>
                <a:spcPts val="201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5000"/>
              </a:lnSpc>
              <a:spcAft>
                <a:spcPts val="201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5000"/>
              </a:lnSpc>
              <a:spcAft>
                <a:spcPts val="201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4400">
              <a:lnSpc>
                <a:spcPct val="105000"/>
              </a:lnSpc>
              <a:spcAft>
                <a:spcPts val="150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Логарифм используется, чтобы «смягчить» разницу в употреблении более частотных и менее частотных слов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2" name="Object 4"/>
              <p:cNvSpPr txBox="1"/>
              <p:nvPr/>
            </p:nvSpPr>
            <p:spPr>
              <a:xfrm>
                <a:off x="2340000" y="4005360"/>
                <a:ext cx="3637080" cy="71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idf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lo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N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/df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63" name="Text Box 5"/>
          <p:cNvSpPr/>
          <p:nvPr/>
        </p:nvSpPr>
        <p:spPr>
          <a:xfrm>
            <a:off x="7666560" y="-33840"/>
            <a:ext cx="106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  <a:ea typeface="Arial Unicode MS"/>
              </a:rPr>
              <a:t>Sec. 6.2.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Text Box 2"/>
          <p:cNvSpPr/>
          <p:nvPr/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2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едположим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N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= 1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иллион докумен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5" name=""/>
          <p:cNvGraphicFramePr/>
          <p:nvPr/>
        </p:nvGraphicFramePr>
        <p:xfrm>
          <a:off x="152280" y="1752480"/>
          <a:ext cx="8918640" cy="3122640"/>
        </p:xfrm>
        <a:graphic>
          <a:graphicData uri="http://schemas.openxmlformats.org/drawingml/2006/table">
            <a:tbl>
              <a:tblPr/>
              <a:tblGrid>
                <a:gridCol w="2971800"/>
                <a:gridCol w="2975040"/>
                <a:gridCol w="2971800"/>
              </a:tblGrid>
              <a:tr h="446040">
                <a:tc>
                  <a:txBody>
                    <a:bodyPr lIns="90000" rIns="90000" tIns="9720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ter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9720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df</a:t>
                      </a:r>
                      <a:r>
                        <a:rPr b="1" i="1" lang="en-US" sz="2000" spc="-1" strike="noStrike" baseline="-25000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9720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idf</a:t>
                      </a:r>
                      <a:r>
                        <a:rPr b="1" i="1" lang="en-US" sz="2000" spc="-1" strike="noStrike" baseline="-25000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cc99"/>
                    </a:solidFill>
                  </a:tcPr>
                </a:tc>
              </a:tr>
              <a:tr h="446400">
                <a:tc>
                  <a:txBody>
                    <a:bodyPr lIns="90000" rIns="90000" tIns="9720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calpurn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0000" rIns="90000" tIns="97200" bIns="46800" anchor="t">
                      <a:noAutofit/>
                    </a:bodyPr>
                    <a:p>
                      <a:pPr algn="r">
                        <a:lnSpc>
                          <a:spcPct val="87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0000" rIns="90000" tIns="97200" bIns="46800" anchor="t">
                      <a:noAutofit/>
                    </a:bodyPr>
                    <a:p>
                      <a:pPr algn="r">
                        <a:lnSpc>
                          <a:spcPct val="87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bf5e1"/>
                    </a:solidFill>
                  </a:tcPr>
                </a:tc>
              </a:tr>
              <a:tr h="446040">
                <a:tc>
                  <a:txBody>
                    <a:bodyPr lIns="90000" rIns="90000" tIns="97200" bIns="46800" anchor="t">
                      <a:noAutofit/>
                    </a:bodyPr>
                    <a:p>
                      <a:pPr marL="6453360" indent="-6450120">
                        <a:lnSpc>
                          <a:spcPct val="87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6453360"/>
                          <a:tab algn="l" pos="7367760"/>
                          <a:tab algn="l" pos="8282160"/>
                          <a:tab algn="l" pos="9196560"/>
                          <a:tab algn="l" pos="10110960"/>
                          <a:tab algn="l" pos="11025360"/>
                          <a:tab algn="l" pos="11939760"/>
                          <a:tab algn="l" pos="12854160"/>
                          <a:tab algn="l" pos="13768560"/>
                          <a:tab algn="l" pos="14682960"/>
                          <a:tab algn="l" pos="15597360"/>
                          <a:tab algn="l" pos="1651176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anim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90000" rIns="90000" tIns="97200" bIns="46800" anchor="t">
                      <a:noAutofit/>
                    </a:bodyPr>
                    <a:p>
                      <a:pPr algn="r">
                        <a:lnSpc>
                          <a:spcPct val="87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90000" rIns="90000" tIns="97200" bIns="46800" anchor="t">
                      <a:noAutofit/>
                    </a:bodyPr>
                    <a:p>
                      <a:pPr algn="r">
                        <a:lnSpc>
                          <a:spcPct val="87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faf1"/>
                    </a:solidFill>
                  </a:tcPr>
                </a:tc>
              </a:tr>
              <a:tr h="446040">
                <a:tc>
                  <a:txBody>
                    <a:bodyPr lIns="90000" rIns="90000" tIns="9720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sunda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0000" rIns="90000" tIns="97200" bIns="46800" anchor="t">
                      <a:noAutofit/>
                    </a:bodyPr>
                    <a:p>
                      <a:pPr algn="r">
                        <a:lnSpc>
                          <a:spcPct val="87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1,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0000" rIns="90000" tIns="97200" bIns="46800" anchor="t">
                      <a:noAutofit/>
                    </a:bodyPr>
                    <a:p>
                      <a:pPr marL="23141160" indent="452160" algn="r">
                        <a:lnSpc>
                          <a:spcPct val="87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23141160"/>
                          <a:tab algn="l" pos="24055560"/>
                          <a:tab algn="l" pos="24969960"/>
                          <a:tab algn="l" pos="25884360"/>
                          <a:tab algn="l" pos="26798760"/>
                          <a:tab algn="l" pos="27713160"/>
                          <a:tab algn="l" pos="28627560"/>
                          <a:tab algn="l" pos="29541960"/>
                          <a:tab algn="l" pos="30456360"/>
                          <a:tab algn="l" pos="31370760"/>
                          <a:tab algn="l" pos="32285160"/>
                          <a:tab algn="l" pos="331995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bf5e1"/>
                    </a:solidFill>
                  </a:tcPr>
                </a:tc>
              </a:tr>
              <a:tr h="446040">
                <a:tc>
                  <a:txBody>
                    <a:bodyPr lIns="90000" rIns="90000" tIns="9720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fl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90000" rIns="90000" tIns="97200" bIns="46800" anchor="t">
                      <a:noAutofit/>
                    </a:bodyPr>
                    <a:p>
                      <a:pPr algn="r">
                        <a:lnSpc>
                          <a:spcPct val="87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10,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90000" rIns="90000" tIns="97200" bIns="46800" anchor="t">
                      <a:noAutofit/>
                    </a:bodyPr>
                    <a:p>
                      <a:pPr algn="r">
                        <a:lnSpc>
                          <a:spcPct val="87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faf1"/>
                    </a:solidFill>
                  </a:tcPr>
                </a:tc>
              </a:tr>
              <a:tr h="446040">
                <a:tc>
                  <a:txBody>
                    <a:bodyPr lIns="90000" rIns="90000" tIns="9720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und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0000" rIns="90000" tIns="97200" bIns="46800" anchor="t">
                      <a:noAutofit/>
                    </a:bodyPr>
                    <a:p>
                      <a:pPr algn="r">
                        <a:lnSpc>
                          <a:spcPct val="87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100,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0000" rIns="90000" tIns="97200" bIns="46800" anchor="t">
                      <a:noAutofit/>
                    </a:bodyPr>
                    <a:p>
                      <a:pPr algn="r">
                        <a:lnSpc>
                          <a:spcPct val="87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bf5e1"/>
                    </a:solidFill>
                  </a:tcPr>
                </a:tc>
              </a:tr>
              <a:tr h="446040">
                <a:tc>
                  <a:txBody>
                    <a:bodyPr lIns="90000" rIns="90000" tIns="9720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th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90000" rIns="90000" tIns="97200" bIns="46800" anchor="t">
                      <a:noAutofit/>
                    </a:bodyPr>
                    <a:p>
                      <a:pPr algn="r">
                        <a:lnSpc>
                          <a:spcPct val="87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1,000,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90000" rIns="90000" tIns="97200" bIns="46800" anchor="t">
                      <a:noAutofit/>
                    </a:bodyPr>
                    <a:p>
                      <a:pPr algn="r">
                        <a:lnSpc>
                          <a:spcPct val="87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faf1"/>
                    </a:solidFill>
                  </a:tcPr>
                </a:tc>
              </a:tr>
            </a:tbl>
          </a:graphicData>
        </a:graphic>
      </p:graphicFrame>
      <p:sp>
        <p:nvSpPr>
          <p:cNvPr id="566" name="Text Box 25"/>
          <p:cNvSpPr/>
          <p:nvPr/>
        </p:nvSpPr>
        <p:spPr>
          <a:xfrm>
            <a:off x="677880" y="5862600"/>
            <a:ext cx="742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величины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 idf value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для каждого слова в коллек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 Box 26"/>
          <p:cNvSpPr/>
          <p:nvPr/>
        </p:nvSpPr>
        <p:spPr>
          <a:xfrm>
            <a:off x="7666560" y="-33840"/>
            <a:ext cx="106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  <a:ea typeface="Arial Unicode MS"/>
              </a:rPr>
              <a:t>Sec. 6.2.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8" name="Object 27"/>
              <p:cNvSpPr txBox="1"/>
              <p:nvPr/>
            </p:nvSpPr>
            <p:spPr>
              <a:xfrm>
                <a:off x="2057400" y="5105520"/>
                <a:ext cx="3637080" cy="71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idf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lo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N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/df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Text Box 2"/>
          <p:cNvSpPr/>
          <p:nvPr/>
        </p:nvSpPr>
        <p:spPr>
          <a:xfrm>
            <a:off x="457200" y="274680"/>
            <a:ext cx="843588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2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щая частот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vs.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документная часто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 Box 3"/>
          <p:cNvSpPr/>
          <p:nvPr/>
        </p:nvSpPr>
        <p:spPr>
          <a:xfrm>
            <a:off x="250920" y="1052640"/>
            <a:ext cx="8569080" cy="550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бщая частота в коллекции – это количество упоминаний 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 документах коллек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85000"/>
              </a:lnSpc>
              <a:spcAft>
                <a:spcPts val="1400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имер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85000"/>
              </a:lnSpc>
              <a:spcAft>
                <a:spcPts val="1400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85000"/>
              </a:lnSpc>
              <a:spcAft>
                <a:spcPts val="1400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85000"/>
              </a:lnSpc>
              <a:spcAft>
                <a:spcPts val="1400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85000"/>
              </a:lnSpc>
              <a:spcAft>
                <a:spcPts val="1400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85000"/>
              </a:lnSpc>
              <a:spcAft>
                <a:spcPts val="1400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85000"/>
              </a:lnSpc>
              <a:spcAft>
                <a:spcPts val="1400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акое слово имеет более высокую тематическую ценност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1" name=""/>
          <p:cNvGraphicFramePr/>
          <p:nvPr/>
        </p:nvGraphicFramePr>
        <p:xfrm>
          <a:off x="1143000" y="2492280"/>
          <a:ext cx="7102440" cy="2952720"/>
        </p:xfrm>
        <a:graphic>
          <a:graphicData uri="http://schemas.openxmlformats.org/drawingml/2006/table">
            <a:tbl>
              <a:tblPr/>
              <a:tblGrid>
                <a:gridCol w="1527120"/>
                <a:gridCol w="2521080"/>
                <a:gridCol w="3054240"/>
              </a:tblGrid>
              <a:tr h="1376280">
                <a:tc>
                  <a:txBody>
                    <a:bodyPr lIns="90000" rIns="90000" tIns="644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Слов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644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Частота в коллекц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644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Подокументная часто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787680">
                <a:tc>
                  <a:txBody>
                    <a:bodyPr lIns="90000" rIns="90000" tIns="644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insuran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0000" rIns="90000" tIns="64440" bIns="46800" anchor="t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104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0000" rIns="90000" tIns="64440" bIns="46800" anchor="t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399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788760">
                <a:tc>
                  <a:txBody>
                    <a:bodyPr lIns="90000" rIns="90000" tIns="644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t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90000" rIns="90000" tIns="64440" bIns="46800" anchor="t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104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90000" rIns="90000" tIns="64440" bIns="46800" anchor="t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87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</a:tbl>
          </a:graphicData>
        </a:graphic>
      </p:graphicFrame>
      <p:sp>
        <p:nvSpPr>
          <p:cNvPr id="572" name="Text Box 38"/>
          <p:cNvSpPr/>
          <p:nvPr/>
        </p:nvSpPr>
        <p:spPr>
          <a:xfrm>
            <a:off x="7666560" y="-33840"/>
            <a:ext cx="106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  <a:ea typeface="Arial Unicode MS"/>
              </a:rPr>
              <a:t>Sec. 6.2.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f-idf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звешива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 txBox="1"/>
          <p:nvPr/>
        </p:nvSpPr>
        <p:spPr>
          <a:xfrm>
            <a:off x="380520" y="1197000"/>
            <a:ext cx="8458200" cy="543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f-idf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 произведение tf на i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гут использоваться всякие модификации tf и id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 t,d=tf*idf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tf=cou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f-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это количество вхождений терма в докумен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метим, чт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“-”  tf-idf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– это не мину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Альтернативные имена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: tf.idf, tf x i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величивается при росте количества упоминаний в докумен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Увеличивается для редких  терминов в коллек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5" name="Object 2"/>
              <p:cNvSpPr txBox="1"/>
              <p:nvPr/>
            </p:nvSpPr>
            <p:spPr>
              <a:xfrm>
                <a:off x="1324080" y="2565360"/>
                <a:ext cx="578952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sSub>
                          <m:e/>
                          <m:sub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r>
                              <m:t xml:space="preserve">d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tf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d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×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</m:sSub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r>
                          <m:t xml:space="preserve">N</m:t>
                        </m:r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f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76" name="TextBox 4"/>
          <p:cNvSpPr/>
          <p:nvPr/>
        </p:nvSpPr>
        <p:spPr>
          <a:xfrm>
            <a:off x="7667280" y="-33120"/>
            <a:ext cx="106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  <a:ea typeface="Arial Unicode MS"/>
              </a:rPr>
              <a:t>Sec. 6.2.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0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2000"/>
                            </p:stCondLst>
                            <p:childTnLst>
                              <p:par>
                                <p:cTn id="24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4000"/>
                            </p:stCondLst>
                            <p:childTnLst>
                              <p:par>
                                <p:cTn id="24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6000"/>
                            </p:stCondLst>
                            <p:childTnLst>
                              <p:par>
                                <p:cTn id="24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Text Box 2"/>
          <p:cNvSpPr/>
          <p:nvPr/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2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атрица вес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8" name="Object 3"/>
          <p:cNvGraphicFramePr/>
          <p:nvPr/>
        </p:nvGraphicFramePr>
        <p:xfrm>
          <a:off x="120600" y="1905120"/>
          <a:ext cx="8947080" cy="2678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7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0600" y="1905120"/>
                    <a:ext cx="8947080" cy="267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0" name="Text Box 4"/>
          <p:cNvSpPr/>
          <p:nvPr/>
        </p:nvSpPr>
        <p:spPr>
          <a:xfrm>
            <a:off x="609480" y="533412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Теперь каждый документ представлен вещественным вектором размерностью число разных слов в коллекции: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tf-idf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веса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 ∈ 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  <a:ea typeface="Arial Unicode MS"/>
              </a:rPr>
              <a:t>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Lucida Sans"/>
                <a:ea typeface="Arial Unicode MS"/>
              </a:rPr>
              <a:t>|V|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 Box 5"/>
          <p:cNvSpPr/>
          <p:nvPr/>
        </p:nvSpPr>
        <p:spPr>
          <a:xfrm>
            <a:off x="7654680" y="-33840"/>
            <a:ext cx="89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  <a:ea typeface="Arial Unicode MS"/>
              </a:rPr>
              <a:t>Sec. 6.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2" name="Object 2"/>
              <p:cNvSpPr txBox="1"/>
              <p:nvPr/>
            </p:nvSpPr>
            <p:spPr>
              <a:xfrm>
                <a:off x="1332000" y="620640"/>
                <a:ext cx="628812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sSub>
                          <m:e/>
                          <m:sub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r>
                              <m:t xml:space="preserve">d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tf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d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×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</m:sSub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r>
                          <m:t xml:space="preserve">N</m:t>
                        </m:r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f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457200" y="274680"/>
            <a:ext cx="822816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2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Булев поиск: приме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457200" y="1484280"/>
            <a:ext cx="8381880" cy="506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акие пьесы Шекспира содержат слов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Brutu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Caesa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but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Calpurni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осмотр и сканирование  пьес, чтобы найти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Brutu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Caesar,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 вычеркнуть те пьесы, где есть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Calpurni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твет: нет, так нельзя. Почему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4400"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Очень медленно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(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для большой коллекции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4400"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Чтобы избежать онлайнового просмотра документов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ужно их заранее проиндексиров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655308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5B267FEA-4B20-4CCF-856E-DEAB9FDF090C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7654680" y="-33840"/>
            <a:ext cx="89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  <a:ea typeface="Arial Unicode MS"/>
              </a:rPr>
              <a:t>Sec. 1.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Text Box 2"/>
          <p:cNvSpPr/>
          <p:nvPr/>
        </p:nvSpPr>
        <p:spPr>
          <a:xfrm>
            <a:off x="468360" y="135000"/>
            <a:ext cx="8227800" cy="7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2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Документы как вектор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 Box 3"/>
          <p:cNvSpPr/>
          <p:nvPr/>
        </p:nvSpPr>
        <p:spPr>
          <a:xfrm>
            <a:off x="457200" y="1052640"/>
            <a:ext cx="8229600" cy="580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lnSpc>
                <a:spcPct val="124000"/>
              </a:lnSpc>
              <a:spcAft>
                <a:spcPts val="700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|V|-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ерное векторное пространст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24000"/>
              </a:lnSpc>
              <a:spcAft>
                <a:spcPts val="700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лова – это отдельные позиции (оси) в вектор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24000"/>
              </a:lnSpc>
              <a:spcAft>
                <a:spcPts val="700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окументы – точки или вектора в пространств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24000"/>
              </a:lnSpc>
              <a:spcAft>
                <a:spcPts val="700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Очень большой размерности: десятки миллионов  для интерне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24000"/>
              </a:lnSpc>
              <a:spcAft>
                <a:spcPts val="700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Вектора документов – разреженны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24000"/>
              </a:lnSpc>
              <a:spcAft>
                <a:spcPts val="700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Очень много нул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 Box 4"/>
          <p:cNvSpPr/>
          <p:nvPr/>
        </p:nvSpPr>
        <p:spPr>
          <a:xfrm>
            <a:off x="7654680" y="-33840"/>
            <a:ext cx="89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  <a:ea typeface="Arial Unicode MS"/>
              </a:rPr>
              <a:t>Sec. 6.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0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Text Box 2"/>
          <p:cNvSpPr/>
          <p:nvPr/>
        </p:nvSpPr>
        <p:spPr>
          <a:xfrm>
            <a:off x="457200" y="274680"/>
            <a:ext cx="822816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2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Формализация близости вектор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Text Box 3"/>
          <p:cNvSpPr/>
          <p:nvPr/>
        </p:nvSpPr>
        <p:spPr>
          <a:xfrm>
            <a:off x="457200" y="1341360"/>
            <a:ext cx="8229600" cy="52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lnSpc>
                <a:spcPct val="124000"/>
              </a:lnSpc>
              <a:spcAft>
                <a:spcPts val="1426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едположение: чем меньше угол, тем более похожи векто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24000"/>
              </a:lnSpc>
              <a:spcAft>
                <a:spcPts val="1426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осинусная мера: чем больше косинус  угла между векторами, тем более похожи докумен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24000"/>
              </a:lnSpc>
              <a:spcAft>
                <a:spcPts val="1426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Как вычислять косинус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 Box 4"/>
          <p:cNvSpPr/>
          <p:nvPr/>
        </p:nvSpPr>
        <p:spPr>
          <a:xfrm>
            <a:off x="7654680" y="-33840"/>
            <a:ext cx="89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  <a:ea typeface="Arial Unicode MS"/>
              </a:rPr>
              <a:t>Sec. 6.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9" name="Picture 5" descr=""/>
          <p:cNvPicPr/>
          <p:nvPr/>
        </p:nvPicPr>
        <p:blipFill>
          <a:blip r:embed="rId1"/>
          <a:srcRect l="0" t="16669" r="0" b="16669"/>
          <a:stretch/>
        </p:blipFill>
        <p:spPr>
          <a:xfrm>
            <a:off x="5364000" y="4484520"/>
            <a:ext cx="2148120" cy="1432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Text Box 2"/>
          <p:cNvSpPr/>
          <p:nvPr/>
        </p:nvSpPr>
        <p:spPr>
          <a:xfrm>
            <a:off x="457200" y="274680"/>
            <a:ext cx="822816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2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Косинус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q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,d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1" name="Group 3"/>
          <p:cNvGrpSpPr/>
          <p:nvPr/>
        </p:nvGrpSpPr>
        <p:grpSpPr>
          <a:xfrm>
            <a:off x="1042920" y="2276640"/>
            <a:ext cx="7213680" cy="1382400"/>
            <a:chOff x="1042920" y="2276640"/>
            <a:chExt cx="7213680" cy="1382400"/>
          </a:xfrm>
        </p:grpSpPr>
        <mc:AlternateContent>
          <mc:Choice xmlns:a14="http://schemas.microsoft.com/office/drawing/2010/main" Requires="a14">
            <p:sp>
              <p:nvSpPr>
                <p:cNvPr id="592" name="Object 4"/>
                <p:cNvSpPr txBox="1"/>
                <p:nvPr/>
              </p:nvSpPr>
              <p:spPr>
                <a:xfrm>
                  <a:off x="1690920" y="2393640"/>
                  <a:ext cx="5918040" cy="1147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cos</m:t>
                      </m:r>
                      <m:r>
                        <m:t xml:space="preserve">(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q</m:t>
                          </m:r>
                        </m:e>
                      </m:acc>
                      <m:r>
                        <m:t xml:space="preserve">,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d</m:t>
                          </m:r>
                        </m:e>
                      </m:acc>
                      <m:r>
                        <m:t xml:space="preserve">)</m:t>
                      </m:r>
                      <m:r>
                        <m:t xml:space="preserve">=</m:t>
                      </m:r>
                      <m:f>
                        <m:num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q</m:t>
                              </m:r>
                            </m:e>
                          </m:acc>
                          <m:r>
                            <m:t xml:space="preserve">⋅</m:t>
                          </m:r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d</m:t>
                              </m:r>
                            </m:e>
                          </m:acc>
                        </m:num>
                        <m:den>
                          <m:d>
                            <m:dPr>
                              <m:begChr m:val="|"/>
                              <m:endChr m:val="|"/>
                            </m:dPr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q</m:t>
                                  </m:r>
                                </m:e>
                              </m:acc>
                            </m:e>
                          </m:d>
                          <m:d>
                            <m:dPr>
                              <m:begChr m:val="|"/>
                              <m:endChr m:val="|"/>
                            </m:dPr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d</m:t>
                                  </m:r>
                                </m:e>
                              </m:acc>
                            </m:e>
                          </m:d>
                        </m:den>
                      </m:f>
                      <m:r>
                        <m:t xml:space="preserve">=</m:t>
                      </m:r>
                      <m:f>
                        <m:num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q</m:t>
                              </m:r>
                            </m:e>
                          </m:acc>
                        </m:num>
                        <m:den>
                          <m:d>
                            <m:dPr>
                              <m:begChr m:val="|"/>
                              <m:endChr m:val="|"/>
                            </m:dPr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q</m:t>
                                  </m:r>
                                </m:e>
                              </m:acc>
                            </m:e>
                          </m:d>
                        </m:den>
                      </m:f>
                      <m:r>
                        <m:t xml:space="preserve">⋅</m:t>
                      </m:r>
                      <m:f>
                        <m:num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d</m:t>
                              </m:r>
                            </m:e>
                          </m:acc>
                        </m:num>
                        <m:den>
                          <m:d>
                            <m:dPr>
                              <m:begChr m:val="|"/>
                              <m:endChr m:val="|"/>
                            </m:dPr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d</m:t>
                                  </m:r>
                                </m:e>
                              </m:acc>
                            </m:e>
                          </m:d>
                        </m:den>
                      </m:f>
                      <m:r>
                        <m:t xml:space="preserve">=</m:t>
                      </m:r>
                      <m:f>
                        <m:num>
                          <m:nary>
                            <m:naryPr>
                              <m:chr m:val="∑"/>
                              <m:subHide m:val="1"/>
                              <m:supHide m:val="1"/>
                            </m:naryPr>
                            <m:sub/>
                            <m:sup/>
                            <m:e>
                              <m:sSub>
                                <m:e>
                                  <m:r>
                                    <m:t xml:space="preserve">q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d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</m:nary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Sup>
                                    <m:e>
                                      <m:r>
                                        <m:t xml:space="preserve">q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bSup>
                                </m:e>
                              </m:nary>
                            </m:e>
                          </m:rad>
                          <m:rad>
                            <m:radPr>
                              <m:degHide m:val="1"/>
                            </m:radPr>
                            <m:deg/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Sup>
                                    <m:e>
                                      <m:r>
                                        <m:t xml:space="preserve">d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bSup>
                                </m:e>
                              </m:nary>
                            </m:e>
                          </m:rad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593" name="Text Box 5"/>
            <p:cNvSpPr/>
            <p:nvPr/>
          </p:nvSpPr>
          <p:spPr>
            <a:xfrm>
              <a:off x="1042920" y="2276640"/>
              <a:ext cx="7213680" cy="13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4" name="Text Box 6"/>
          <p:cNvSpPr/>
          <p:nvPr/>
        </p:nvSpPr>
        <p:spPr>
          <a:xfrm>
            <a:off x="304920" y="4343400"/>
            <a:ext cx="8610480" cy="23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Lucida Sans"/>
                <a:ea typeface="Arial Unicode MS"/>
              </a:rPr>
              <a:t>q</a:t>
            </a:r>
            <a:r>
              <a:rPr b="0" i="1" lang="en-US" sz="2400" spc="-1" strike="noStrike" baseline="-25000">
                <a:solidFill>
                  <a:srgbClr val="0000ff"/>
                </a:solidFill>
                <a:latin typeface="Lucida Sans"/>
                <a:ea typeface="Arial Unicode MS"/>
              </a:rPr>
              <a:t>i</a:t>
            </a:r>
            <a:r>
              <a:rPr b="0" lang="en-US" sz="2400" spc="-1" strike="noStrike">
                <a:solidFill>
                  <a:srgbClr val="0000ff"/>
                </a:solidFill>
                <a:latin typeface="Lucida Sans"/>
                <a:ea typeface="Arial Unicode MS"/>
              </a:rPr>
              <a:t>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  <a:ea typeface="Arial Unicode MS"/>
              </a:rPr>
              <a:t>– это</a:t>
            </a:r>
            <a:r>
              <a:rPr b="0" lang="en-US" sz="2400" spc="-1" strike="noStrike">
                <a:solidFill>
                  <a:srgbClr val="0000ff"/>
                </a:solidFill>
                <a:latin typeface="Lucida Sans"/>
                <a:ea typeface="Arial Unicode MS"/>
              </a:rPr>
              <a:t> tf-idf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  <a:ea typeface="Arial Unicode MS"/>
              </a:rPr>
              <a:t>вес слова</a:t>
            </a:r>
            <a:r>
              <a:rPr b="0" i="1" lang="en-US" sz="2400" spc="-1" strike="noStrike">
                <a:solidFill>
                  <a:srgbClr val="0000ff"/>
                </a:solidFill>
                <a:latin typeface="Lucida Sans"/>
                <a:ea typeface="Arial Unicode MS"/>
              </a:rPr>
              <a:t>i</a:t>
            </a:r>
            <a:r>
              <a:rPr b="0" lang="en-US" sz="2400" spc="-1" strike="noStrike">
                <a:solidFill>
                  <a:srgbClr val="0000ff"/>
                </a:solidFill>
                <a:latin typeface="Lucida Sans"/>
                <a:ea typeface="Arial Unicode MS"/>
              </a:rPr>
              <a:t>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  <a:ea typeface="Arial Unicode MS"/>
              </a:rPr>
              <a:t>в запрос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Lucida Sans"/>
                <a:ea typeface="Arial Unicode MS"/>
              </a:rPr>
              <a:t>d</a:t>
            </a:r>
            <a:r>
              <a:rPr b="0" i="1" lang="en-US" sz="2400" spc="-1" strike="noStrike" baseline="-25000">
                <a:solidFill>
                  <a:srgbClr val="0000ff"/>
                </a:solidFill>
                <a:latin typeface="Lucida Sans"/>
                <a:ea typeface="Arial Unicode MS"/>
              </a:rPr>
              <a:t>i</a:t>
            </a:r>
            <a:r>
              <a:rPr b="0" lang="en-US" sz="2400" spc="-1" strike="noStrike">
                <a:solidFill>
                  <a:srgbClr val="0000ff"/>
                </a:solidFill>
                <a:latin typeface="Lucida Sans"/>
                <a:ea typeface="Arial Unicode MS"/>
              </a:rPr>
              <a:t>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  <a:ea typeface="Arial Unicode MS"/>
              </a:rPr>
              <a:t>-  это</a:t>
            </a:r>
            <a:r>
              <a:rPr b="0" lang="en-US" sz="2400" spc="-1" strike="noStrike">
                <a:solidFill>
                  <a:srgbClr val="0000ff"/>
                </a:solidFill>
                <a:latin typeface="Lucida Sans"/>
                <a:ea typeface="Arial Unicode MS"/>
              </a:rPr>
              <a:t> tf-idf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  <a:ea typeface="Arial Unicode MS"/>
              </a:rPr>
              <a:t>вес терма </a:t>
            </a:r>
            <a:r>
              <a:rPr b="0" i="1" lang="en-US" sz="2400" spc="-1" strike="noStrike">
                <a:solidFill>
                  <a:srgbClr val="0000ff"/>
                </a:solidFill>
                <a:latin typeface="Lucida Sans"/>
                <a:ea typeface="Arial Unicode MS"/>
              </a:rPr>
              <a:t>i</a:t>
            </a:r>
            <a:r>
              <a:rPr b="0" lang="en-US" sz="2400" spc="-1" strike="noStrike">
                <a:solidFill>
                  <a:srgbClr val="0000ff"/>
                </a:solidFill>
                <a:latin typeface="Lucida Sans"/>
                <a:ea typeface="Arial Unicode MS"/>
              </a:rPr>
              <a:t>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  <a:ea typeface="Arial Unicode MS"/>
              </a:rPr>
              <a:t>в докумен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  <a:ea typeface="Arial Unicode MS"/>
              </a:rPr>
              <a:t>q – может быть не только запрос, но и другой докумен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cos(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q,d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)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– это косинусное сходство между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 или эквивалентно, косинус угла между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5" name="AutoShape 7"/>
          <p:cNvCxnSpPr/>
          <p:nvPr/>
        </p:nvCxnSpPr>
        <p:spPr>
          <a:xfrm>
            <a:off x="1258560" y="5876640"/>
            <a:ext cx="2293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6" name="AutoShape 8"/>
          <p:cNvCxnSpPr/>
          <p:nvPr/>
        </p:nvCxnSpPr>
        <p:spPr>
          <a:xfrm>
            <a:off x="6011640" y="6308280"/>
            <a:ext cx="22932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7" name="AutoShape 9"/>
          <p:cNvCxnSpPr/>
          <p:nvPr/>
        </p:nvCxnSpPr>
        <p:spPr>
          <a:xfrm>
            <a:off x="6587640" y="5950080"/>
            <a:ext cx="2293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AutoShape 10"/>
          <p:cNvCxnSpPr/>
          <p:nvPr/>
        </p:nvCxnSpPr>
        <p:spPr>
          <a:xfrm>
            <a:off x="7092720" y="5877000"/>
            <a:ext cx="2293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AutoShape 11"/>
          <p:cNvCxnSpPr/>
          <p:nvPr/>
        </p:nvCxnSpPr>
        <p:spPr>
          <a:xfrm>
            <a:off x="971280" y="5877000"/>
            <a:ext cx="2293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0" name="AutoShape 12"/>
          <p:cNvCxnSpPr/>
          <p:nvPr/>
        </p:nvCxnSpPr>
        <p:spPr>
          <a:xfrm>
            <a:off x="323640" y="5157360"/>
            <a:ext cx="22932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01" name="Text Box 13"/>
          <p:cNvSpPr/>
          <p:nvPr/>
        </p:nvSpPr>
        <p:spPr>
          <a:xfrm>
            <a:off x="7654680" y="-33840"/>
            <a:ext cx="89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  <a:ea typeface="Arial Unicode MS"/>
              </a:rPr>
              <a:t>Sec. 6.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2" name="AutoShape 14"/>
          <p:cNvCxnSpPr/>
          <p:nvPr/>
        </p:nvCxnSpPr>
        <p:spPr>
          <a:xfrm>
            <a:off x="5363640" y="6237360"/>
            <a:ext cx="2293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Text Box 2"/>
          <p:cNvSpPr/>
          <p:nvPr/>
        </p:nvSpPr>
        <p:spPr>
          <a:xfrm>
            <a:off x="457200" y="274680"/>
            <a:ext cx="814716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2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осинусы для векторов, нормализованных по дли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Text Box 3"/>
          <p:cNvSpPr/>
          <p:nvPr/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lnSpc>
                <a:spcPct val="124000"/>
              </a:lnSpc>
              <a:spcAft>
                <a:spcPts val="1426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Если вектора уже нормализованы по длин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о косинус вычисляетс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24000"/>
              </a:lnSpc>
              <a:spcAft>
                <a:spcPts val="1426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24000"/>
              </a:lnSpc>
              <a:spcAft>
                <a:spcPts val="1426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24000"/>
              </a:lnSpc>
              <a:spcAft>
                <a:spcPts val="1426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ля нормализованных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q, 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Text Box 4"/>
          <p:cNvSpPr/>
          <p:nvPr/>
        </p:nvSpPr>
        <p:spPr>
          <a:xfrm>
            <a:off x="655308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4790F858-0F63-4F69-B6AE-2CA83E367880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6" name="Object 5"/>
              <p:cNvSpPr txBox="1"/>
              <p:nvPr/>
            </p:nvSpPr>
            <p:spPr>
              <a:xfrm>
                <a:off x="1547640" y="3500280"/>
                <a:ext cx="53294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q</m:t>
                        </m:r>
                      </m:e>
                    </m:acc>
                    <m:r>
                      <m:t xml:space="preserve">,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d</m:t>
                        </m:r>
                      </m:e>
                    </m:acc>
                    <m:r>
                      <m:t xml:space="preserve">)</m:t>
                    </m:r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q</m:t>
                        </m:r>
                      </m:e>
                    </m:acc>
                    <m:r>
                      <m:t xml:space="preserve">·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d</m:t>
                        </m:r>
                      </m:e>
                    </m:acc>
                    <m:r>
                      <m:t xml:space="preserve">=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7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ычисление сходст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Text Box 3"/>
          <p:cNvSpPr/>
          <p:nvPr/>
        </p:nvSpPr>
        <p:spPr>
          <a:xfrm>
            <a:off x="228600" y="1052640"/>
            <a:ext cx="8447040" cy="56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lvl="1" marL="743040" indent="-28440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Рассмотрим документы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D1, D2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и запрос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lnSpc>
                <a:spcPct val="100000"/>
              </a:lnSpc>
              <a:spcBef>
                <a:spcPts val="488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D1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= (0.5, 0.8, 0.3),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D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= (0.9, 0.4, 0.2),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= (1.5, 1.0,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Picture 4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6153120" cy="330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арианты вес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457200" y="1125360"/>
            <a:ext cx="829152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азовый – это сколько раз слово встретилось в документе (count)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огарифмирование cou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ормализация первого сомножител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) tf/tf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</a:rPr>
              <a:t>max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ли (</a:t>
            </a:r>
            <a:r>
              <a:rPr b="0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+ (1-</a:t>
            </a:r>
            <a:r>
              <a:rPr b="0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 tf/tf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</a:rPr>
              <a:t>max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) tf/|d|, где |d| - количество слов в документе (вариант, описанный в Википеди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2" name="Object 2"/>
              <p:cNvSpPr txBox="1"/>
              <p:nvPr/>
            </p:nvSpPr>
            <p:spPr>
              <a:xfrm>
                <a:off x="971640" y="2852640"/>
                <a:ext cx="578952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sSub>
                          <m:e/>
                          <m:sub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r>
                              <m:t xml:space="preserve">d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tf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d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×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</m:sSub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r>
                          <m:t xml:space="preserve">N</m:t>
                        </m:r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f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213840" y="104400"/>
            <a:ext cx="822348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ka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 BM2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Text Box 3"/>
          <p:cNvSpPr/>
          <p:nvPr/>
        </p:nvSpPr>
        <p:spPr>
          <a:xfrm>
            <a:off x="138240" y="981000"/>
            <a:ext cx="8681760" cy="64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BM – best mat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f 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q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частота слова в запрос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араметр, контролирующий частоту термина в запрос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Нет нормализации запроса по длин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оскольку поиск делается для фиксированного запрос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араметры нужно настраивать на коллек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Если оптимизация не выполнялась, то в экспериментах получено, что величин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должны иметь значени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 промежутке [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.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],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 = 0.7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Slide Number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A7F51-C6B0-411E-8D75-2220B9EE95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6" name="Picture 6" descr="1131.png"/>
          <p:cNvPicPr/>
          <p:nvPr/>
        </p:nvPicPr>
        <p:blipFill>
          <a:blip r:embed="rId1"/>
          <a:stretch/>
        </p:blipFill>
        <p:spPr>
          <a:xfrm>
            <a:off x="684360" y="1628640"/>
            <a:ext cx="8024760" cy="82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Text Box 2"/>
          <p:cNvSpPr/>
          <p:nvPr/>
        </p:nvSpPr>
        <p:spPr>
          <a:xfrm>
            <a:off x="457200" y="274680"/>
            <a:ext cx="822816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2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Варианты для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f-id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8" name="Group 3"/>
          <p:cNvGrpSpPr/>
          <p:nvPr/>
        </p:nvGrpSpPr>
        <p:grpSpPr>
          <a:xfrm>
            <a:off x="103320" y="1592280"/>
            <a:ext cx="8886600" cy="2749680"/>
            <a:chOff x="103320" y="1592280"/>
            <a:chExt cx="8886600" cy="2749680"/>
          </a:xfrm>
        </p:grpSpPr>
        <p:pic>
          <p:nvPicPr>
            <p:cNvPr id="619" name="Picture 4" descr=""/>
            <p:cNvPicPr/>
            <p:nvPr/>
          </p:nvPicPr>
          <p:blipFill>
            <a:blip r:embed="rId1"/>
            <a:stretch/>
          </p:blipFill>
          <p:spPr>
            <a:xfrm>
              <a:off x="103320" y="1592280"/>
              <a:ext cx="8886600" cy="274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Text Box 5"/>
            <p:cNvSpPr/>
            <p:nvPr/>
          </p:nvSpPr>
          <p:spPr>
            <a:xfrm>
              <a:off x="103320" y="1592280"/>
              <a:ext cx="8886600" cy="274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1" name="Rectangle 6"/>
          <p:cNvSpPr/>
          <p:nvPr/>
        </p:nvSpPr>
        <p:spPr>
          <a:xfrm>
            <a:off x="152280" y="1905120"/>
            <a:ext cx="7772400" cy="380880"/>
          </a:xfrm>
          <a:prstGeom prst="rect">
            <a:avLst/>
          </a:prstGeom>
          <a:solidFill>
            <a:srgbClr val="00cc99">
              <a:alpha val="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7"/>
          <p:cNvSpPr/>
          <p:nvPr/>
        </p:nvSpPr>
        <p:spPr>
          <a:xfrm>
            <a:off x="272520" y="5105520"/>
            <a:ext cx="803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Введены сокращения для различных схем вычис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Text Box 9"/>
          <p:cNvSpPr/>
          <p:nvPr/>
        </p:nvSpPr>
        <p:spPr>
          <a:xfrm>
            <a:off x="7654680" y="-33840"/>
            <a:ext cx="89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  <a:ea typeface="Arial Unicode MS"/>
              </a:rPr>
              <a:t>Sec. 6.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Text Box 2"/>
          <p:cNvSpPr/>
          <p:nvPr/>
        </p:nvSpPr>
        <p:spPr>
          <a:xfrm>
            <a:off x="457200" y="-36360"/>
            <a:ext cx="8228160" cy="14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2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Схема весов может различаться в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з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апросах и документа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Text Box 3"/>
          <p:cNvSpPr/>
          <p:nvPr/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lnSpc>
                <a:spcPct val="124000"/>
              </a:lnSpc>
              <a:spcAft>
                <a:spcPts val="1426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ногие поисковые системы позволяют использовать различное взвешивание для запросов и докумен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24000"/>
              </a:lnSpc>
              <a:spcAft>
                <a:spcPts val="1426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SMART </a:t>
            </a: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нотация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: </a:t>
            </a: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обозначает реальную комбинацию весов, которая используется в системе: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c00000"/>
                </a:solidFill>
                <a:latin typeface="Calibri"/>
              </a:rPr>
              <a:t>ddd.qqq,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где 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using the acronyms from the previous 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24000"/>
              </a:lnSpc>
              <a:spcAft>
                <a:spcPts val="1426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андартная схема взвешивания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lnc.l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24000"/>
              </a:lnSpc>
              <a:spcAft>
                <a:spcPts val="901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кумент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огарифимический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tf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l в первом столбце)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т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idf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косинусная нормализ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24000"/>
              </a:lnSpc>
              <a:spcAft>
                <a:spcPts val="1426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Запрос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: </a:t>
            </a: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логарифимический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 tf</a:t>
            </a: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 idf</a:t>
            </a: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 (t во втором столбце), 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Косинусная нормализация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Text Box 5"/>
          <p:cNvSpPr/>
          <p:nvPr/>
        </p:nvSpPr>
        <p:spPr>
          <a:xfrm>
            <a:off x="7654680" y="-33840"/>
            <a:ext cx="89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  <a:ea typeface="Arial Unicode MS"/>
              </a:rPr>
              <a:t>Sec. 6.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Text Box 2"/>
          <p:cNvSpPr/>
          <p:nvPr/>
        </p:nvSpPr>
        <p:spPr>
          <a:xfrm>
            <a:off x="457200" y="274680"/>
            <a:ext cx="822816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2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Заключе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Text Box 3"/>
          <p:cNvSpPr/>
          <p:nvPr/>
        </p:nvSpPr>
        <p:spPr>
          <a:xfrm>
            <a:off x="179280" y="836640"/>
            <a:ext cx="8583840" cy="579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едставление запроса как взвешенного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f-idf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екто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Представление документа как взвешенного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 tf-idf </a:t>
            </a: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векто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числение косинусной меры между вектором запроса и вектором документа – вес для ранжир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нжирование документов по мере снижения ве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дача первых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e.g.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10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документов пользовател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!!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Векторная модель может использоваться для сопоставления документов, фрагментов документов, предложе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457200" y="274680"/>
            <a:ext cx="822816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2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Ответы к запрос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468360" y="1125360"/>
            <a:ext cx="8294760" cy="55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lnSpc>
                <a:spcPct val="124000"/>
              </a:lnSpc>
              <a:spcAft>
                <a:spcPts val="1426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tony and Cleopatra, Act III, Scene 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24000"/>
              </a:lnSpc>
              <a:spcAft>
                <a:spcPts val="1426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Agrippa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[Aside to DOMITIUS ENOBARBUS]: Why, Enobarbu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24000"/>
              </a:lnSpc>
              <a:spcAft>
                <a:spcPts val="1426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hen Antony found Julius 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Caesar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dead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24000"/>
              </a:lnSpc>
              <a:spcAft>
                <a:spcPts val="1426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e cried almost to roaring; and he we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24000"/>
              </a:lnSpc>
              <a:spcAft>
                <a:spcPts val="1426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hen at Philippi he found 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Brutu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sla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24000"/>
              </a:lnSpc>
              <a:spcAft>
                <a:spcPts val="1426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24000"/>
              </a:lnSpc>
              <a:spcAft>
                <a:spcPts val="1426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mlet, Act III, Scene 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24000"/>
              </a:lnSpc>
              <a:spcAft>
                <a:spcPts val="1426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Lord Polonius: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I did enact Julius 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Caesar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I was killed i' t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24000"/>
              </a:lnSpc>
              <a:spcAft>
                <a:spcPts val="1426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apitol; 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Brutu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killed 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655308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1EDA9D19-C462-4BFB-B8E1-B70A441B979B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7654680" y="-33840"/>
            <a:ext cx="89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  <a:ea typeface="Arial Unicode MS"/>
              </a:rPr>
              <a:t>Sec. 1.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6" descr=""/>
          <p:cNvPicPr/>
          <p:nvPr/>
        </p:nvPicPr>
        <p:blipFill>
          <a:blip r:embed="rId1"/>
          <a:stretch/>
        </p:blipFill>
        <p:spPr>
          <a:xfrm>
            <a:off x="6762600" y="3962520"/>
            <a:ext cx="1974960" cy="252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Задание на дом (след.раз)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0" name=""/>
          <p:cNvGraphicFramePr/>
          <p:nvPr/>
        </p:nvGraphicFramePr>
        <p:xfrm>
          <a:off x="457200" y="1600200"/>
          <a:ext cx="8229600" cy="4651200"/>
        </p:xfrm>
        <a:graphic>
          <a:graphicData uri="http://schemas.openxmlformats.org/drawingml/2006/table">
            <a:tbl>
              <a:tblPr/>
              <a:tblGrid>
                <a:gridCol w="1371600"/>
                <a:gridCol w="1371600"/>
                <a:gridCol w="1371600"/>
                <a:gridCol w="1371600"/>
                <a:gridCol w="1371600"/>
                <a:gridCol w="1371600"/>
              </a:tblGrid>
              <a:tr h="90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r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d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16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6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2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0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u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n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24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6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23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Задача-продолже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213840" y="1142640"/>
            <a:ext cx="87505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Запро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 insur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ычислить вес каждого докумен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едставить запрос как векто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едставить документ как векто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числить сходство  запроса и докумен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f – число вхожд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Idf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ктор документа нормализуется, вектор запроса не нормализуе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казать, какие веса у документов по отношению к запросу и как упорядочатся докумен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дание на дом (на 2 недели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 txBox="1"/>
          <p:nvPr/>
        </p:nvSpPr>
        <p:spPr>
          <a:xfrm>
            <a:off x="456840" y="1125000"/>
            <a:ext cx="843588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просы – это проанализированные вами факты из Википед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ллекция – это все упомянутые статьи из всех фактов (не менее 2 из каждого факта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кументы – это предложения из статей Википедии, указанных в этих фактах, т.е. объединенная коллекция  предложений статей всех фак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се должно быть обработано морфологическим анализатор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ужно найти наиболее релевантные предложе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 векторной модели без id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 tf.idf (idf в данном случае – это количество предложений, в которых встречалось  слово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ормализация запроса и предлож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.е. выстроить все предложения из статей по мере сходства с запросом по векторной модел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отчете должны быть показаны веса выдаваемых предложе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Задача в аудитор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 txBox="1"/>
          <p:nvPr/>
        </p:nvSpPr>
        <p:spPr>
          <a:xfrm>
            <a:off x="457200" y="1268280"/>
            <a:ext cx="829152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прос к поисковой системе состоит из двух слов: a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коллекции имеются следующие документ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b c 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a 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b 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a b b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ругих документов в коллекции нет. Покажите, как будет вычислено сходство между запросом и документом по косинусной мере без учета idf. Каков порядок документов в поисковой выдач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Большие коллекц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197000"/>
            <a:ext cx="8229600" cy="53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ллекция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1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иллион документо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ждый документ – около 100 сл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пример,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500K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дельных терм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атрица терм – документ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00K x 1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нимала бы сверхбольшие объе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чень разрежен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Поэтому другая форма представл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Slide Number Placeholder 5"/>
          <p:cNvSpPr/>
          <p:nvPr/>
        </p:nvSpPr>
        <p:spPr>
          <a:xfrm>
            <a:off x="655308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C401D-6E3C-4F14-9C37-21E7F89968BB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4"/>
          <p:cNvSpPr/>
          <p:nvPr/>
        </p:nvSpPr>
        <p:spPr>
          <a:xfrm>
            <a:off x="7655040" y="-33120"/>
            <a:ext cx="89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  <a:ea typeface="Arial Unicode MS"/>
              </a:rPr>
              <a:t>Sec. 1.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2"/>
          <p:cNvSpPr/>
          <p:nvPr/>
        </p:nvSpPr>
        <p:spPr>
          <a:xfrm>
            <a:off x="457200" y="274680"/>
            <a:ext cx="822816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2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Матрица терм-докумен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Group 3"/>
          <p:cNvGrpSpPr/>
          <p:nvPr/>
        </p:nvGrpSpPr>
        <p:grpSpPr>
          <a:xfrm>
            <a:off x="762120" y="2235240"/>
            <a:ext cx="7634160" cy="2633760"/>
            <a:chOff x="762120" y="2235240"/>
            <a:chExt cx="7634160" cy="2633760"/>
          </a:xfrm>
        </p:grpSpPr>
        <p:graphicFrame>
          <p:nvGraphicFramePr>
            <p:cNvPr id="69" name="Object 2"/>
            <p:cNvGraphicFramePr/>
            <p:nvPr/>
          </p:nvGraphicFramePr>
          <p:xfrm>
            <a:off x="762120" y="2235240"/>
            <a:ext cx="7634160" cy="2633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70" name="Object 2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762120" y="2235240"/>
                      <a:ext cx="7634160" cy="2633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1" name="Text Box 5"/>
            <p:cNvSpPr/>
            <p:nvPr/>
          </p:nvSpPr>
          <p:spPr>
            <a:xfrm>
              <a:off x="762120" y="2235240"/>
              <a:ext cx="7634160" cy="263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" name="Text Box 6"/>
          <p:cNvSpPr/>
          <p:nvPr/>
        </p:nvSpPr>
        <p:spPr>
          <a:xfrm>
            <a:off x="5638680" y="5568840"/>
            <a:ext cx="28195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 Unicode MS"/>
              </a:rPr>
              <a:t>1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 Unicode MS"/>
              </a:rPr>
              <a:t>если текст содержит слово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 Unicode MS"/>
              </a:rPr>
              <a:t>, 0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 Unicode MS"/>
              </a:rPr>
              <a:t>если не содержи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7"/>
          <p:cNvSpPr/>
          <p:nvPr/>
        </p:nvSpPr>
        <p:spPr>
          <a:xfrm flipH="1" flipV="1">
            <a:off x="4265280" y="3731760"/>
            <a:ext cx="1374840" cy="1832040"/>
          </a:xfrm>
          <a:prstGeom prst="line">
            <a:avLst/>
          </a:prstGeom>
          <a:ln w="1908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8"/>
          <p:cNvSpPr/>
          <p:nvPr/>
        </p:nvSpPr>
        <p:spPr>
          <a:xfrm>
            <a:off x="762120" y="5715000"/>
            <a:ext cx="39780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Brutus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AND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Caesar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BUT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NOT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Calpurn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9"/>
          <p:cNvSpPr/>
          <p:nvPr/>
        </p:nvSpPr>
        <p:spPr>
          <a:xfrm>
            <a:off x="7654680" y="-33840"/>
            <a:ext cx="89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  <a:ea typeface="Arial Unicode MS"/>
              </a:rPr>
              <a:t>Sec. 1.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Инвертированный индек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395280" y="907560"/>
            <a:ext cx="8291520" cy="564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ля каждого терм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нужно хранить список документов, которые содержа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ждый документ идентифицируется номером документа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oc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Slide Number Placeholder 5"/>
          <p:cNvSpPr/>
          <p:nvPr/>
        </p:nvSpPr>
        <p:spPr>
          <a:xfrm>
            <a:off x="655308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34B49-4412-4B48-AF14-B664E9B4D493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4"/>
          <p:cNvSpPr/>
          <p:nvPr/>
        </p:nvSpPr>
        <p:spPr>
          <a:xfrm>
            <a:off x="401040" y="3733920"/>
            <a:ext cx="11361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Brut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394560" y="4791240"/>
            <a:ext cx="15872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Calpurn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6"/>
          <p:cNvSpPr/>
          <p:nvPr/>
        </p:nvSpPr>
        <p:spPr>
          <a:xfrm>
            <a:off x="380880" y="4267080"/>
            <a:ext cx="12956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Caes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7"/>
          <p:cNvSpPr/>
          <p:nvPr/>
        </p:nvSpPr>
        <p:spPr>
          <a:xfrm>
            <a:off x="2057400" y="3809880"/>
            <a:ext cx="1143000" cy="22860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8"/>
          <p:cNvSpPr/>
          <p:nvPr/>
        </p:nvSpPr>
        <p:spPr>
          <a:xfrm>
            <a:off x="2057400" y="4343400"/>
            <a:ext cx="1143000" cy="22860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Group 26"/>
          <p:cNvGrpSpPr/>
          <p:nvPr/>
        </p:nvGrpSpPr>
        <p:grpSpPr>
          <a:xfrm>
            <a:off x="3276720" y="4876920"/>
            <a:ext cx="4876560" cy="304560"/>
            <a:chOff x="3276720" y="4876920"/>
            <a:chExt cx="4876560" cy="304560"/>
          </a:xfrm>
        </p:grpSpPr>
        <p:sp>
          <p:nvSpPr>
            <p:cNvPr id="85" name="Rectangle 27"/>
            <p:cNvSpPr/>
            <p:nvPr/>
          </p:nvSpPr>
          <p:spPr>
            <a:xfrm>
              <a:off x="3276720" y="4876920"/>
              <a:ext cx="4876560" cy="3045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Rectangle 28"/>
            <p:cNvSpPr/>
            <p:nvPr/>
          </p:nvSpPr>
          <p:spPr>
            <a:xfrm>
              <a:off x="3886200" y="4876920"/>
              <a:ext cx="365760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Rectangle 29"/>
            <p:cNvSpPr/>
            <p:nvPr/>
          </p:nvSpPr>
          <p:spPr>
            <a:xfrm>
              <a:off x="4495680" y="4876920"/>
              <a:ext cx="243864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Rectangle 30"/>
            <p:cNvSpPr/>
            <p:nvPr/>
          </p:nvSpPr>
          <p:spPr>
            <a:xfrm>
              <a:off x="5105520" y="4876920"/>
              <a:ext cx="121896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Line 31"/>
            <p:cNvSpPr/>
            <p:nvPr/>
          </p:nvSpPr>
          <p:spPr>
            <a:xfrm>
              <a:off x="5715000" y="48769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Group 51"/>
          <p:cNvGrpSpPr/>
          <p:nvPr/>
        </p:nvGrpSpPr>
        <p:grpSpPr>
          <a:xfrm>
            <a:off x="3276720" y="4267080"/>
            <a:ext cx="4925880" cy="459720"/>
            <a:chOff x="3276720" y="4267080"/>
            <a:chExt cx="4925880" cy="459720"/>
          </a:xfrm>
        </p:grpSpPr>
        <p:grpSp>
          <p:nvGrpSpPr>
            <p:cNvPr id="91" name="Group 20"/>
            <p:cNvGrpSpPr/>
            <p:nvPr/>
          </p:nvGrpSpPr>
          <p:grpSpPr>
            <a:xfrm>
              <a:off x="3276720" y="4343400"/>
              <a:ext cx="4876560" cy="304920"/>
              <a:chOff x="3276720" y="4343400"/>
              <a:chExt cx="4876560" cy="304920"/>
            </a:xfrm>
          </p:grpSpPr>
          <p:sp>
            <p:nvSpPr>
              <p:cNvPr id="92" name="Rectangle 21"/>
              <p:cNvSpPr/>
              <p:nvPr/>
            </p:nvSpPr>
            <p:spPr>
              <a:xfrm>
                <a:off x="3276720" y="4343400"/>
                <a:ext cx="4876560" cy="304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Rectangle 22"/>
              <p:cNvSpPr/>
              <p:nvPr/>
            </p:nvSpPr>
            <p:spPr>
              <a:xfrm>
                <a:off x="3886200" y="4343400"/>
                <a:ext cx="365760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Rectangle 23"/>
              <p:cNvSpPr/>
              <p:nvPr/>
            </p:nvSpPr>
            <p:spPr>
              <a:xfrm>
                <a:off x="4495680" y="4343400"/>
                <a:ext cx="243864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Rectangle 24"/>
              <p:cNvSpPr/>
              <p:nvPr/>
            </p:nvSpPr>
            <p:spPr>
              <a:xfrm>
                <a:off x="5105520" y="4343400"/>
                <a:ext cx="121896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Line 25"/>
              <p:cNvSpPr/>
              <p:nvPr/>
            </p:nvSpPr>
            <p:spPr>
              <a:xfrm>
                <a:off x="5715000" y="434340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7" name="Text Box 32"/>
            <p:cNvSpPr/>
            <p:nvPr/>
          </p:nvSpPr>
          <p:spPr>
            <a:xfrm>
              <a:off x="3412800" y="42670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Text Box 33"/>
            <p:cNvSpPr/>
            <p:nvPr/>
          </p:nvSpPr>
          <p:spPr>
            <a:xfrm>
              <a:off x="4098600" y="42670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Text Box 34"/>
            <p:cNvSpPr/>
            <p:nvPr/>
          </p:nvSpPr>
          <p:spPr>
            <a:xfrm>
              <a:off x="4687560" y="42670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Text Box 35"/>
            <p:cNvSpPr/>
            <p:nvPr/>
          </p:nvSpPr>
          <p:spPr>
            <a:xfrm>
              <a:off x="5257440" y="42670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Text Box 36"/>
            <p:cNvSpPr/>
            <p:nvPr/>
          </p:nvSpPr>
          <p:spPr>
            <a:xfrm>
              <a:off x="5830560" y="42670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Text Box 37"/>
            <p:cNvSpPr/>
            <p:nvPr/>
          </p:nvSpPr>
          <p:spPr>
            <a:xfrm>
              <a:off x="6450840" y="4267080"/>
              <a:ext cx="52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1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Text Box 38"/>
            <p:cNvSpPr/>
            <p:nvPr/>
          </p:nvSpPr>
          <p:spPr>
            <a:xfrm>
              <a:off x="7033680" y="4267080"/>
              <a:ext cx="52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5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Text Box 39"/>
            <p:cNvSpPr/>
            <p:nvPr/>
          </p:nvSpPr>
          <p:spPr>
            <a:xfrm>
              <a:off x="7500600" y="4267080"/>
              <a:ext cx="70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13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Group 52"/>
          <p:cNvGrpSpPr/>
          <p:nvPr/>
        </p:nvGrpSpPr>
        <p:grpSpPr>
          <a:xfrm>
            <a:off x="3276720" y="3560760"/>
            <a:ext cx="4443120" cy="482760"/>
            <a:chOff x="3276720" y="3560760"/>
            <a:chExt cx="4443120" cy="482760"/>
          </a:xfrm>
        </p:grpSpPr>
        <p:grpSp>
          <p:nvGrpSpPr>
            <p:cNvPr id="106" name="Group 19"/>
            <p:cNvGrpSpPr/>
            <p:nvPr/>
          </p:nvGrpSpPr>
          <p:grpSpPr>
            <a:xfrm>
              <a:off x="3276720" y="3560760"/>
              <a:ext cx="4267080" cy="482760"/>
              <a:chOff x="3276720" y="3560760"/>
              <a:chExt cx="4267080" cy="482760"/>
            </a:xfrm>
          </p:grpSpPr>
          <p:sp>
            <p:nvSpPr>
              <p:cNvPr id="107" name="Rectangle 11"/>
              <p:cNvSpPr/>
              <p:nvPr/>
            </p:nvSpPr>
            <p:spPr>
              <a:xfrm>
                <a:off x="3276720" y="3560760"/>
                <a:ext cx="209520" cy="4827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Rectangle 13"/>
              <p:cNvSpPr/>
              <p:nvPr/>
            </p:nvSpPr>
            <p:spPr>
              <a:xfrm>
                <a:off x="3886200" y="3568680"/>
                <a:ext cx="3657600" cy="466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Rectangle 15"/>
              <p:cNvSpPr/>
              <p:nvPr/>
            </p:nvSpPr>
            <p:spPr>
              <a:xfrm>
                <a:off x="4495680" y="3568680"/>
                <a:ext cx="2438640" cy="466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Rectangle 16"/>
              <p:cNvSpPr/>
              <p:nvPr/>
            </p:nvSpPr>
            <p:spPr>
              <a:xfrm>
                <a:off x="5105520" y="3568680"/>
                <a:ext cx="1218960" cy="466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Line 18"/>
              <p:cNvSpPr/>
              <p:nvPr/>
            </p:nvSpPr>
            <p:spPr>
              <a:xfrm>
                <a:off x="5715000" y="364968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2" name="Text Box 40"/>
            <p:cNvSpPr/>
            <p:nvPr/>
          </p:nvSpPr>
          <p:spPr>
            <a:xfrm>
              <a:off x="3428640" y="357336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Text Box 41"/>
            <p:cNvSpPr/>
            <p:nvPr/>
          </p:nvSpPr>
          <p:spPr>
            <a:xfrm>
              <a:off x="3989160" y="357336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Text Box 42"/>
            <p:cNvSpPr/>
            <p:nvPr/>
          </p:nvSpPr>
          <p:spPr>
            <a:xfrm>
              <a:off x="4647960" y="357336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Text Box 43"/>
            <p:cNvSpPr/>
            <p:nvPr/>
          </p:nvSpPr>
          <p:spPr>
            <a:xfrm>
              <a:off x="5179680" y="3573360"/>
              <a:ext cx="52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1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Text Box 44"/>
            <p:cNvSpPr/>
            <p:nvPr/>
          </p:nvSpPr>
          <p:spPr>
            <a:xfrm>
              <a:off x="5816160" y="3573360"/>
              <a:ext cx="52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3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Text Box 45"/>
            <p:cNvSpPr/>
            <p:nvPr/>
          </p:nvSpPr>
          <p:spPr>
            <a:xfrm>
              <a:off x="6425640" y="3573360"/>
              <a:ext cx="52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4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Text Box 46"/>
            <p:cNvSpPr/>
            <p:nvPr/>
          </p:nvSpPr>
          <p:spPr>
            <a:xfrm>
              <a:off x="6854040" y="3573360"/>
              <a:ext cx="70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17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Text Box 47"/>
            <p:cNvSpPr/>
            <p:nvPr/>
          </p:nvSpPr>
          <p:spPr>
            <a:xfrm>
              <a:off x="7535880" y="357336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Text Box 48"/>
          <p:cNvSpPr/>
          <p:nvPr/>
        </p:nvSpPr>
        <p:spPr>
          <a:xfrm>
            <a:off x="3288960" y="48006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49"/>
          <p:cNvSpPr/>
          <p:nvPr/>
        </p:nvSpPr>
        <p:spPr>
          <a:xfrm>
            <a:off x="2057400" y="4876920"/>
            <a:ext cx="1143000" cy="22860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50"/>
          <p:cNvSpPr/>
          <p:nvPr/>
        </p:nvSpPr>
        <p:spPr>
          <a:xfrm>
            <a:off x="3918960" y="480060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49"/>
          <p:cNvSpPr/>
          <p:nvPr/>
        </p:nvSpPr>
        <p:spPr>
          <a:xfrm>
            <a:off x="7655040" y="-33120"/>
            <a:ext cx="89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  <a:ea typeface="Arial Unicode MS"/>
              </a:rPr>
              <a:t>Sec. 1.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46"/>
          <p:cNvSpPr/>
          <p:nvPr/>
        </p:nvSpPr>
        <p:spPr>
          <a:xfrm>
            <a:off x="7500600" y="3733920"/>
            <a:ext cx="70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17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50"/>
          <p:cNvSpPr/>
          <p:nvPr/>
        </p:nvSpPr>
        <p:spPr>
          <a:xfrm>
            <a:off x="4629960" y="480060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5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50"/>
          <p:cNvSpPr/>
          <p:nvPr/>
        </p:nvSpPr>
        <p:spPr>
          <a:xfrm>
            <a:off x="5062320" y="4800600"/>
            <a:ext cx="70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1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Group 54"/>
          <p:cNvGrpSpPr/>
          <p:nvPr/>
        </p:nvGrpSpPr>
        <p:grpSpPr>
          <a:xfrm>
            <a:off x="75240" y="3971880"/>
            <a:ext cx="1757880" cy="2401200"/>
            <a:chOff x="75240" y="3971880"/>
            <a:chExt cx="1757880" cy="2401200"/>
          </a:xfrm>
        </p:grpSpPr>
        <p:sp>
          <p:nvSpPr>
            <p:cNvPr id="128" name="AutoShape 46"/>
            <p:cNvSpPr/>
            <p:nvPr/>
          </p:nvSpPr>
          <p:spPr>
            <a:xfrm>
              <a:off x="304920" y="3971880"/>
              <a:ext cx="228600" cy="1523880"/>
            </a:xfrm>
            <a:custGeom>
              <a:avLst/>
              <a:gdLst>
                <a:gd name="textAreaLeft" fmla="*/ 146160 w 228600"/>
                <a:gd name="textAreaRight" fmla="*/ 228960 w 228600"/>
                <a:gd name="textAreaTop" fmla="*/ 39600 h 1523880"/>
                <a:gd name="textAreaBottom" fmla="*/ 1484280 h 1523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Text Box 47"/>
            <p:cNvSpPr/>
            <p:nvPr/>
          </p:nvSpPr>
          <p:spPr>
            <a:xfrm>
              <a:off x="460800" y="5913360"/>
              <a:ext cx="1372320" cy="459720"/>
            </a:xfrm>
            <a:prstGeom prst="rect">
              <a:avLst/>
            </a:prstGeom>
            <a:solidFill>
              <a:srgbClr val="d6ec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400" spc="-1" strike="noStrike">
                  <a:solidFill>
                    <a:srgbClr val="000000"/>
                  </a:solidFill>
                  <a:latin typeface="Tahoma"/>
                  <a:ea typeface="Arial Unicode MS"/>
                </a:rPr>
                <a:t>Словар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30" name="AutoShape 48"/>
            <p:cNvCxnSpPr>
              <a:stCxn id="129" idx="1"/>
              <a:endCxn id="128" idx="1"/>
            </p:cNvCxnSpPr>
            <p:nvPr/>
          </p:nvCxnSpPr>
          <p:spPr>
            <a:xfrm rot="10800000">
              <a:off x="304200" y="4733280"/>
              <a:ext cx="137160" cy="1411920"/>
            </a:xfrm>
            <a:prstGeom prst="curvedConnector5">
              <a:avLst>
                <a:gd name="adj1" fmla="val 267368"/>
                <a:gd name="adj2" fmla="val 49987"/>
                <a:gd name="adj3" fmla="val 26736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31" name="Group 53"/>
          <p:cNvGrpSpPr/>
          <p:nvPr/>
        </p:nvGrpSpPr>
        <p:grpSpPr>
          <a:xfrm>
            <a:off x="3657600" y="5495400"/>
            <a:ext cx="5333760" cy="801360"/>
            <a:chOff x="3657600" y="5495400"/>
            <a:chExt cx="5333760" cy="801360"/>
          </a:xfrm>
        </p:grpSpPr>
        <p:sp>
          <p:nvSpPr>
            <p:cNvPr id="132" name="AutoShape 51"/>
            <p:cNvSpPr/>
            <p:nvPr/>
          </p:nvSpPr>
          <p:spPr>
            <a:xfrm rot="16200000">
              <a:off x="6152760" y="2999880"/>
              <a:ext cx="343080" cy="5333760"/>
            </a:xfrm>
            <a:custGeom>
              <a:avLst/>
              <a:gdLst>
                <a:gd name="textAreaLeft" fmla="*/ 219240 w 343080"/>
                <a:gd name="textAreaRight" fmla="*/ 343440 w 343080"/>
                <a:gd name="textAreaTop" fmla="*/ 138960 h 5333760"/>
                <a:gd name="textAreaBottom" fmla="*/ 5194800 h 5333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Text Box 52"/>
            <p:cNvSpPr/>
            <p:nvPr/>
          </p:nvSpPr>
          <p:spPr>
            <a:xfrm>
              <a:off x="5563800" y="5837040"/>
              <a:ext cx="1642320" cy="459720"/>
            </a:xfrm>
            <a:prstGeom prst="rect">
              <a:avLst/>
            </a:prstGeom>
            <a:solidFill>
              <a:srgbClr val="83ad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400" spc="-1" strike="noStrike">
                  <a:solidFill>
                    <a:srgbClr val="000000"/>
                  </a:solidFill>
                  <a:latin typeface="Tahoma"/>
                  <a:ea typeface="Arial Unicode MS"/>
                </a:rPr>
                <a:t>Постинг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Text Box 55"/>
          <p:cNvSpPr/>
          <p:nvPr/>
        </p:nvSpPr>
        <p:spPr>
          <a:xfrm>
            <a:off x="3132000" y="6308640"/>
            <a:ext cx="321804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Сортировка по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 doc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1"/>
          <p:cNvSpPr/>
          <p:nvPr/>
        </p:nvSpPr>
        <p:spPr>
          <a:xfrm>
            <a:off x="457200" y="0"/>
            <a:ext cx="822960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Инвертированный индек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2"/>
          <p:cNvSpPr/>
          <p:nvPr/>
        </p:nvSpPr>
        <p:spPr>
          <a:xfrm>
            <a:off x="395280" y="907920"/>
            <a:ext cx="8291520" cy="56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ля каждого терм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 нужно хранить список документов, которые содержат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Каждый документ идентифицируется номером документа -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doc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3"/>
          <p:cNvSpPr/>
          <p:nvPr/>
        </p:nvSpPr>
        <p:spPr>
          <a:xfrm>
            <a:off x="655308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96520-16B1-4888-A138-42039EB5F168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4"/>
          <p:cNvSpPr/>
          <p:nvPr/>
        </p:nvSpPr>
        <p:spPr>
          <a:xfrm>
            <a:off x="401760" y="3733920"/>
            <a:ext cx="11361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Brut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5"/>
          <p:cNvSpPr/>
          <p:nvPr/>
        </p:nvSpPr>
        <p:spPr>
          <a:xfrm>
            <a:off x="395280" y="4791240"/>
            <a:ext cx="15872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Calpurn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6"/>
          <p:cNvSpPr/>
          <p:nvPr/>
        </p:nvSpPr>
        <p:spPr>
          <a:xfrm>
            <a:off x="380880" y="4267080"/>
            <a:ext cx="12956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Caes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7"/>
          <p:cNvSpPr/>
          <p:nvPr/>
        </p:nvSpPr>
        <p:spPr>
          <a:xfrm>
            <a:off x="2057400" y="3809880"/>
            <a:ext cx="1143000" cy="22860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8"/>
          <p:cNvSpPr/>
          <p:nvPr/>
        </p:nvSpPr>
        <p:spPr>
          <a:xfrm>
            <a:off x="2057400" y="4343400"/>
            <a:ext cx="1143000" cy="22860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Group 9"/>
          <p:cNvGrpSpPr/>
          <p:nvPr/>
        </p:nvGrpSpPr>
        <p:grpSpPr>
          <a:xfrm>
            <a:off x="3276720" y="4876920"/>
            <a:ext cx="4875120" cy="303120"/>
            <a:chOff x="3276720" y="4876920"/>
            <a:chExt cx="4875120" cy="303120"/>
          </a:xfrm>
        </p:grpSpPr>
        <p:sp>
          <p:nvSpPr>
            <p:cNvPr id="144" name="Rectangle 10"/>
            <p:cNvSpPr/>
            <p:nvPr/>
          </p:nvSpPr>
          <p:spPr>
            <a:xfrm>
              <a:off x="3276720" y="4876920"/>
              <a:ext cx="4875120" cy="3031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Rectangle 11"/>
            <p:cNvSpPr/>
            <p:nvPr/>
          </p:nvSpPr>
          <p:spPr>
            <a:xfrm>
              <a:off x="3886200" y="4876920"/>
              <a:ext cx="3656160" cy="303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Rectangle 12"/>
            <p:cNvSpPr/>
            <p:nvPr/>
          </p:nvSpPr>
          <p:spPr>
            <a:xfrm>
              <a:off x="4495680" y="4876920"/>
              <a:ext cx="2436840" cy="303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Rectangle 13"/>
            <p:cNvSpPr/>
            <p:nvPr/>
          </p:nvSpPr>
          <p:spPr>
            <a:xfrm>
              <a:off x="5105520" y="4876920"/>
              <a:ext cx="1217520" cy="303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14"/>
            <p:cNvSpPr/>
            <p:nvPr/>
          </p:nvSpPr>
          <p:spPr>
            <a:xfrm>
              <a:off x="5715000" y="4876920"/>
              <a:ext cx="0" cy="303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Group 15"/>
          <p:cNvGrpSpPr/>
          <p:nvPr/>
        </p:nvGrpSpPr>
        <p:grpSpPr>
          <a:xfrm>
            <a:off x="3276720" y="4267080"/>
            <a:ext cx="4924440" cy="459720"/>
            <a:chOff x="3276720" y="4267080"/>
            <a:chExt cx="4924440" cy="459720"/>
          </a:xfrm>
        </p:grpSpPr>
        <p:grpSp>
          <p:nvGrpSpPr>
            <p:cNvPr id="150" name="Group 16"/>
            <p:cNvGrpSpPr/>
            <p:nvPr/>
          </p:nvGrpSpPr>
          <p:grpSpPr>
            <a:xfrm>
              <a:off x="3276720" y="4343400"/>
              <a:ext cx="4873680" cy="303120"/>
              <a:chOff x="3276720" y="4343400"/>
              <a:chExt cx="4873680" cy="303120"/>
            </a:xfrm>
          </p:grpSpPr>
          <p:sp>
            <p:nvSpPr>
              <p:cNvPr id="151" name="Rectangle 17"/>
              <p:cNvSpPr/>
              <p:nvPr/>
            </p:nvSpPr>
            <p:spPr>
              <a:xfrm>
                <a:off x="3276720" y="4343400"/>
                <a:ext cx="4873680" cy="3031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Rectangle 18"/>
              <p:cNvSpPr/>
              <p:nvPr/>
            </p:nvSpPr>
            <p:spPr>
              <a:xfrm>
                <a:off x="3885840" y="4343400"/>
                <a:ext cx="3655080" cy="303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Rectangle 19"/>
              <p:cNvSpPr/>
              <p:nvPr/>
            </p:nvSpPr>
            <p:spPr>
              <a:xfrm>
                <a:off x="4494960" y="4343400"/>
                <a:ext cx="2436120" cy="303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Rectangle 20"/>
              <p:cNvSpPr/>
              <p:nvPr/>
            </p:nvSpPr>
            <p:spPr>
              <a:xfrm>
                <a:off x="5104800" y="4343400"/>
                <a:ext cx="1217160" cy="303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Line 21"/>
              <p:cNvSpPr/>
              <p:nvPr/>
            </p:nvSpPr>
            <p:spPr>
              <a:xfrm>
                <a:off x="5713920" y="4343400"/>
                <a:ext cx="0" cy="303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6" name="Text Box 22"/>
            <p:cNvSpPr/>
            <p:nvPr/>
          </p:nvSpPr>
          <p:spPr>
            <a:xfrm>
              <a:off x="3411360" y="42670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Text Box 23"/>
            <p:cNvSpPr/>
            <p:nvPr/>
          </p:nvSpPr>
          <p:spPr>
            <a:xfrm>
              <a:off x="4097160" y="42670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Text Box 24"/>
            <p:cNvSpPr/>
            <p:nvPr/>
          </p:nvSpPr>
          <p:spPr>
            <a:xfrm>
              <a:off x="4685760" y="42670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Text Box 25"/>
            <p:cNvSpPr/>
            <p:nvPr/>
          </p:nvSpPr>
          <p:spPr>
            <a:xfrm>
              <a:off x="5255640" y="42670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Text Box 26"/>
            <p:cNvSpPr/>
            <p:nvPr/>
          </p:nvSpPr>
          <p:spPr>
            <a:xfrm>
              <a:off x="5828400" y="42670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Text Box 27"/>
            <p:cNvSpPr/>
            <p:nvPr/>
          </p:nvSpPr>
          <p:spPr>
            <a:xfrm>
              <a:off x="6449040" y="4267080"/>
              <a:ext cx="52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1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Text Box 28"/>
            <p:cNvSpPr/>
            <p:nvPr/>
          </p:nvSpPr>
          <p:spPr>
            <a:xfrm>
              <a:off x="7031160" y="4267080"/>
              <a:ext cx="52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5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Text Box 29"/>
            <p:cNvSpPr/>
            <p:nvPr/>
          </p:nvSpPr>
          <p:spPr>
            <a:xfrm>
              <a:off x="7499160" y="4267080"/>
              <a:ext cx="70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13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Group 30"/>
          <p:cNvGrpSpPr/>
          <p:nvPr/>
        </p:nvGrpSpPr>
        <p:grpSpPr>
          <a:xfrm>
            <a:off x="3276720" y="3560760"/>
            <a:ext cx="4441680" cy="480960"/>
            <a:chOff x="3276720" y="3560760"/>
            <a:chExt cx="4441680" cy="480960"/>
          </a:xfrm>
        </p:grpSpPr>
        <p:grpSp>
          <p:nvGrpSpPr>
            <p:cNvPr id="165" name="Group 31"/>
            <p:cNvGrpSpPr/>
            <p:nvPr/>
          </p:nvGrpSpPr>
          <p:grpSpPr>
            <a:xfrm>
              <a:off x="3276720" y="3560760"/>
              <a:ext cx="4265640" cy="480960"/>
              <a:chOff x="3276720" y="3560760"/>
              <a:chExt cx="4265640" cy="480960"/>
            </a:xfrm>
          </p:grpSpPr>
          <p:sp>
            <p:nvSpPr>
              <p:cNvPr id="166" name="Rectangle 32"/>
              <p:cNvSpPr/>
              <p:nvPr/>
            </p:nvSpPr>
            <p:spPr>
              <a:xfrm>
                <a:off x="3276720" y="3560760"/>
                <a:ext cx="207720" cy="480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Rectangle 33"/>
              <p:cNvSpPr/>
              <p:nvPr/>
            </p:nvSpPr>
            <p:spPr>
              <a:xfrm>
                <a:off x="3886200" y="3568680"/>
                <a:ext cx="3656160" cy="465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Rectangle 34"/>
              <p:cNvSpPr/>
              <p:nvPr/>
            </p:nvSpPr>
            <p:spPr>
              <a:xfrm>
                <a:off x="4495680" y="3568680"/>
                <a:ext cx="2436840" cy="465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Rectangle 35"/>
              <p:cNvSpPr/>
              <p:nvPr/>
            </p:nvSpPr>
            <p:spPr>
              <a:xfrm>
                <a:off x="5105520" y="3568680"/>
                <a:ext cx="1217520" cy="465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Line 36"/>
              <p:cNvSpPr/>
              <p:nvPr/>
            </p:nvSpPr>
            <p:spPr>
              <a:xfrm>
                <a:off x="5715000" y="3649680"/>
                <a:ext cx="0" cy="303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1" name="Text Box 37"/>
            <p:cNvSpPr/>
            <p:nvPr/>
          </p:nvSpPr>
          <p:spPr>
            <a:xfrm>
              <a:off x="3427920" y="357336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Text Box 38"/>
            <p:cNvSpPr/>
            <p:nvPr/>
          </p:nvSpPr>
          <p:spPr>
            <a:xfrm>
              <a:off x="3988080" y="357336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Text Box 39"/>
            <p:cNvSpPr/>
            <p:nvPr/>
          </p:nvSpPr>
          <p:spPr>
            <a:xfrm>
              <a:off x="4646880" y="357336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Text Box 40"/>
            <p:cNvSpPr/>
            <p:nvPr/>
          </p:nvSpPr>
          <p:spPr>
            <a:xfrm>
              <a:off x="5178600" y="3573360"/>
              <a:ext cx="52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1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Text Box 41"/>
            <p:cNvSpPr/>
            <p:nvPr/>
          </p:nvSpPr>
          <p:spPr>
            <a:xfrm>
              <a:off x="5815080" y="3573360"/>
              <a:ext cx="52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3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Text Box 42"/>
            <p:cNvSpPr/>
            <p:nvPr/>
          </p:nvSpPr>
          <p:spPr>
            <a:xfrm>
              <a:off x="6424920" y="3573360"/>
              <a:ext cx="52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4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Text Box 43"/>
            <p:cNvSpPr/>
            <p:nvPr/>
          </p:nvSpPr>
          <p:spPr>
            <a:xfrm>
              <a:off x="6852960" y="3573360"/>
              <a:ext cx="70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Sans"/>
                  <a:ea typeface="Arial Unicode MS"/>
                </a:rPr>
                <a:t>17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Text Box 44"/>
            <p:cNvSpPr/>
            <p:nvPr/>
          </p:nvSpPr>
          <p:spPr>
            <a:xfrm>
              <a:off x="7535880" y="3573360"/>
              <a:ext cx="18252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Text Box 45"/>
          <p:cNvSpPr/>
          <p:nvPr/>
        </p:nvSpPr>
        <p:spPr>
          <a:xfrm>
            <a:off x="3288960" y="48006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AutoShape 46"/>
          <p:cNvSpPr/>
          <p:nvPr/>
        </p:nvSpPr>
        <p:spPr>
          <a:xfrm>
            <a:off x="2057400" y="4876920"/>
            <a:ext cx="1143000" cy="22860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47"/>
          <p:cNvSpPr/>
          <p:nvPr/>
        </p:nvSpPr>
        <p:spPr>
          <a:xfrm>
            <a:off x="3918960" y="480060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48"/>
          <p:cNvSpPr/>
          <p:nvPr/>
        </p:nvSpPr>
        <p:spPr>
          <a:xfrm>
            <a:off x="2057400" y="5562720"/>
            <a:ext cx="5334120" cy="825480"/>
          </a:xfrm>
          <a:prstGeom prst="rect">
            <a:avLst/>
          </a:prstGeom>
          <a:solidFill>
            <a:srgbClr val="4f81b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Добавление слова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Caesar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к документу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 14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49"/>
          <p:cNvSpPr/>
          <p:nvPr/>
        </p:nvSpPr>
        <p:spPr>
          <a:xfrm>
            <a:off x="7654680" y="-33840"/>
            <a:ext cx="89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  <a:ea typeface="Arial Unicode MS"/>
              </a:rPr>
              <a:t>Sec. 1.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50"/>
          <p:cNvSpPr/>
          <p:nvPr/>
        </p:nvSpPr>
        <p:spPr>
          <a:xfrm>
            <a:off x="7501320" y="3733920"/>
            <a:ext cx="70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17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51"/>
          <p:cNvSpPr/>
          <p:nvPr/>
        </p:nvSpPr>
        <p:spPr>
          <a:xfrm>
            <a:off x="4629960" y="480060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5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52"/>
          <p:cNvSpPr/>
          <p:nvPr/>
        </p:nvSpPr>
        <p:spPr>
          <a:xfrm>
            <a:off x="5063040" y="4800600"/>
            <a:ext cx="70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1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04T12:37:58Z</dcterms:created>
  <dc:creator>louk</dc:creator>
  <dc:description/>
  <dc:language>en-US</dc:language>
  <cp:lastModifiedBy>louk</cp:lastModifiedBy>
  <dcterms:modified xsi:type="dcterms:W3CDTF">2018-11-23T14:11:57Z</dcterms:modified>
  <cp:revision>52</cp:revision>
  <dc:subject/>
  <dc:title>Слайд 1</dc:title>
</cp:coreProperties>
</file>