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7AB6-1363-45E5-A81B-8482601AD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6CCE-4B70-43C1-BE07-BA619FB1B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формы здесь не учит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9CC-010F-4AE8-8AE9-3A80D1435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ЧЕСКИЙ АНАЛИЗ устанавливает (направленные) связи между вариантами лексической единицы и ее инвариа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нтификатор инварианта лексической единицы здесь условно записывается в фигурных скобк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Варианты_лексической_единицы_ представляют собой комбин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ариант + грамматическая фор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грамматическая форма (=идентификатор варианта) представляет собой набор грамматических значений (что можно записать, например, как «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.+Ед.+2», «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s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sg,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C80-4398-415C-B234-D942E9ABA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ЧЕСКИЙ СИНТЕЗ устанавливает обратную связ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инварианта лексической единицы к ее вари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A785-4D68-4DA1-B8DD-151BCC0D3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ые модификации анализа и синте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анализа – лемматизация (синоним – нормализация, особ. в И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применения – информационный поиск; поддержка входа в электронные слова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FBD4-0480-4405-9E89-0A1F5CD64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словарный анализ» или «анализ по аналогии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ссловарный анализ» применим в ситуации полного отсутствия словаря лексических единиц, термин «анализ по аналогии» описывает анализ слов, которые не вошли в существующий словар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анализа по аналогии (Н.Н.Леонтье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АТЬ – слово с парадигмой КРОВАТЬ, КРУЙ, КРУЙТЕ, КРУЮ .. (как ПИРОВ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ак бессловарный, так и по аналогии) позволяют выделять грамматические значения или леммы (начальные формы), но каждая лексема при этом идентифицируется как новая. Отсюда: нет перехода к последующим уровням обработки, которые опираются на лексические значения. Возможно переходить к обработке, опирающейся только на грамматические значения: (построение синтаксических схем предложения без включения лексических значе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7FDC-B33B-47A4-998B-6B2DE91A0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ценарий типизации для русских прилагательных в началь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я типовых парадигм (морфологических типов) условные, через «ТП»+ ном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лонные прилагательные, воплощающие парадигмы под номе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новый, 2-синий, длинношеий, 3-редкий, 4-свежий, 5-вьющийся, 6-куцый, 7-живой, 8-сухой, 20-папин, 21-дедов, зятев, 24-рыб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бора между ТП4 и ТП24, ТП2 и ТП24 необходима дополнительная информация, которую можно получить в диалоге с пользователем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амками этой процедуры остаются прилагательные (и местоименные прилагательные), относящиеся к закрытым (непополняемым новыми словами) парадигм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ий, этот, тот, один, сам, сей, весь, наш/ваш, кой/никой, мой/твой/свой, чей/ничей, фомин/ильин, господ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м случае на входе может быть не начальная форма, может быть неизвестна часть речи… (т.е. здесь – сценарий процедуры для узкой сферы применения). Тогда требуется «предсказание», т.е. морфологический анализ несловарного слова (что включает в себя в качестве побочного результата типизаци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2072-FE34-420A-B1DE-5FCB826F4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терминология АОТ: предсказание по «хвостам» (здесь: предсказание по концов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EF9-6545-4C10-9364-6925D2A2C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поры на готовый список префик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ограничения не дают разобра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нституционализиров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аналогии с существительны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к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нституционализир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 не дают разобра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лассотерап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9547-2B6C-44B7-8553-209E40A19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терминология АОТ: предсказание по «хвостам» (здесь: предсказание по концов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фровка анкодов – см. файл rgramtab.tab (входит в комплект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phwiz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алгоритма для любой формы слова демонстрируются модул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от количественных параметр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, 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увидеть с помощь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wiz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хот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рабо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тические варианты морфологического анализа, результат рабо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wizard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тические варианты тип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E601-E98A-426F-8D38-013DA7E6E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л не является однозначным граничным показ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dybym był młodszy (Если бы я был моложе); Bardzobym tego pragnął (Я очень бы этого хотел), гд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" + 1 л.ед.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и другие показатели, которые конкурируют с пробелом в функции разделителя, причем так же неоднозна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х решений нет; нужно систематизировать все возможные случаи и предусматривать их в алгоритмах. Хорошо, если удастся в базе данных, чтобы пользоваться единым алгоритмо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чебнике Леонтьевой приблизительно соответствует графематическому анализу. Графематический анализ включает также обработку точки, выделение оборотов, выделение кандидатов в имена собственные, а также операции, которые требуются только при обработке простейших текстовых файлов, не имеющих разметки, обычной в современных текстовых редакторах, – операции контроля абзацев и перечис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847B-3F89-4E03-A436-88E676312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содержательная часть – снятие неоднозначностей (исправление ошиб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46C-F582-49D7-A2F3-F5BC70764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текст: относительно развитая словоизменительная морфология позволяет комбинировать сегментацию текста на слова с морфологическим анализом: невозможность продолжения распознанной основы допустимыми для нее аффиксами сигнализирует о конце словоформы в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8C7-3B42-48A1-BD4C-B70E5D19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D59-5CD4-4F48-AE70-4865925E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98B7-A095-4024-A50F-61D7FD49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1CC-8A57-4DC3-B881-976C3E1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B74-6F0C-4519-BF97-16B29F8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2E6-542B-44CC-AA2A-40D23AA1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144-E280-4E9B-8838-C951FD0F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C16-8D9A-4F58-8491-BEF1888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B40-753F-4B51-96EF-2AF72BC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1DF-0181-43E0-9D1D-91D5BF8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2DA-E2B9-43DD-8319-D6313DB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10A-4318-4B4A-805A-3668FE3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9219-BEB4-4308-8BD1-70DD2CB04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nowball.tartarus.org/algorithms/russian/stemmer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aot.ru/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s://miem.hse.ru/clschool/the_boo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company.yandex.ru/technology/mystem" TargetMode="External"/><Relationship Id="rId2" Type="http://schemas.openxmlformats.org/officeDocument/2006/relationships/hyperlink" Target="https://pymorphy2.readthedocs.org/en/latest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000" y="1785960"/>
            <a:ext cx="8400960" cy="18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Графематический и морфологический анализ тек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7030a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рактически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е должно содержать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е должно начинаться с заглавной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я (из списка) требуют «особого вним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, тыс., млн., ул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ьные большие буквы: А.Б. Ива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Операции со словам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из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одного и того ж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м есть регулярные правила в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Лесной, лесная, лесного…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ие нов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Лес, лесник, лесниче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формационном поиске очень важно уметь определять формы одного и того же слова (словоизмен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24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Морфологически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142640"/>
            <a:ext cx="842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ий анализ текста осуществляет приведение словоформ, встречающихся в тексте, к нормальному (словарному) виду и определяет морфологические характеристики слово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ьная форма (=словарная форма=лемма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ительные, прилаг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.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.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жско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: инфини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ная процедура: лемматизация (=восстановление нормальной фор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ая процедура: морфологический 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89000"/>
            <a:ext cx="86439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Морфологические характеристики словоформ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43040"/>
            <a:ext cx="84247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существительн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падежей * 2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прилагательно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падежей * 2 числа (в ед.ч. 3 род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4 краткие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степени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го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опр.ф. + личные формы изъяв.накл. + повел.накл. + прич. + деепр.) * 2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изменяемые части реч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Обработка словоформы: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фологически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557360"/>
          <a:ext cx="6318360" cy="5149800"/>
        </p:xfrm>
        <a:graphic>
          <a:graphicData uri="http://schemas.openxmlformats.org/drawingml/2006/table">
            <a:tbl>
              <a:tblPr/>
              <a:tblGrid>
                <a:gridCol w="1889280"/>
                <a:gridCol w="4429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Неопр.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1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2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3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Прош. вр. + Ед.ч. + М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Прош. вр. + Ед.ч. + Ж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Порождение словоформы: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фологический 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1616040"/>
          <a:ext cx="8501040" cy="4425840"/>
        </p:xfrm>
        <a:graphic>
          <a:graphicData uri="http://schemas.openxmlformats.org/drawingml/2006/table">
            <a:tbl>
              <a:tblPr/>
              <a:tblGrid>
                <a:gridCol w="4494240"/>
                <a:gridCol w="4006800"/>
              </a:tblGrid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опр.ф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т. вр. + Ед.ч. + 1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ю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т. вр. + Ед.ч. + 2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ш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т. вр. + Ед.ч. + 3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д. вр. + Ед.ч. + 1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ю, буду исследов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д. вр. + Ед.ч. + 2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шь , будешь исследов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д. вр. + Ед.ч. + 3 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т, будет исследов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ош. вр. + Ед.ч. + М р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ош. вр. + Ед.ч. + Ж р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tIns="43200" bIns="432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орфологический анализ и леммат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428840"/>
          <a:ext cx="4038480" cy="5364000"/>
        </p:xfrm>
        <a:graphic>
          <a:graphicData uri="http://schemas.openxmlformats.org/drawingml/2006/table">
            <a:tbl>
              <a:tblPr/>
              <a:tblGrid>
                <a:gridCol w="1584360"/>
                <a:gridCol w="2454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Неопр.ф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1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2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Наст., Буд. вр. + Ед.ч. + 3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Прош. вр. + Ед.ч. + М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+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Прош. вр. + Ед.ч. + Ж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643280" y="1500120"/>
          <a:ext cx="4038840" cy="5315040"/>
        </p:xfrm>
        <a:graphic>
          <a:graphicData uri="http://schemas.openxmlformats.org/drawingml/2006/table">
            <a:tbl>
              <a:tblPr/>
              <a:tblGrid>
                <a:gridCol w="1584360"/>
                <a:gridCol w="24544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ш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Точнее: типы морфологическ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мматизация – приведение к нормальной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ой, лесного, лесному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а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цующая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ц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мминг –выделение  псевдо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ной, лесного, лес, лесистый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, системный, систематизировать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Методы морфологическ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329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ловарем слово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9068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 словоформе поставлена в соответствие основа или ле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ловарем ос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ловарный (фактически – со словарем псевдооконча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анализ по аналогии («предсказание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Стемминг: 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Алгоритм Портера </a:t>
            </a:r>
            <a:r>
              <a:rPr b="0" lang="en-US" sz="3600" spc="-1" strike="noStrike">
                <a:solidFill>
                  <a:srgbClr val="7030a0"/>
                </a:solidFill>
                <a:latin typeface="Comic Sans MS"/>
              </a:rPr>
              <a:t>Snow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nowball.tartarus.org/algorithms/russian/stemm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служеб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юзы, предлоги, наречия, час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стальных слов отделяются псевдооконч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ммеры были созданы для распространенных индоевропейских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Графематический 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 текста на слова, раздел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 устойчивых оборотов, не имеющих словоизменительных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 д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языка слова (русский, нерус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формата написания слова (прописные, строчные букв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Анализ алгоритмом Пор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7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тивоестеств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фрагмент слова после гласн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ивоестеств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а остаться хотя бы одна гла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рагмент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ются заданные списки оконч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скольких вариантах выбирается наиболее длинное окон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Окончание прилагательных в алгоритме Пор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е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е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е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и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ми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й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й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й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м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о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у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m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k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х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k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ю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ю (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u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я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я (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a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ю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ю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Словарные морф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643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ловарь Зализня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8258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рамматический словарь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– Андрей Анатольевич Зализняк (с 1997 г. академик Р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тыс. входов - основа большинства компьютерных морфологий 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обилестроения – 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 – кр. Форма для финанс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– п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стар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уют нов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Фрагмент страницы словаря А.А.Зализня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1360" y="1500120"/>
            <a:ext cx="872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хема морфологического анализа со слова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15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еслужебных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ь возможные окончания слова длиной от 0 до 3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олученного окончания определить код окончания по таблице окончаний и номер флективного класса по словарю основ (ле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омер флективного класса и номер окончания найдены, то проверить их согласованность по морфологической таб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огласованность подтверждается, то сохранить данный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Процедура определения типовой парадиг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щий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ы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ё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2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ц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щ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4 или ТП 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2 или ТП 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щ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лово оканчивае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П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Морфологический анализ на базе словаря: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ют максимально полный анализ слово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реальных текстах дают сбои (опечатки, уникаль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уществует абсолютно полных словарей – лексика языка непрерывно пополн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мера – невозможно включить в словарь всю существующую терминологию, имена, фамили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02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Морфологический анализ слов, отсутствующих в слов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Предсказание в морфологическом анали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альное назначение предсказания – морфологический анализ слов (словоформ), отсутствующих в слов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редсказания – выявление аналогий со словоформами, распознаваемыми имеющимся слова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егментация текста на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ke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иальные возмо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фографии данного языка предусмотрены пробелы между слов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фографии данного языка нет пробелов или иных разделителей между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Алгоритм предсказания для новы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казание префикс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казание по концовке, взятой из известных словоф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редсказание по префик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ытка найти существующую словоформу языка, которая максимально совпадала бы справа со входным сло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левая часть (потенциальный префикс) не длинне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авая часть (совпавшая с известной словоформой) не короч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слово разбирается по образцу известной слово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вро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хнолог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пе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ь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Предсказание по концовке известной слово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яются инвертированные концовки известных словоформа – дли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ь бук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оставляются с морфологическими характеристи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анием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«ср. род, ед. ч., тв. пад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ая строка заносится в исходный лексикон, если она встреч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конкурентов в пределах одной 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предусматривается разбор именем существительным, хотя бы неизменяе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роблема морфологической омони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завод привез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кл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сл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кл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 медведь, шагая к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ын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родажу меду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ынк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друг на мишку - вот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па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ы вздумали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па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шка с армией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ался вырванной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ин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г ли в ярость он н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па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сли осы лезли в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алили куда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пал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м за это и 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пал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реш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иды морфологической неоднозначности (=омоним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днозначность по леммам: косой,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важная для информационного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днозначность по частям речи: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днозначность по грамматическим характеристикам (падеж, число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очень часто неоднозначность именитель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и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остморфологически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предсинта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назначен для устранения морфологической омонимии (многозначности)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правильной ле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морфологических характери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методы, прежде всего, на основе морфологически размеченного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Примеры правил постморфологического 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признаков служебных частей речи для однобуквенных слов, за которыми следуют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омонимов слова «уже», соответствующих прилагательным, если за ним не стоит запятая или слово в родительном пад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ение омонимов слова «сорока», если после слова следует числительное (сорок  п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предлогов: удаление у слова, следующего за предлогом, всех омонимов, не соответствующих падежам, которыми обычно управляет данный 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2060280"/>
            <a:ext cx="828684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Статистические методы и морфологическая разметка корп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Морфологическая разм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еречная разметка, морфологическая разметка (грамматическая разметк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о морфологических (грамматических) характеристиках словоформ текста, включаемая в электронное представление этого текста (в виде тег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дура добавления такой информации в электронное представление текста (как правило, частично или – редко – полностью автоматизирован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Теги морфологической разметки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 в Нац. корпусе  русского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corpor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 — мужской род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ботник, ст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 — женский род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ботница, табуре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m-f — «общий род»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дира, пья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 — средний род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вотное, озе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егментация на слова 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текста с пробе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яющие факто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менты текста между пробелами требуют перера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31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ас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ис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железная дорога; с разбе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31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hols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mich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формы могут разделяться не только пробе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3128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cc"/>
                </a:solidFill>
                <a:latin typeface="Arial"/>
              </a:rPr>
              <a:t>наконец-</a:t>
            </a: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9999"/>
                </a:solidFill>
                <a:latin typeface="Arial"/>
              </a:rPr>
              <a:t>кто-то, во-первых, по-мое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62160" indent="-31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the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400" spc="-1" strike="noStrike">
                <a:solidFill>
                  <a:srgbClr val="ccccff"/>
                </a:solidFill>
                <a:latin typeface="Arial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is</a:t>
            </a:r>
            <a:r>
              <a:rPr b="0" i="1" lang="en-US" sz="2400" spc="-1" strike="noStrike">
                <a:solidFill>
                  <a:srgbClr val="ccccff"/>
                </a:solidFill>
                <a:latin typeface="Arial"/>
              </a:rPr>
              <a:t>n’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iend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and/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vs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ac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ccccff"/>
                </a:solidFill>
                <a:latin typeface="Arial"/>
              </a:rPr>
              <a:t>re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Падежи в морфологической разм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om — имен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лова, сын, степь, сани, котор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gen — род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ловы, сына, степи, сан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dat — да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лове, сыну, степи, саня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dat2 — дистрибутивный дательный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[по] многу, нескольку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cc — вин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лову, сына, степь, са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ns — твор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ловой, сыном, степью, санями, котор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loc — предлож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[о] голове, сыне, степи, санях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gen2 — второй род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ашк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ча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cc2 — второй винитель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стричься в 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нах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; по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челове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loc2 — второй предложный падеж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есу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и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voc — звательная форма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Господи, Серёж, ребя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dnum — счётная форма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в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часа́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тр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шара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mic Sans MS"/>
              </a:rPr>
              <a:t>Фрагмент морфологической разметки в Национальном корпусе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идел на барском сиденье, дышал горячим ветром, бившим в лицо, ощущая в то же время не истребимую никакими сквозняками пыль и легкий запах духов -- катафалк с хорошей скоростью мчался по шоссе на юг. (Ю. Трифон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s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я=S,ед,од=им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сидеть=V,несов=изъяв,прош,ед,муж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на=PR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с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барский=A=ед,сред,пр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ен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сиденье=S,сред,неод=ед,пр}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ш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дышать=V,несов=изъяв,прош,ед,муж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ч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горячий=A=ед,муж,твор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ветер=S,муж,неод=ед,твор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бивш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бить=V,несов=прич,прош,ед,муж,твор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в=PR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лицо=S,сред,неод=ед,вин}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ощу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ощущать=V=несов,деепр,непрош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в=PR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тот=A=ед,сред,вин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же=PART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время=S,сред,неод=ед,вин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не=PART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ребим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истребимый=A=ед,жен,вин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ак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никакой=A=мн,твор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возня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сквозняк=S,муж,неод=мн,твор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пыль=S,жен,неод,ед=вин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и=CONJ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г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легкий=A=ед,муж,вин,неод}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{запах=S,муж,неод=ед,вин}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Процедура морфологической разм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фологический анализ всех словоформ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неоднозначностей (или исправление ошиб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ление информации о результатах в электронное представление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крытые марковские модели как метод снятия омонимии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я о марковском характере зависимости (модель первого порядк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стречаемость каждого тега в определенном месте цепочки зависит только от предыдущего те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о, какое слово находится в том или ином месте цепочки, полностью определяется тегом (а не, допустим, соседними слова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я – морфологические те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ги – помечены вероятностями перехода от текущего тега к следую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– наблюдаемые реализации т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крытые марковские модели как метод снятия омонимии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Морфологические процессоры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ОТ (Диалинг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ot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ловаря, не поддерж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Ta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стический анализатор на основе размеченного корп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Morphy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рный, словарь про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tem (Ya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ow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м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0" y="876240"/>
            <a:ext cx="8686800" cy="5792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оект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Open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836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равнительные характеристики морф. анал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35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и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орфологическому анализу и др. вопросам автоматической обрабо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miem.hse.ru/clschool/the_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а 2. Морфологический анализ 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Сегментация текста без пробелов между слов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324160" y="1438200"/>
            <a:ext cx="5398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. Срок - не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ить морфологический анализат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any.yandex.ru/technology/m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morphy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ymorphy2.readthedocs.org/en/late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 текст (литературное произведение), обработать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частотные списки ле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ать по мере снижения част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Разбиение текста на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аксический анализ (парсе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атического рефер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ный пер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лечение терминов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поиск: оператор поиска слов внутри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: текст, разбитый на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«Наивная» сегментация</a:t>
            </a:r>
            <a:r>
              <a:rPr b="0" lang="de-DE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знакам препи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склицательный и вопросительный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«Наивная» сегментация</a:t>
            </a:r>
            <a:r>
              <a:rPr b="0" lang="de-DE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знакам препи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склицательный и вопросительный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этим первый интервал пробегов был принят равным 350...700 тыс. км (середина интервала - 525 тыс. км), второй интервал -- 700...1050 тыс. км (середина интервала - 875 тыс. км) и третий интервал 1050...1400 тыс. км (середина интервала -- 1225 тыс. к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omic Sans MS"/>
              </a:rPr>
              <a:t>«Наивная» сегментация</a:t>
            </a:r>
            <a:r>
              <a:rPr b="0" lang="de-DE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знакам препин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склицательный и вопросительный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тический кризис в Сирии представляет опасность для ближневосточного региона и всего мира. Такое мнение высказал спецпосланник ООН и Лиги арабских государств (ЛАГ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. Брах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ередает Re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3:05Z</dcterms:created>
  <dc:creator>boris</dc:creator>
  <dc:description/>
  <dc:language>en-US</dc:language>
  <cp:lastModifiedBy>ggg</cp:lastModifiedBy>
  <dcterms:modified xsi:type="dcterms:W3CDTF">2018-12-01T19:15:07Z</dcterms:modified>
  <cp:revision>125</cp:revision>
  <dc:subject/>
  <dc:title>02-01- Морфологический анализ</dc:title>
</cp:coreProperties>
</file>