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A713-61E9-47AB-8C13-B5E4895C10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0602-C00D-4363-9D3C-2249FE9FD5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B2F5-48B4-4924-9273-00A42FA811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F67B-4608-41D5-979A-7F923CD1A2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92C1-3D82-40ED-B2B7-B1D63D0668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405C-0711-4F40-ABDF-D2ACFFD9EA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A987-651E-4C7F-97FA-2897CBD6CB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09A3-C054-4F4B-A8E5-2089023698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EABE-389A-4B68-82A6-6310D49E26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AE74-2F07-4976-969C-32FBCC3C3F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64D7-561C-4A70-A1AE-6F52C719AC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7B89-F416-4630-8F50-3132604009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C845-5DE2-4123-A2EE-356068E1F2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32AF-24E2-4D32-8DB1-F7F6EB692C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99A9-EB65-409E-98F0-32DEAB011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391E-F7B6-4A02-B07B-4EFDD070EC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FCDD-4B6A-42E7-9B2A-8A9DE87F5C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329B-7BF6-4014-B331-DAB2555CA5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1BE1-9D6A-49B4-8876-6BB9D783C1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4EFB-4532-4C70-8C37-156C2C6DD8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478B-9891-4562-A79C-4448311701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0BB7-D740-461C-BB6C-B2AA070EFD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BB00-B805-47F7-BAB5-CCCD054243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4314-DC92-437F-9443-2D638563F1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1C6D-5AD0-44BC-924B-A21775072A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B844-9544-42E3-911E-778AFA3391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6FB6-6F3C-46E2-840F-13D2648A71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C82C-3AAE-4A58-8056-F0A8E6F19A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6942-1611-4CF8-B477-9D75AC94C9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4984-D86C-40CA-B5A5-FA7459D75C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473B-7C50-43DB-9885-DF0ECBE638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D685-F5D9-49F4-B212-5F77B032F4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C45B-D1EB-47BA-B972-10F48D6C64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C329-9BBE-42A4-8B57-13FDAD2AF0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905B-92EE-452C-A801-C7D3746364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F311-44A5-4C71-8BC0-B0B77EE2C3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49B2-367E-4ABF-B39B-4689036D1B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0344-D5D9-4C62-B9B4-D2AE554A10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D560-1D6C-47EF-8242-5DB05F8536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AC7F-0BED-4969-8173-4800C78B9B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9F03-3B42-4DDA-9E34-C83AA383EB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8763-E5CC-4EFA-9995-BE293F7FDD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415B-4034-4C11-86B7-D26748F9E0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AB4C-3B23-4AA4-819F-95D20788A1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DD40-5CAB-4A4B-B286-A3C460D516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EBCB-0B57-4192-B6BA-5B7F169359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8B95-7CE8-4633-A065-DD51022231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ADF6-966B-4837-B9C7-18A1AE4064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9D04-3C62-41BD-8FE0-F8271B2B37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B395-A76E-415A-88B1-7DDF514931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6052-6D50-4BAC-88BB-E9B33137FA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72A-86DF-4EEC-AD47-49385B9F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05E-E408-4D0C-B359-1CA18E4B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CC3-6289-47CF-B1D3-E4CC08CE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789-96C0-4095-B135-9B28AC666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FEE-7D5E-4761-B5D3-419EC60F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D5F4-A79E-4ED5-889D-519AA9AB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F08-A350-48F0-8AFA-4666C793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AA0-48DB-4E83-958B-DA384F08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2E3-4174-4BDA-BAE2-82A10DE7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718E-6930-4EE1-B9F4-95D89342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5F72-06B4-4C9A-B4F3-1B73BBED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F757-D3B2-44B3-841F-6CFDC111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BE6C-BE32-41CD-A2C2-BDBF37556D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91856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engines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исковые машины, информационно-поисковые системы, И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4724280"/>
            <a:ext cx="6296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система1. Процесс индекс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58280" cy="37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цесс индексирования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влечение тек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нтифицирует и сохраняет тексты для индекс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нсформация тек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формирует документы в индексные те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индек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т индексные термы и создает индексы для быстрого по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звлечение текстов. Краул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457200" y="981000"/>
            <a:ext cx="822960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нтифицирует и извлекает документы для поисковой ма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 тип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рияти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-краулеры используют ссылки, чтобы найти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ны найти огромное количество веб-страниц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крытие) и сохранять их в актуально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улеры сай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матические краулеры для вертикального по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улеры документов для поиска по документам предприятия или компью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 ссылки и сканируют дирек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учение текстов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68360" y="981000"/>
            <a:ext cx="8445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д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ки документов в реальном потоке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сти, блоги, видео, ради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анда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лка обеспечивает нов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ы поисковой маш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вер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ртирует форматы в текст плюс мета-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, XML, Word, PDF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др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→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ртирует кодировки для различных яз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в кодиров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F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учение текстов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457200" y="1197000"/>
            <a:ext cx="822960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анилище доку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нит тексты, метаданные и другое содержание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аданные: тип, дата соз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сылки, текст ссы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вает быстрый доступ к содержанию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ждение списка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ое хра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еляционная база данны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31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образование текс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атор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se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атывает последовательность токенов в документе, распознает структурные эле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оловки, ссылки, подзаголовк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окенизатор распознает «слова» в тек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ботка капитализации, кавычек, дефисов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бработка структуры, задаваемо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ML, X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ги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&lt;h2&gt; Overview &lt;/h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сер использует синтаксис языка разметки идентифицировать структуру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образование текстов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68360" y="1052640"/>
            <a:ext cx="82184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п-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ление наиболее частотных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оги, союзы, артикли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быть проблемой для некоторых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мминг (морф. анали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uter”, “computers”, “computing”, “compu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ычно эффективен, но не для всех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ое действие для разных язы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образование текстов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08000" y="907920"/>
            <a:ext cx="89280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ссы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сылки и тексты ссылок (анкор ссылки – якор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ссылок важен для определения популярности сайта и сообщества, связанного с сай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geR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 ссылки может значительно уточнить содержание связанных страниц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ельное влияние на интернет-пои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 значимость в других поисковых прило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образование текстов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57200" y="981000"/>
            <a:ext cx="829152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влечение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нтифицирует семантические классы индексных термов, которые важны для конкретных приложений индек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, распознавание имен людей, географических мест, компаний, да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есение текста к категори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тика, тональность, жанры и др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исит от 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ние инд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5092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истика по докумен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ирает частоты и позиции слов и других призна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в ранжирующем алгорит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ение в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 веса для индексных тер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в алгоритме ранж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f.id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бинирование частоты слова в документе и инверсной подокументной частоты слова в колл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прошлый раз: основные  понят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 информационном поиск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and Information Need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требность пользователя, информационная потреб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vanc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релеван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ценка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3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310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ние индекса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80880" y="14479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вер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образует матрицу документ-терм в данные терм-документ, необходимые  для индекс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о для большого числа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 инвертированного файла – для быстрой обработки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жен обрабатывать изменения инд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жатие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310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здание индекса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5720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 marL="339480" indent="-3380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еделенное хранение инде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152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еделяет индексы по многим компьютерам 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многим дата-цент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152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для быстрой обработки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152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 вариа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0040" indent="-22464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кументное распределенное хранени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еделенное хранение терм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0040" indent="-224640">
              <a:spcBef>
                <a:spcPts val="48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собое направление исследований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istributed IR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распределенный информационный пои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8040"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310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система 2. Обработка запр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286400" cy="40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работка запро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7200" y="1125360"/>
            <a:ext cx="82915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одействие с пользова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держивает создание и уточнение запроса, показ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нж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 запрос и индексы породить ранжированный лист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ка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ниторит и измеряет качество по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362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заимодействие с пользовател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68360" y="1125360"/>
            <a:ext cx="8424720" cy="55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 запр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фейс и парсер для языка запр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инство интернет запросов – про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ык запросов нужен для описания сложных запросов и результатов трансформации запросов (работа т.н. колдунщиков запросо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левские за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зированные языки запросов для информационно-поисковых систем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ri, Gal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одны 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Q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ыками, используемыми в база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310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заимодействие с пользователем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ансформация запр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ает исходный за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ллчек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казка за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ческое расширение запроса – пополнение его дополнительными сло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levance feedb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матизированная технология с участием пользо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тель размечает релевантные 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заимодействие с пользователем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50920" y="1371600"/>
            <a:ext cx="8435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ача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ит поисковую выдачу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ождает сниппеты, чтобы отразить соответствие документа запро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дсвечивает важные с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ывает релевантную рекламу – основной источник прибыли Интернет-поисковых 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ет обеспечивать кластеризацию результатов и другие виды визу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нж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ваивание веса соответствия документа запро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а использует алгоритм ранж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зовый компонент поисковой маш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зовое вычисление вес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i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веса слова запроса и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 вариантов алгоритмов вычисления весов и ранж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нжирование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57200" y="16002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7000"/>
          </a:bodyPr>
          <a:p>
            <a:pPr marL="332640" indent="-33120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тимизация выполнения 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576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жирующие алгоритмы должны позволять эффективное испол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7000" indent="-22032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120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еделенное выпол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576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ботка запросов в распределенной сре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576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рокер запросов рассылает запросы и собирает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576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эш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исковые системы разного уров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Russir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Arial"/>
              </a:rPr>
              <a:t>Курс  </a:t>
            </a: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“Enterprise and Desktop Searc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Arial"/>
              </a:rPr>
              <a:t>(Дмитриев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ый поиск 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овые машины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990720" y="2514600"/>
            <a:ext cx="2644560" cy="35067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леван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ффективное ранжировани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ка ка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стирование и изме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требности пользов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заимодействие с пользова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876920" y="2362320"/>
            <a:ext cx="3429000" cy="40798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65000"/>
              </a:lnSpc>
              <a:spcBef>
                <a:spcPts val="1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ффективный поиск и индексировани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ение новых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крытие и свеж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штабиру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ост с данными и пользова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ап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стройка на при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фические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пример, сп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3809880" y="3352680"/>
            <a:ext cx="976320" cy="486000"/>
          </a:xfrm>
          <a:prstGeom prst="rightArrow">
            <a:avLst>
              <a:gd name="adj1" fmla="val 100000"/>
              <a:gd name="adj2" fmla="val 200888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14400" y="1844640"/>
            <a:ext cx="2833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4000"/>
          </a:bodyPr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ый пои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5410080" y="1844640"/>
            <a:ext cx="20415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8000"/>
          </a:bodyPr>
          <a:p>
            <a:pPr>
              <a:lnSpc>
                <a:spcPct val="65000"/>
              </a:lnSpc>
              <a:spcBef>
                <a:spcPts val="901"/>
              </a:spcBef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овые ма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-387360"/>
            <a:ext cx="9267840" cy="74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рнет-поиск vs. Корпоративный поис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-пои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ет результаты по общедоступному Интерне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а ранжирования ранжирования резуль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ие объ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омадная индустрия – Интернет-рекл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ые исследования: хорошее ка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поративный пои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ирает информацию разных форматов  из совокупности хранили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жирование документов разного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сительно малый объем исслед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уже качество поиска – сложнее проводить сравнительные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ктивная сфера исслед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63600" y="0"/>
            <a:ext cx="8780400" cy="70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66840" y="0"/>
            <a:ext cx="877716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780400" cy="70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79280" y="-163440"/>
            <a:ext cx="877752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108000" y="0"/>
            <a:ext cx="877716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метно-ориентированный поис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Domain-Specific 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метные области пои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ицинский пои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тентный пои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 научных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 по законодатель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 по химическим докумен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иск научной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т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ре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а литературы до интернетовской эпо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таты, которые можно использовать как ссылки в Интернет-поис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е количество ссылок на работу – фактор значимост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комет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310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работ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овых маш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ение запроса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form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рение и улучшение эффективности поис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е времени ответа, увеличение скорости индек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дексы – это структуры данных, которые необходимы, чтобы уменьшить время ответа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ейший вопрос для поисков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чины цитирова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 научной рабо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irmational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зируется на цитируем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ve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таты основополож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ются понятия, 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ive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ение с близкими, но не совпадающими подход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ical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метод, оборудование, инстр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onal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вергает сомн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ализ ссылок в литерату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071360"/>
            <a:ext cx="8400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ссылок на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пакт-фактор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одство работ на основе ссы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работа А цитирует работы В и С, то, возможно, имеется сходство между работами В и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работы В и С цитируют одну и ту же работу А, то возможно есть сходство между этими рабо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таких совпадений много, то связь между работ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стемы поиск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научной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eC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Di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Sch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Xpl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Academic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2"/>
          <p:cNvSpPr/>
          <p:nvPr/>
        </p:nvSpPr>
        <p:spPr>
          <a:xfrm>
            <a:off x="642960" y="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иск  научных публикаций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.Sch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.Scholar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а анализа ссылок в научных публикац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1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комендуемые исследователю  работы, на основе его последних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1357200"/>
            <a:ext cx="8786880" cy="55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хитектура поисковой маш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система индексирования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система взаимодействия с пользователем и поиска документов на за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исковые системы разного уровня и предметной направл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07552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работ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овых машин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57200" y="1341360"/>
            <a:ext cx="8229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намические да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ллекции» данных для наиболее востребованных приложений постоянно меняются: обновляются, удаляются, пополн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веб-стра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488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ичные меры: покрытие (сколько проиндексировано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овизна 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reshness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колько недавно проиндексирова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одновременно менять индексы и обрабатывать за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работ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овых машин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штабируе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ллионы пользователей и терабайты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распределенная обрабо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ап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561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и настройка компонентов поисковой машины, таких как алгоритм ранжирования, методы индексирования, интерфейсы для различных при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3104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исковый сп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24000" y="1125360"/>
            <a:ext cx="84960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веб поиска одним из важных направлений работы является поисковый сп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о для качества поисковых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 видов сп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ождение текстов похожих на есте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сылочный спам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ая область информационного поис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versarial 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638"/>
              </a:spcBef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меры  -  противники с различными ц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рхитектура поисковых маш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компоненты поисковых маш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подсисте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овой 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система сбора и индексирования доку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система взаимодействия с пользователем для выполнения его запро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54:25Z</dcterms:created>
  <dc:creator>louk</dc:creator>
  <dc:description/>
  <dc:language>en-US</dc:language>
  <cp:lastModifiedBy>boris</cp:lastModifiedBy>
  <dcterms:modified xsi:type="dcterms:W3CDTF">2017-09-07T19:16:55Z</dcterms:modified>
  <cp:revision>23</cp:revision>
  <dc:subject/>
  <dc:title>Search engines Поисковые машины, информационно-поисковые системы, ИПС</dc:title>
</cp:coreProperties>
</file>